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driveby.wav" ContentType="audio/x-wav"/>
  <Override PartName="/ppt/media/image6.wmf" ContentType="image/x-wmf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D48E-C129-49F2-8FE8-1273D21F2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43E-4486-4ECA-854C-5534164C6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76C8-BAEB-4FEA-A94D-060D16E6E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3610-8245-47BF-92C1-23E6335FB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B3222-7FB9-4164-8293-F962D1096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CA0A2-8314-45D2-8B16-219F7F3C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2701-4DDD-473C-9AAC-EB6AC52E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F769-036B-48C5-B0FC-554FF3F3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11DC-4B7D-4BE9-8FAF-0F5BFE27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AD0C-FF63-4351-BFB2-CBF0E9FD5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DCAE-C66B-47F8-8BB6-A56E22C2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138-4E36-4ADD-863A-879FFB23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EBE9-6A73-494D-A733-34FAD914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D05A2-827A-439C-9067-BCB761F7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AD55-3763-4BD0-AB04-A94A90F9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CD35A-26E2-4144-B964-DF8CE8E63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6F5F7-9CAE-4F50-9F8F-F4690FD96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CE50F-CC4D-4479-B5D0-026600D9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1268-A073-41AB-B300-87C97BF02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9461-B4F0-44DE-9754-BD6E42CA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376-FB51-443D-BAC9-A839D35E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723-B45E-48C4-BD2A-0F2BC379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A31C-7124-4DF3-96CE-D69335A46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2454-DAE1-4E77-B363-E4D03B44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E368-132A-46BF-BC3F-836A6CCF70BD}" type="datetime3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2026. júl. 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47680" y="0"/>
            <a:ext cx="793800" cy="1841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CE31-B28A-4EEC-8AD3-F306B6954669}" type="slidenum">
              <a:rPr b="0" lang="hu-HU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3">
              <a:alphaModFix amt="5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e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e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A86F-6950-487E-AD71-EE85B1A94246}" type="datetime3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2026. júl. 28.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EF88-5C68-4D1F-889C-2337B343380F}" type="slidenum">
              <a:rPr b="0" lang="hu-HU" sz="14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audio" Target="../media/driveby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audio" Target="../media/driveby.wav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driveby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33"/>
                </a:solidFill>
                <a:latin typeface="Arial Black"/>
              </a:rPr>
              <a:t>A zene klasszikusai</a:t>
            </a:r>
            <a:endParaRPr b="0" lang="en-US" sz="48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2987640" y="1905120"/>
          <a:ext cx="3166920" cy="4190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87640" y="1905120"/>
                    <a:ext cx="3166920" cy="419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E766-BA4D-4673-8841-0773FD3C073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3596FF-3BA9-4F62-A509-443B56B82C98}" type="datetime3">
              <a:rPr lang="en-US"/>
              <a:t>July 28, 20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Zeneszerzők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66688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Hayd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Mozar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Beethove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Chopi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990680" y="2666880"/>
            <a:ext cx="3924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Liszt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Bach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Debussy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Vivaldi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BE4F-6292-45E1-B96C-4874CC93AFA1}" type="slidenum">
              <a:t>2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0763E1-7C2E-41B3-8DEE-609CC9EC5222}" type="datetime3">
              <a:rPr lang="en-US"/>
              <a:t>July 28, 20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Haydn</a:t>
            </a: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7200" spc="-1" strike="noStrike">
                <a:solidFill>
                  <a:srgbClr val="333333"/>
                </a:solidFill>
                <a:latin typeface="Times New Roman"/>
              </a:rPr>
              <a:t>művei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811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-dúr „Császár” vonósnégy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sz-dúr „Dobpergés” szimfónia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Élet a Hold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quie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eremte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Évszakok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-322200">
              <a:lnSpc>
                <a:spcPts val="3399"/>
              </a:lnSpc>
              <a:spcBef>
                <a:spcPts val="601"/>
              </a:spcBef>
              <a:buClr>
                <a:srgbClr val="9933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óbiás hazatérése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99" name="EN00354_" descr=""/>
          <p:cNvPicPr/>
          <p:nvPr/>
        </p:nvPicPr>
        <p:blipFill>
          <a:blip r:embed="rId2"/>
          <a:stretch/>
        </p:blipFill>
        <p:spPr>
          <a:xfrm>
            <a:off x="4648320" y="2286000"/>
            <a:ext cx="381132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F81F-7929-41D9-B331-D3E87BDF94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3AE6D-C930-4BC6-9B95-E174C2A8ED6C}" type="datetime3">
              <a:rPr lang="en-US"/>
              <a:t>July 28, 20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41840" y="2251080"/>
            <a:ext cx="888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orának legnagyobb zeneművésze volt. Műveinek nagy részét az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Esterházy-rezidencián alkotta. Egyházi fiúkórus tagjaként került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apcsolatba a zenével. Később zeneszerzést tanult, majd kisebb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űveket írt.1759 –től zeneigazgató, majd 1761 –től Esterházy Pál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zenekarában másodkarnagy. 1790–ben nyugdíjba ment és Bécsbe </a:t>
            </a:r>
            <a:br>
              <a:rPr sz="2400"/>
            </a:b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költözött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endkívül sok zenemű fűződik a nevéhez, a daloktól az oratóriumokig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1809-ben hunyt el, 77 éves korában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48040" y="164160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(1732 – 1809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86640" y="258840"/>
            <a:ext cx="4641840" cy="1018440"/>
          </a:xfrm>
          <a:prstGeom prst="horizontalScrol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3300"/>
                </a:solidFill>
                <a:latin typeface="Antique Olive"/>
              </a:rPr>
              <a:t>JOSEPH HAYDN</a:t>
            </a:r>
            <a:endParaRPr b="0" lang="en-US" sz="4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03" name="Haydn" descr=""/>
          <p:cNvPicPr/>
          <p:nvPr/>
        </p:nvPicPr>
        <p:blipFill>
          <a:blip r:embed="rId2"/>
          <a:stretch/>
        </p:blipFill>
        <p:spPr>
          <a:xfrm>
            <a:off x="7313760" y="66600"/>
            <a:ext cx="1188720" cy="13813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560" y="1142640"/>
            <a:ext cx="88740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33"/>
                </a:solidFill>
                <a:latin typeface="Times New Roman"/>
              </a:rPr>
              <a:t>Joseph Haydn</a:t>
            </a:r>
            <a:endParaRPr b="0" lang="en-US" sz="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 zene klasszikusai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FC2-3716-4956-A455-DF627F72A4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D07972-F1D0-4989-BFDF-B74DABFC76C3}" type="datetime3">
              <a:rPr lang="en-US"/>
              <a:t>July 28, 20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2T11:53:06Z</dcterms:created>
  <dc:creator/>
  <dc:description/>
  <dc:language>en-US</dc:language>
  <cp:lastModifiedBy>kede</cp:lastModifiedBy>
  <dcterms:modified xsi:type="dcterms:W3CDTF">2001-10-27T11:30:32Z</dcterms:modified>
  <cp:revision>14</cp:revision>
  <dc:subject/>
  <dc:title/>
</cp:coreProperties>
</file>