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driveby.wav" ContentType="audio/x-wav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6E9-15CB-454C-98E3-D813D034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E1D-32E1-49D3-BE52-1FEBF250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D94-D0F8-4553-BD73-3CEFE985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AC4-AC59-4ED5-8422-ECD23B6A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62DC-B6B9-45B6-A5FD-9E590D6E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E67C-F267-4A36-93C6-2D891AC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BAFE-0865-4C93-B9DF-0339A4E9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5E63-96F8-4DAF-ACD3-ECA92361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6AF3-5E50-4A88-92C6-87ADBA9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9BE-483E-45E7-A2A3-9B4EFB97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159F-0688-4A8D-A64F-10BBD3C7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92E-8E47-4A9E-B9F0-26950309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01DE-172A-41AF-9296-2B705A61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BDAE-7E83-4F6C-AC55-0D765203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AE43-95CF-4EBC-B668-5F098889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C5EF-6BCF-46EA-A697-37987D9C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98F3-58E0-4693-A511-FB0E9979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834-764D-431F-B7C9-5FFF288F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245-980D-44B0-9207-783011CF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0EA-65B4-4B9B-944D-548F6F5B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4C4-C81E-41A9-9F8C-541C438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23C-57DB-49F0-B31D-B804D41C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C7D-00D6-4C03-ACB0-ED00C358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09D-78AE-4D50-9783-E5E8967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3796-5C42-4542-B665-CA1D75B6B0AA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B07-D4C1-4904-A37D-CDAE9286B6FE}" type="slidenum">
              <a:rPr b="0" lang="hu-H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E1B0-BFAF-4FC1-AFB9-66E818FDBC6D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29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88CF-CA5F-4E9E-B91D-2A3B77D7A703}" type="slidenum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driveby.wav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A zene klasszikusai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987640" y="1905120"/>
          <a:ext cx="316692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1905120"/>
                    <a:ext cx="31669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3BC-8AAB-477A-8AAD-7656C86B657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F3D55-0D2C-46B0-A8DD-7E28E84323D5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Zeneszerzők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Mozar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eethove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Chopi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068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Lisz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ach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Debussy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Vivald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C8B-F118-4697-BDFA-CA63DFAF2063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EE321-D040-4875-9FC1-C4968791FEB9}" type="datetime3">
              <a:rPr lang="en-US"/>
              <a:t>July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Haydn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művei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811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-dúr „Császár” vonósnégy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z-dúr „Dobpergés” szimfóni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let a Hold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quie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eremt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vszako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óbiás hazatéré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EN00354_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1132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45E-58B6-4FE6-A1EE-0E62B8CB73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9E7EC-9DA1-4994-8BB4-917049727A82}" type="datetime3">
              <a:rPr lang="en-US"/>
              <a:t>July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1840" y="2251080"/>
            <a:ext cx="88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orának legnagyobb zeneművésze volt. Műveinek nagy részét az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terházy-rezidencián alkotta. Egyházi fiúkórus tagjaként került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apcsolatba a zenével. Később zeneszerzést tanult, majd kisebb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űveket írt.1759 –től zeneigazgató, majd 1761 –től Esterházy Pál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zenekarában másodkarnagy. 1790–ben nyugdíjba ment és Bécsbe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öltözött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ndkívül sok zenemű fűződik a nevéhez, a daloktól az oratóriumokig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809-ben hunyt el, 77 éves korába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48040" y="1641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1732 – 1809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86640" y="258840"/>
            <a:ext cx="4641840" cy="10184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ntique Olive"/>
              </a:rPr>
              <a:t>JOSEPH 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3" name="Haydn" descr=""/>
          <p:cNvPicPr/>
          <p:nvPr/>
        </p:nvPicPr>
        <p:blipFill>
          <a:blip r:embed="rId2"/>
          <a:stretch/>
        </p:blipFill>
        <p:spPr>
          <a:xfrm>
            <a:off x="7313760" y="66600"/>
            <a:ext cx="1188720" cy="138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7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Joseph Haydn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423-540A-45A8-B92D-D01F5E83B9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818ED-70EE-449D-9D08-A11BB81ED973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1:53:06Z</dcterms:created>
  <dc:creator/>
  <dc:description/>
  <dc:language>en-US</dc:language>
  <cp:lastModifiedBy>kede</cp:lastModifiedBy>
  <dcterms:modified xsi:type="dcterms:W3CDTF">2001-10-27T11:30:32Z</dcterms:modified>
  <cp:revision>14</cp:revision>
  <dc:subject/>
  <dc:title/>
</cp:coreProperties>
</file>