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290-D706-40E1-A2B0-630B6BD8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0874-D394-412E-8933-A9ECE4E8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9285-A017-4375-B52B-4B4989D11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F99-1D10-4432-9FA4-6789846D9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77E2-623E-4FC9-B767-53F20506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D6FC-5874-4D27-A8D2-EA314B57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1BF22-C501-44E5-8182-4D6F455ED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04B50-35DD-45D0-937C-586ACD44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348FB-E486-4B2D-8485-FDDBBBC6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AAAB-AE0B-46F3-A372-B9CC0B67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64A0-A2C8-49E2-83D0-E220D40B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7F93-27DC-4264-A9E6-826D0219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2049-EE3B-4366-98CA-06629690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5E63A-807F-4CF6-930C-D9DFA65A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78626-2686-46F8-832C-42CAEDAC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CD90-BF3C-47A1-AA0B-0E0BE58A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0AA1-0714-4B90-8BC7-EC2183CD5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4FB7-9316-4CE7-9468-5C2B558C4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89A2-BAD9-48B7-B63A-C90EDA9E3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F395-DC22-423E-BD03-511673D4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81A6-E495-411E-A3F2-ADF08391F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DD87-A039-47A9-90C5-F8D7C59A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BC5F-0D84-4F8C-BE01-1901FED3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4B97-9AE2-4388-BD85-967D17B8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45049-0D1C-41E2-876D-8BA8A42BF5CE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FB1CF-B32F-4A51-92B7-93F2CF4C5C97}" type="slidenum">
              <a:rPr b="0" lang="hu-H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AFB6-A0DF-4AAC-BA88-E1D01DF08897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3AA7-A811-46B8-82D7-697F35F097D0}" type="slidenum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driveby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A zene klasszikusai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87640" y="1905120"/>
          <a:ext cx="316692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1905120"/>
                    <a:ext cx="3166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E6B6-78AF-402B-B690-BADAF9BDBC57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029C4B-9AD7-4670-B14D-B7C6A1437087}" type="datetime3">
              <a:rPr lang="en-US"/>
              <a:t>July 28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Zeneszerzők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Mozar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eethove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Chopi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068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Lisz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ach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Debuss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Vivald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4321-A483-4C6F-B635-4E569569E9DE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48130-9B2C-4A93-8C4E-38161A23C55A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Haydn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művei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81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-dúr „Császár” vonósnégy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z-dúr „Dobpergés” szimfóni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let a Hold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qui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eremt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vszako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óbiás hazatéré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EN00354_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1132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E487-8BB3-4A18-91AE-63DFE467CD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ACB67-A978-4E43-987F-61FCEC45B165}" type="datetime3">
              <a:rPr lang="en-US"/>
              <a:t>July 28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22510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orának legnagyobb zeneművésze volt. Műveinek nagy részét az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terházy-rezidencián alkotta. Egyházi fiúkórus tagjaként került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apcsolatba a zenével. Később zeneszerzést tanult, majd kisebb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űveket írt.1759 –től zeneigazgató, majd 1761 –től Esterházy Pál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nekarában másodkarnagy. 1790–ben nyugdíjba ment és Bécsbe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öltözött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ndkívül sok zenemű fűződik a nevéhez, a daloktól az oratóriumokig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809-ben hunyt el, 77 éves korába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8040" y="1641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1732 – 1809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6640" y="258840"/>
            <a:ext cx="4641840" cy="101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ntique Olive"/>
              </a:rPr>
              <a:t>JOSEPH 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Haydn" descr=""/>
          <p:cNvPicPr/>
          <p:nvPr/>
        </p:nvPicPr>
        <p:blipFill>
          <a:blip r:embed="rId2"/>
          <a:stretch/>
        </p:blipFill>
        <p:spPr>
          <a:xfrm>
            <a:off x="7313760" y="66600"/>
            <a:ext cx="1188720" cy="138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7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Joseph Haydn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9542-2712-4A11-A2FA-C93C538425A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BCD87-74F6-4937-BC00-F4ED5DBA80CE}" type="datetime3">
              <a:rPr lang="en-US"/>
              <a:t>July 28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1:53:06Z</dcterms:created>
  <dc:creator/>
  <dc:description/>
  <dc:language>en-US</dc:language>
  <cp:lastModifiedBy>kede</cp:lastModifiedBy>
  <dcterms:modified xsi:type="dcterms:W3CDTF">2001-10-27T11:30:32Z</dcterms:modified>
  <cp:revision>14</cp:revision>
  <dc:subject/>
  <dc:title/>
</cp:coreProperties>
</file>