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driveby.wav" ContentType="audio/x-wav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6C5-3233-4E4F-893B-B5AD8FE1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D24-5223-4C17-9051-48E4A28A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D80-A3EA-4EC9-814B-130E1DB5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AAB-AADC-417E-9C94-A0E5096D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42C4-E458-4687-81E6-114C1D89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4D9D-AC27-40F4-B949-384203D6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F286-C9AA-4878-A344-363EAF69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6DCA-5B26-405A-A544-A56D8398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6757-3785-4509-B36A-DF94A89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A528-87C0-448D-A7A0-3C5E1C2F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2EB8-4D17-47D1-B4D8-45DE5EF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EAD-8465-4663-AE1A-B278739B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30C1-BF48-45ED-8E36-B8E0AF7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8AAC-00B1-4357-BF10-B55624A5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4EC5-F3D3-42D6-B6DA-7B3C1C4D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AC47-7D19-49BB-A96A-55972951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178E-5692-46FA-8E51-A0D40FB1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D33-6B6A-4C50-ABF3-B8ADA7DE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795-61FB-4863-AD4C-C70D3CA7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03B-C265-46AF-8F0A-CDC01070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F6C-8BE3-4D2D-8178-F42D02FC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15F-FC22-4808-904B-86E3395D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691-91AC-4FFB-9379-53E7C4C9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2F2-5DCF-472A-A203-D5C6124A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A4C8-2AF1-4625-BFD0-E4C2D61EE19E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B39C-5F51-4BD6-99D4-D09906B820BC}" type="slidenum">
              <a:rPr b="0" lang="hu-H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2706-B52F-4DB0-9B52-D3B878889384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8269-3107-4626-B7B6-68D0C10312C9}" type="slidenum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driveby.wav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A zene klasszikusai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987640" y="1905120"/>
          <a:ext cx="316692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1905120"/>
                    <a:ext cx="31669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41F-AE2E-476A-8E2B-FFA5B647D2D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BAB6E-7B48-417E-87E1-0ED6C855CFCE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Zeneszerzők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Mozar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eethove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Chopi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068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Lisz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ach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Debussy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Vivald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794-2CAE-408D-AD61-02958179CE85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57EBE-DF66-4ECC-82D8-CF8949A59971}" type="datetime3">
              <a:rPr lang="en-US"/>
              <a:t>July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Haydn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művei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811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-dúr „Császár” vonósnégy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z-dúr „Dobpergés” szimfóni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let a Hold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quie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eremt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vszako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óbiás hazatéré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EN00354_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1132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053-80ED-491A-9E60-B2D5E20B3A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0450B-F380-4DF7-BDB6-8514B7F9E8B5}" type="datetime3">
              <a:rPr lang="en-US"/>
              <a:t>July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1840" y="2251080"/>
            <a:ext cx="88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orának legnagyobb zeneművésze volt. Műveinek nagy részét az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terházy-rezidencián alkotta. Egyházi fiúkórus tagjaként került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apcsolatba a zenével. Később zeneszerzést tanult, majd kisebb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űveket írt.1759 –től zeneigazgató, majd 1761 –től Esterházy Pál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zenekarában másodkarnagy. 1790–ben nyugdíjba ment és Bécsbe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öltözött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ndkívül sok zenemű fűződik a nevéhez, a daloktól az oratóriumokig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809-ben hunyt el, 77 éves korába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48040" y="1641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1732 – 1809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86640" y="258840"/>
            <a:ext cx="4641840" cy="10184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ntique Olive"/>
              </a:rPr>
              <a:t>JOSEPH 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3" name="Haydn" descr=""/>
          <p:cNvPicPr/>
          <p:nvPr/>
        </p:nvPicPr>
        <p:blipFill>
          <a:blip r:embed="rId2"/>
          <a:stretch/>
        </p:blipFill>
        <p:spPr>
          <a:xfrm>
            <a:off x="7313760" y="66600"/>
            <a:ext cx="1188720" cy="138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7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Joseph Haydn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1C4-5E44-4DA2-B2B9-6D8A8BA9DC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940CF-E9A0-4BA0-98B4-F518126A4C65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1:53:06Z</dcterms:created>
  <dc:creator/>
  <dc:description/>
  <dc:language>en-US</dc:language>
  <cp:lastModifiedBy>kede</cp:lastModifiedBy>
  <dcterms:modified xsi:type="dcterms:W3CDTF">2001-10-27T11:30:32Z</dcterms:modified>
  <cp:revision>14</cp:revision>
  <dc:subject/>
  <dc:title/>
</cp:coreProperties>
</file>