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5B24-5BFD-4FFE-AE93-F77B4E17F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5D81-AB04-4CBF-B92F-3283EA82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DFFB-D605-4205-B44A-4663BC95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D087-9AB5-4DBF-B460-C72365A04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A1C2-DDE1-44B8-B829-E42DD144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2303-7342-44CE-B912-125B64AF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AAA6-4480-4E94-80C7-E55CF8F4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3D43-35E0-49B4-9BFE-26F4CFFB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1996-456A-42AE-9EB7-64C54779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38A5-0BEC-4C9C-AD2F-5384D8F8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5CEE-69CA-4CD8-9EF6-D930397F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8BC8-935C-4BB1-91DB-0C521194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744E-40E5-4436-B345-0B43B43C6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Blue Globe R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Utazási iro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Arial Black"/>
              </a:rPr>
              <a:t>Szolgáltatásain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Belföldi utak szervez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Külföldi utak szervez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Repülőjegy értékesí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Valuta vál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Szállásfoglal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Autó bérl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6T14:52:35Z</dcterms:created>
  <dc:creator/>
  <dc:description/>
  <dc:language>en-US</dc:language>
  <cp:lastModifiedBy>kede</cp:lastModifiedBy>
  <dcterms:modified xsi:type="dcterms:W3CDTF">2001-10-27T07:29:16Z</dcterms:modified>
  <cp:revision>2</cp:revision>
  <dc:subject/>
  <dc:title/>
</cp:coreProperties>
</file>