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FD71-4AFF-471E-8208-EAC0CED79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383B-2CA3-455F-B0DB-D10BBC6DB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A1BD-BBEC-42CB-822C-8D91A0EF7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658D-5CA7-4100-9B52-B98B60A5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3FC-C2D0-47E8-8BB8-45D786579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5483-A913-464C-B107-75AA5EC0D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8F5D-991C-406D-A916-EB01D64C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AEA-2D29-4DD3-BD31-5CACAAEDB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1C36-C0F7-4EFD-AFE0-93A8798A8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FBCE-C092-43B1-AE0F-7821EBC6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A1A4-A9CF-44CF-90C0-55DEB8D7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C1C-C24E-4BF9-8E73-CEBD0DD9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E92B-BD13-461A-A428-D8D038A36E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Black"/>
              </a:rPr>
              <a:t>Blue Globe R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Utazási ir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Arial Black"/>
              </a:rPr>
              <a:t>Szolgáltatásain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Belföldi utak szerv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Külföldi utak szervezé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Repülőjegy értékesít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Valuta vált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Szállásfoglalá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Arial"/>
              </a:rPr>
              <a:t>Autó bérlé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14:52:35Z</dcterms:created>
  <dc:creator/>
  <dc:description/>
  <dc:language>en-US</dc:language>
  <cp:lastModifiedBy>kede</cp:lastModifiedBy>
  <dcterms:modified xsi:type="dcterms:W3CDTF">2001-10-27T07:29:16Z</dcterms:modified>
  <cp:revision>2</cp:revision>
  <dc:subject/>
  <dc:title/>
</cp:coreProperties>
</file>