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1999-58EA-449D-9B88-BE68F9AC5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CBB3-5084-489B-BDAF-28CBDA382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E8DA-6EF1-42A6-8069-84B86D0E1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4739-E1E7-4A67-B62C-DA927405B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95A5-9742-43DE-9A60-BEA5A3DAD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DC3D-EE27-495F-9133-5272F6117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2EE1-2059-4229-8F88-E80F34D03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9A33-F36A-4146-9D91-6765BDDCE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E502-B9B5-46A0-B8B5-35BB9BF40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E9EF-C27E-4D64-A4ED-4F0F104EE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9C039-25AF-4A24-8F57-F918C924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53C9-5C79-4C59-B168-43D74B2E5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C043C-5F19-4E5A-9CDC-68B5A3DB1E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Blue Globe R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Utazási iro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Arial Black"/>
              </a:rPr>
              <a:t>Szolgáltatásain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3300"/>
                </a:solidFill>
                <a:latin typeface="Arial"/>
              </a:rPr>
              <a:t>Belföldi utak szervezé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3300"/>
                </a:solidFill>
                <a:latin typeface="Arial"/>
              </a:rPr>
              <a:t>Külföldi utak szervezé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3300"/>
                </a:solidFill>
                <a:latin typeface="Arial"/>
              </a:rPr>
              <a:t>Repülőjegy értékesít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3300"/>
                </a:solidFill>
                <a:latin typeface="Arial"/>
              </a:rPr>
              <a:t>Valuta vált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3300"/>
                </a:solidFill>
                <a:latin typeface="Arial"/>
              </a:rPr>
              <a:t>Szállásfoglal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3300"/>
                </a:solidFill>
                <a:latin typeface="Arial"/>
              </a:rPr>
              <a:t>Autó bérl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6T14:52:35Z</dcterms:created>
  <dc:creator/>
  <dc:description/>
  <dc:language>en-US</dc:language>
  <cp:lastModifiedBy>kede</cp:lastModifiedBy>
  <dcterms:modified xsi:type="dcterms:W3CDTF">2001-10-27T07:29:16Z</dcterms:modified>
  <cp:revision>2</cp:revision>
  <dc:subject/>
  <dc:title/>
</cp:coreProperties>
</file>