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E277-7DD2-4525-831B-FE5D0592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242-C88D-4610-B086-F27AD9C9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5D26-68A3-4C53-93F7-92CE013A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DDAB-55E0-4702-8080-BCB7D44A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A5FD-1FE7-4890-BD8A-B5B9BADA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31B6-E1BB-4CAF-A154-9E096092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3964-0D64-4A4C-8571-A62B552C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3341-AAF1-4678-83A8-AADD405D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FD99-F08E-4337-A8B6-761A0C3B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223-1C6D-4629-9D9A-491FF19A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70CC-2C3E-4F64-B39B-3641DC9C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D351-73C5-430A-B728-26B717BA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14C0-90D1-44A8-B794-AE842EBC6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Blue Globe 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Utazási iro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Arial Black"/>
              </a:rPr>
              <a:t>Szolgáltatásain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Belföldi utak szervez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Külföldi utak szervez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Repülőjegy értékesí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Valuta vál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Szállásfoglal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Autó bérl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6T14:52:35Z</dcterms:created>
  <dc:creator/>
  <dc:description/>
  <dc:language>en-US</dc:language>
  <cp:lastModifiedBy>kede</cp:lastModifiedBy>
  <dcterms:modified xsi:type="dcterms:W3CDTF">2001-10-27T07:29:16Z</dcterms:modified>
  <cp:revision>2</cp:revision>
  <dc:subject/>
  <dc:title/>
</cp:coreProperties>
</file>