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8B2-F47B-40E2-ADDF-3D5123A9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381-E7F1-47A7-BE81-B04D4609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782-CEFB-4E52-ACFF-E28CCFDB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682-6059-42B2-A315-F846D217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DDE-1F02-4BAB-917E-689BACD0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D7CD-48A3-41A1-BEC6-8E5BC659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22E-7742-4C02-B204-F62DB283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1A4-A1DF-4BB9-9CB1-220983C2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8553-6681-445B-A1C0-6325A6A3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14E0-14A6-47E2-B30C-B06ED1C9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84F-84B3-4484-9198-74406A4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14C-C3BB-449C-A43A-77A7BEB5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6997-7DBD-4967-812D-2D0A43F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BC3B-3FCF-4BC8-AE6C-57294DA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FE0E-2CD9-4465-919D-FAA9BE06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E00D-B29F-46EE-A5E5-DF9E8BAB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FAB3-5DA1-4343-BCA1-DB10E0A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462-8A1D-48A5-BA89-9CAF793B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616-9FF1-4FFC-AC45-842A51A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A8B-D524-49F0-B696-1D6BC743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FE7-43D5-43F6-B291-CBCC966A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C65-7775-4024-B16E-09D6E648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B20-DCB7-407A-B989-42D94D8A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1F1-F4E0-4AC9-8267-F8D289A8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E299-7880-4C83-BF1B-B1668925DF22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A962-76DC-4EDA-8634-6F267639B5D5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Budapest hídjai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 Narrow"/>
              </a:rPr>
              <a:t>Hidak a két városrész közöt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Erzsébe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Lánc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Szabadság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Margi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3:18:05Z</dcterms:created>
  <dc:creator/>
  <dc:description/>
  <dc:language>en-US</dc:language>
  <cp:lastModifiedBy>kede</cp:lastModifiedBy>
  <dcterms:modified xsi:type="dcterms:W3CDTF">2001-10-27T08:01:29Z</dcterms:modified>
  <cp:revision>2</cp:revision>
  <dc:subject/>
  <dc:title/>
</cp:coreProperties>
</file>