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114D-2A4A-4E99-AE3D-12ACA694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84F8-B895-496D-9916-F7D34474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6565-990A-49C6-AB64-0896DD542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0830-5BD5-4EDC-932F-04DAA244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3EA62-C789-4675-B003-6C43699DE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7861C-8A27-4759-B736-421034E6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FE43-6589-497F-844B-05879480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395C-03AF-449F-9EA8-034B50DAC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49A8-9E15-4589-BE38-0C4B687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BB2DE-DD26-4E9E-AFAA-79430B873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903B-D67C-4DB5-90DA-BA3F2DCB7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C45A-CAA3-409F-9667-02A34EC2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D031-C65A-441E-8F6E-A1B2E19A6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E999-F20F-41AC-8332-AD24F464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557A-8810-436A-8ED7-91290950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97AA-C894-4627-B897-1DB1C5E96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AF3B-1EFB-442C-971D-135D6659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0133-E923-40AA-900E-81E98903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035-2FF2-46B9-B565-D965CF75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D2FF-3530-4E99-AABE-9901C68C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6BFA-7C5E-4F7C-81EC-1B1D1B62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6D90-23D4-4AE4-A1F0-906FD56D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0CC1-2500-46C1-B408-FFF8A00B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8240-7BAF-4928-9994-42538718A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6449E-6F86-444C-90BF-956D35E46F50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FC6F-BC83-4405-82FC-C84B2268C156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Budapest hídjai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Arial Narrow"/>
              </a:rPr>
              <a:t>Hidak a két városrész közöt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Erzsébet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Lánc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Szabadság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Margit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3:18:05Z</dcterms:created>
  <dc:creator/>
  <dc:description/>
  <dc:language>en-US</dc:language>
  <cp:lastModifiedBy>kede</cp:lastModifiedBy>
  <dcterms:modified xsi:type="dcterms:W3CDTF">2001-10-27T08:01:29Z</dcterms:modified>
  <cp:revision>2</cp:revision>
  <dc:subject/>
  <dc:title/>
</cp:coreProperties>
</file>