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D1E-74EB-48B4-B000-2F6F8604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A0E-C49C-44CE-8C90-74BF440C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E7B-0B5B-457C-A581-22698AB7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6E6-F467-4730-9335-FD83630C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88E5-C416-48AE-801A-FF1EE86F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E92-CF60-4616-A4CF-B854273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41E-F204-4CF6-A131-420D4E0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598E-5C74-4A76-9683-8AE5583E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CE9-3C89-42CA-A768-8F1EADA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3464-3FB7-4030-AE9D-7B7AC91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8061-CB16-4612-8CCB-ECD8277B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913-49BC-48AA-80DF-03612AC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016-AFDF-4C6D-9309-4E79409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01E5-B364-4450-A463-FCE86AD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7DB-8EFE-4DE9-8DA4-C5710AD9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49F7-0F89-44E2-BE8B-501E8393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11D9-167C-4C7C-98D8-2B364700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E3E-A85A-4967-96D4-5AF84105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132-B342-4763-9B1A-9CE4678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030-029E-448C-A717-D501C805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25F-EE8E-4D1E-A92D-B1032E93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CDD-D1BD-4790-A439-B2801334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627-D939-410D-8C72-CB28E3C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9EB-13B2-4C3F-9B5F-58166EA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FCAD-4948-4171-8067-D595E0B7B3F7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C041-A774-4205-8897-456526B5E571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Budapest hídjai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 Narrow"/>
              </a:rPr>
              <a:t>Hidak a két városrész közöt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Erzsébe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Lánc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Szabadság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Margi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3:18:05Z</dcterms:created>
  <dc:creator/>
  <dc:description/>
  <dc:language>en-US</dc:language>
  <cp:lastModifiedBy>kede</cp:lastModifiedBy>
  <dcterms:modified xsi:type="dcterms:W3CDTF">2001-10-27T08:01:29Z</dcterms:modified>
  <cp:revision>2</cp:revision>
  <dc:subject/>
  <dc:title/>
</cp:coreProperties>
</file>