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7787-E48A-4759-B4D2-A39AF99D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7519-7D15-40FF-BD5C-8235AB8F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1D2-D67A-4EA8-8E9E-002B177A5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E814-C069-4E64-A17C-9BE646AD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E38B4-3D1C-41CE-932C-36DF64C61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59845-7A4E-489A-855A-FE1BA498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E2F3-0D3B-4173-8498-9F36A15DF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DDC4-D871-46D2-931F-7158BF4D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C083-F9ED-4800-9715-1278C2FC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6DF91-9A84-4111-80B5-79E985FA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48A53-0077-4FCE-8246-4A5C7877A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6C4E-1D87-4B12-8F18-FDAB03CD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E58BD-1F4F-4E92-BE3D-7E2B145B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59EA-88D9-4F8F-A46E-1FBCD24A6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44966-CB3C-4FB4-9085-53EFE6F8B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A173-2235-498D-A10A-D4F7DDC7A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6765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30344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41386-6A9B-48A7-B9FA-BFC84C52B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5069-7A99-4ABC-A45C-2FB76D2EF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759C-B9BD-432D-99FD-2CDC0B698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EA38-60B3-4783-B126-EC7505D4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151920"/>
            <a:ext cx="8686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6641-5CA8-4595-A7B6-896F8E31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02B7-3389-4173-A228-C426839A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430344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C4B1-7AB3-425E-8534-962EF7E39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765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430344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8E59-9788-4D77-871E-00C47C1D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C9F2-677F-489A-A7BB-CFCD700BC789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77C7A-3748-4CBB-873C-BAA017C7C46B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2895120"/>
            <a:ext cx="8839440" cy="130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CELLACÍMZÉSI MÓDOK A TÁBLÁZATKEZELŐ PROGRAMBAN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280" y="4191120"/>
            <a:ext cx="8839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0796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ilyen cellacímzési módokat használ a táblázatkezelő program?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Melyiket milyen esetben használj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5589720"/>
            <a:ext cx="8642160" cy="8254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latív és abszolút hivatkozást keverhetjük is! Ilyenkor csak a számot vagy csak a betűt védjü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Ha a relatív és abszolút hivatkozást keverjük akkor VEGYES HIVATKOZÁSról beszélünk.</a:t>
            </a:r>
            <a:r>
              <a:rPr b="0" lang="hu-HU" sz="3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számot vagy csak a betűt védjük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A védett betűt vagy számot a  $ (dollár) jel jelzi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400" spc="-1" strike="noStrike">
                <a:solidFill>
                  <a:srgbClr val="000000"/>
                </a:solidFill>
                <a:latin typeface="Arial"/>
              </a:rPr>
              <a:t>Csak a védett betű vagy szám elé kell kitenni! (1)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000000"/>
                </a:solidFill>
                <a:latin typeface="Arial"/>
              </a:rPr>
              <a:t>Az Excel cellacímzési módjai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1500"/>
              </a:spcBef>
              <a:buClr>
                <a:srgbClr val="3a5047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6000" spc="-1" strike="noStrike">
                <a:solidFill>
                  <a:srgbClr val="000000"/>
                </a:solidFill>
                <a:latin typeface="Arial"/>
              </a:rPr>
              <a:t>Vegyes hivatkozá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5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8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7200" spc="-1" strike="noStrike">
                <a:solidFill>
                  <a:srgbClr val="ff9900"/>
                </a:solidFill>
                <a:latin typeface="Arial"/>
              </a:rPr>
              <a:t>Relatív hivatkozá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21964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2=A2*B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14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50920" y="5013360"/>
            <a:ext cx="8642160" cy="159588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Excel értelemszerűen máso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Ha a C1 hivatkozást a C2 cellába másolom, akkor az A1*B1 képletből A2*B2 lesz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000" spc="-1" strike="noStrike">
                <a:solidFill>
                  <a:srgbClr val="000000"/>
                </a:solidFill>
                <a:latin typeface="Arial"/>
              </a:rPr>
              <a:t>RELATÍV HIVATKOZÁ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5400" spc="-1" strike="noStrike">
                <a:solidFill>
                  <a:srgbClr val="ff9900"/>
                </a:solidFill>
                <a:latin typeface="Arial"/>
              </a:rPr>
              <a:t>átváltozik</a:t>
            </a: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, RELATÍV HIVATKOZÁSnak nevezzük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000000"/>
                </a:solidFill>
                <a:latin typeface="Arial"/>
              </a:rPr>
              <a:t>Nincs jel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Abszolút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572000" cy="3546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572000" y="3716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C2=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A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*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93d598"/>
                </a:solidFill>
                <a:latin typeface="Times New Roman"/>
              </a:rPr>
              <a:t>B</a:t>
            </a:r>
            <a:r>
              <a:rPr b="1" lang="hu-HU" sz="4800" spc="-1" strike="noStrike">
                <a:solidFill>
                  <a:srgbClr val="ff9900"/>
                </a:solidFill>
                <a:latin typeface="Times New Roman"/>
              </a:rPr>
              <a:t>$</a:t>
            </a:r>
            <a:r>
              <a:rPr b="1" lang="hu-HU" sz="48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45160"/>
            <a:ext cx="8642160" cy="2113200"/>
          </a:xfrm>
          <a:prstGeom prst="rect">
            <a:avLst/>
          </a:prstGeom>
          <a:solidFill>
            <a:srgbClr val="93d598"/>
          </a:solidFill>
          <a:ln cap="sq" w="12600">
            <a:solidFill>
              <a:srgbClr val="5567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em akarjuk, hogy egy hivatkozás másoláskor megváltozzon, akkor védekeznünk kell ellen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lyenkor a védeni kívánt cella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betű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s </a:t>
            </a:r>
            <a:r>
              <a:rPr b="1" lang="hu-HU" sz="2400" spc="-1" strike="noStrike">
                <a:solidFill>
                  <a:srgbClr val="ff6600"/>
                </a:solidFill>
                <a:latin typeface="Times New Roman"/>
              </a:rPr>
              <a:t>szám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é egy-egy 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“$ ”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jelet szúrunk be. Ekkor tetszőleges másoláskor is a cellánk hivatkozása változatlan mar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8360" y="371628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93d598"/>
                </a:solidFill>
                <a:latin typeface="Times New Roman"/>
              </a:rPr>
              <a:t>C1=A1*B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72000" y="0"/>
            <a:ext cx="4572000" cy="35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5400" spc="-1" strike="noStrike">
                <a:solidFill>
                  <a:srgbClr val="000000"/>
                </a:solidFill>
                <a:latin typeface="Arial"/>
              </a:rPr>
              <a:t>ABSZOLÚT HIVATKOZÁ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676520"/>
            <a:ext cx="8964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Az olyan hivatkozást, amely másoláskor </a:t>
            </a:r>
            <a:r>
              <a:rPr b="1" lang="hu-HU" sz="4000" spc="-1" strike="noStrike">
                <a:solidFill>
                  <a:srgbClr val="ff9900"/>
                </a:solidFill>
                <a:latin typeface="Arial"/>
              </a:rPr>
              <a:t>nem változik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, ABSZOLÚT  HIVATKOZÁSnak nevezzü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z abszolút hivatkozást a </a:t>
            </a:r>
            <a:r>
              <a:rPr b="1" lang="hu-HU" sz="4800" spc="-1" strike="noStrike">
                <a:solidFill>
                  <a:srgbClr val="ff9900"/>
                </a:solidFill>
                <a:latin typeface="Arial"/>
              </a:rPr>
              <a:t>$ </a:t>
            </a: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(dollár) jel jelzi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000" spc="-1" strike="noStrike">
                <a:solidFill>
                  <a:srgbClr val="000000"/>
                </a:solidFill>
                <a:latin typeface="Arial"/>
              </a:rPr>
              <a:t>A betű és a szám elé is ki kell tenni!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781000"/>
            <a:ext cx="86868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650"/>
              </a:spcBef>
              <a:buClr>
                <a:srgbClr val="3a5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6600" spc="-1" strike="noStrike">
                <a:solidFill>
                  <a:srgbClr val="ff9900"/>
                </a:solidFill>
                <a:latin typeface="Arial"/>
              </a:rPr>
              <a:t>Vegyes hivatkozá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7T16:25:38Z</dcterms:created>
  <dc:creator>Varga Zsuzsa</dc:creator>
  <dc:description/>
  <cp:keywords/>
  <dc:language>en-US</dc:language>
  <cp:lastModifiedBy>Gaspar Edit</cp:lastModifiedBy>
  <dcterms:modified xsi:type="dcterms:W3CDTF">2010-09-28T19:56:21Z</dcterms:modified>
  <cp:revision>12</cp:revision>
  <dc:subject/>
  <dc:title>CELLACÍMZÉSI MÓDOK A TÁBLÁZATKEZELŐ PROGRAMBAN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408001038</vt:lpwstr>
  </property>
</Properties>
</file>