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CF8E-48A3-4518-BBF0-51CCC48B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3E49-1BA2-4A7E-82FC-1ED3266D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7F93-70DF-47AE-B2CC-5E913470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429B-3919-4D74-8A86-56A7A395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EA42-A139-4C61-85ED-B8B32AF0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5596-BF88-4A85-9622-75D34F26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0B6E-FD23-4B1E-9E37-6E543A41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0F5E-C1CB-45E9-A3FC-6AD18898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AD21-FFFD-4092-B9A4-A9BDA69D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A4A4-C30F-4FAA-A1E5-DE29EC47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FF00-19E6-4B8F-B48F-C19923B5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6484-1FDB-46CF-A0DA-874DA068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099F-53CE-4EE9-86F2-80A19F6D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4C8B-8CC8-4F73-8EA4-E849D4B3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A28A-45B1-4D27-A031-91002844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E583-242F-4FC6-BA56-963F7F10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05E4-5B1A-41D3-AF36-A233AE33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FF8C-C61D-4A6F-A6E7-26A5A407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6616-24DC-4950-95A0-338A6DD3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49A3-A7A6-4A67-AC92-F0B33C85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8048-BB0C-45AC-B6C4-D6B9CB73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E35F-67BA-4553-9E9E-DFB0E04A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401-DD90-4AEC-B845-BE2EB7A2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DA42-A640-4167-9C60-6513608C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4565-A89E-49E3-9AD7-ECFA44903DF6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C8C5-24F8-40E6-8043-89224B9AC218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CELLACÍMZÉSI MÓDOK A TÁBLÁZATKEZELŐ PROGRAMBAN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07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ilyen cellacímzési módokat használ a táblázatkezelő program? 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elyiket milyen esetben használja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546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0" y="371628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93d598"/>
                </a:solidFill>
                <a:latin typeface="Times New Roman"/>
              </a:rPr>
              <a:t>C2=</a:t>
            </a:r>
            <a:r>
              <a:rPr b="1" lang="hu-HU" sz="4800" spc="-1" strike="noStrike">
                <a:solidFill>
                  <a:srgbClr val="ff9900"/>
                </a:solidFill>
                <a:latin typeface="Times New Roman"/>
              </a:rPr>
              <a:t>$</a:t>
            </a:r>
            <a:r>
              <a:rPr b="1" lang="hu-HU" sz="4800" spc="-1" strike="noStrike">
                <a:solidFill>
                  <a:srgbClr val="93d598"/>
                </a:solidFill>
                <a:latin typeface="Times New Roman"/>
              </a:rPr>
              <a:t>A</a:t>
            </a:r>
            <a:r>
              <a:rPr b="1" lang="hu-HU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4800" spc="-1" strike="noStrike">
                <a:solidFill>
                  <a:srgbClr val="93d598"/>
                </a:solidFill>
                <a:latin typeface="Times New Roman"/>
              </a:rPr>
              <a:t>*B</a:t>
            </a:r>
            <a:r>
              <a:rPr b="1" lang="hu-HU" sz="4800" spc="-1" strike="noStrike">
                <a:solidFill>
                  <a:srgbClr val="ff9900"/>
                </a:solidFill>
                <a:latin typeface="Times New Roman"/>
              </a:rPr>
              <a:t>$</a:t>
            </a:r>
            <a:r>
              <a:rPr b="1" lang="hu-HU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5589720"/>
            <a:ext cx="8642160" cy="825480"/>
          </a:xfrm>
          <a:prstGeom prst="rect">
            <a:avLst/>
          </a:prstGeom>
          <a:solidFill>
            <a:srgbClr val="93d598"/>
          </a:solidFill>
          <a:ln cap="sq" w="12600">
            <a:solidFill>
              <a:srgbClr val="556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relatív és abszolút hivatkozást keverhetjük is! Ilyenkor csak a számot vagy csak a betűt védjü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7162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93d598"/>
                </a:solidFill>
                <a:latin typeface="Times New Roman"/>
              </a:rPr>
              <a:t>C1=A1*B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000000"/>
                </a:solidFill>
                <a:latin typeface="Arial"/>
              </a:rPr>
              <a:t>VEGYES HIVATKOZÁ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67652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00"/>
                </a:solidFill>
                <a:latin typeface="Arial"/>
              </a:rPr>
              <a:t>Ha a relatív és abszolút hivatkozást keverjük akkor VEGYES HIVATKOZÁSról beszélünk.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00"/>
                </a:solidFill>
                <a:latin typeface="Arial"/>
              </a:rPr>
              <a:t>csak a számot vagy csak a betűt védjü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00"/>
                </a:solidFill>
                <a:latin typeface="Arial"/>
              </a:rPr>
              <a:t>A védett betűt vagy számot a  $ (dollár) jel jelzi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00"/>
                </a:solidFill>
                <a:latin typeface="Arial"/>
              </a:rPr>
              <a:t>Csak a védett betű vagy szám elé kell kitenni! (1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Az Excel cellacímzési módjai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1500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000" spc="-1" strike="noStrike">
                <a:solidFill>
                  <a:srgbClr val="000000"/>
                </a:solidFill>
                <a:latin typeface="Arial"/>
              </a:rPr>
              <a:t>Relatív hivatkozá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000" spc="-1" strike="noStrike">
                <a:solidFill>
                  <a:srgbClr val="000000"/>
                </a:solidFill>
                <a:latin typeface="Arial"/>
              </a:rPr>
              <a:t>Abszolút hivatkozá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000" spc="-1" strike="noStrike">
                <a:solidFill>
                  <a:srgbClr val="000000"/>
                </a:solidFill>
                <a:latin typeface="Arial"/>
              </a:rPr>
              <a:t>Vegyes hivatkozá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2781000"/>
            <a:ext cx="8686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7200" spc="-1" strike="noStrike">
                <a:solidFill>
                  <a:srgbClr val="ff9900"/>
                </a:solidFill>
                <a:latin typeface="Arial"/>
              </a:rPr>
              <a:t>Relatív hivatkozá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546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219640" y="37162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93d598"/>
                </a:solidFill>
                <a:latin typeface="Times New Roman"/>
              </a:rPr>
              <a:t>C2=A2*B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551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5013360"/>
            <a:ext cx="8642160" cy="1595880"/>
          </a:xfrm>
          <a:prstGeom prst="rect">
            <a:avLst/>
          </a:prstGeom>
          <a:solidFill>
            <a:srgbClr val="93d598"/>
          </a:solidFill>
          <a:ln cap="sq" w="12600">
            <a:solidFill>
              <a:srgbClr val="556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Excel értelemszerűen máso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a a C1 hivatkozást a C2 cellába másolom, akkor az A1*B1 képletből A2*B2 lesz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37162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93d598"/>
                </a:solidFill>
                <a:latin typeface="Times New Roman"/>
              </a:rPr>
              <a:t>C1=A1*B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000000"/>
                </a:solidFill>
                <a:latin typeface="Arial"/>
              </a:rPr>
              <a:t>RELATÍV HIVATKOZÁ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Az olyan hivatkozást, amely másoláskor </a:t>
            </a:r>
            <a:r>
              <a:rPr b="1" lang="hu-HU" sz="5400" spc="-1" strike="noStrike">
                <a:solidFill>
                  <a:srgbClr val="ff9900"/>
                </a:solidFill>
                <a:latin typeface="Arial"/>
              </a:rPr>
              <a:t>átváltozik</a:t>
            </a: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, RELATÍV HIVATKOZÁSnak nevezzü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Nincs je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781000"/>
            <a:ext cx="8686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600" spc="-1" strike="noStrike">
                <a:solidFill>
                  <a:srgbClr val="ff9900"/>
                </a:solidFill>
                <a:latin typeface="Arial"/>
              </a:rPr>
              <a:t>Abszolút hivatkozá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546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0" y="371628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93d598"/>
                </a:solidFill>
                <a:latin typeface="Times New Roman"/>
              </a:rPr>
              <a:t>C2=</a:t>
            </a:r>
            <a:r>
              <a:rPr b="1" lang="hu-HU" sz="4800" spc="-1" strike="noStrike">
                <a:solidFill>
                  <a:srgbClr val="ff9900"/>
                </a:solidFill>
                <a:latin typeface="Times New Roman"/>
              </a:rPr>
              <a:t>$</a:t>
            </a:r>
            <a:r>
              <a:rPr b="1" lang="hu-HU" sz="4800" spc="-1" strike="noStrike">
                <a:solidFill>
                  <a:srgbClr val="93d598"/>
                </a:solidFill>
                <a:latin typeface="Times New Roman"/>
              </a:rPr>
              <a:t>A</a:t>
            </a:r>
            <a:r>
              <a:rPr b="1" lang="hu-HU" sz="4800" spc="-1" strike="noStrike">
                <a:solidFill>
                  <a:srgbClr val="ff9900"/>
                </a:solidFill>
                <a:latin typeface="Times New Roman"/>
              </a:rPr>
              <a:t>$</a:t>
            </a:r>
            <a:r>
              <a:rPr b="1" lang="hu-HU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hu-HU" sz="4800" spc="-1" strike="noStrike">
                <a:solidFill>
                  <a:srgbClr val="93d598"/>
                </a:solidFill>
                <a:latin typeface="Times New Roman"/>
              </a:rPr>
              <a:t>*</a:t>
            </a:r>
            <a:r>
              <a:rPr b="1" lang="hu-HU" sz="4800" spc="-1" strike="noStrike">
                <a:solidFill>
                  <a:srgbClr val="ff9900"/>
                </a:solidFill>
                <a:latin typeface="Times New Roman"/>
              </a:rPr>
              <a:t>$</a:t>
            </a:r>
            <a:r>
              <a:rPr b="1" lang="hu-HU" sz="4800" spc="-1" strike="noStrike">
                <a:solidFill>
                  <a:srgbClr val="93d598"/>
                </a:solidFill>
                <a:latin typeface="Times New Roman"/>
              </a:rPr>
              <a:t>B</a:t>
            </a:r>
            <a:r>
              <a:rPr b="1" lang="hu-HU" sz="4800" spc="-1" strike="noStrike">
                <a:solidFill>
                  <a:srgbClr val="ff9900"/>
                </a:solidFill>
                <a:latin typeface="Times New Roman"/>
              </a:rPr>
              <a:t>$</a:t>
            </a:r>
            <a:r>
              <a:rPr b="1" lang="hu-HU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4745160"/>
            <a:ext cx="8642160" cy="2113200"/>
          </a:xfrm>
          <a:prstGeom prst="rect">
            <a:avLst/>
          </a:prstGeom>
          <a:solidFill>
            <a:srgbClr val="93d598"/>
          </a:solidFill>
          <a:ln cap="sq" w="12600">
            <a:solidFill>
              <a:srgbClr val="556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nem akarjuk, hogy egy hivatkozás másoláskor megváltozzon, akkor védekeznünk kell elle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lyenkor a védeni kívánt cella </a:t>
            </a:r>
            <a:r>
              <a:rPr b="1" lang="hu-HU" sz="2400" spc="-1" strike="noStrike">
                <a:solidFill>
                  <a:srgbClr val="ff6600"/>
                </a:solidFill>
                <a:latin typeface="Times New Roman"/>
              </a:rPr>
              <a:t>betűj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és </a:t>
            </a:r>
            <a:r>
              <a:rPr b="1" lang="hu-HU" sz="2400" spc="-1" strike="noStrike">
                <a:solidFill>
                  <a:srgbClr val="ff6600"/>
                </a:solidFill>
                <a:latin typeface="Times New Roman"/>
              </a:rPr>
              <a:t>szám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elé egy-egy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“$ ”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jelet szúrunk be. Ekkor tetszőleges másoláskor is a cellánk hivatkozása változatlan mar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37162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93d598"/>
                </a:solidFill>
                <a:latin typeface="Times New Roman"/>
              </a:rPr>
              <a:t>C1=A1*B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ABSZOLÚT HIVATKOZÁ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67652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Az olyan hivatkozást, amely másoláskor </a:t>
            </a:r>
            <a:r>
              <a:rPr b="1" lang="hu-HU" sz="4000" spc="-1" strike="noStrike">
                <a:solidFill>
                  <a:srgbClr val="ff9900"/>
                </a:solidFill>
                <a:latin typeface="Arial"/>
              </a:rPr>
              <a:t>nem változik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, ABSZOLÚT  HIVATKOZÁSnak nevezzü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Az abszolút hivatkozást a </a:t>
            </a:r>
            <a:r>
              <a:rPr b="1" lang="hu-HU" sz="4800" spc="-1" strike="noStrike">
                <a:solidFill>
                  <a:srgbClr val="ff9900"/>
                </a:solidFill>
                <a:latin typeface="Arial"/>
              </a:rPr>
              <a:t>$ </a:t>
            </a: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(dollár) jel jelzi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A betű és a szám elé is ki kell tenni!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2781000"/>
            <a:ext cx="8686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600" spc="-1" strike="noStrike">
                <a:solidFill>
                  <a:srgbClr val="ff9900"/>
                </a:solidFill>
                <a:latin typeface="Arial"/>
              </a:rPr>
              <a:t>Vegyes hivatkozá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16:25:38Z</dcterms:created>
  <dc:creator>Varga Zsuzsa</dc:creator>
  <dc:description/>
  <cp:keywords/>
  <dc:language>en-US</dc:language>
  <cp:lastModifiedBy>Gaspar Edit</cp:lastModifiedBy>
  <dcterms:modified xsi:type="dcterms:W3CDTF">2010-09-28T19:56:21Z</dcterms:modified>
  <cp:revision>12</cp:revision>
  <dc:subject/>
  <dc:title>CELLACÍMZÉSI MÓDOK A TÁBLÁZATKEZELŐ PROGRAMBAN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38</vt:lpwstr>
  </property>
</Properties>
</file>