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441-D4C7-401E-8139-EFE37571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94A-3FBB-4C49-B209-9E7C6C75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7F9-79C9-4AEA-B99C-323E94E8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458-68C3-4090-9CFF-B4433CB6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5657-BC39-4D39-9E58-58340712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2484-D2B0-4D73-962C-E1E43713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B75-C96D-4690-A279-C0F99325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ECE2-2C4D-47AC-8151-444AD4B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AD4E-DA7B-49C7-BD1D-B3E7DCE7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790D-F70C-43FE-AFE5-DEBC215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4717-E719-4E6E-83AF-79AE997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3E4-3018-42AB-A5E0-F8BCB5C5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ACA0-6239-4BFE-92F9-025AB6A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4E47-4782-43ED-87D7-48A65861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46C2-7ED8-479D-8F37-A16B34B0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41D3-E0BF-4462-95AE-1700A4B8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9F91-221C-4F7A-8290-A9F798AC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1F2-3954-40D9-8B7F-C8D2AC7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75D-62E2-481C-88C3-FCB4A301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05B-AE10-4176-A5C0-6C1A8B2A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640-F25D-48B5-92C0-AC034A17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3AF-664A-4595-9FAF-7F675532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1B8-9BCC-4311-B5F7-931C614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B49-BB84-404F-A4F2-9E6BDB1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DF0A-FD40-42C8-AB94-2A818703C54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246-FDA4-4048-BF41-CE59CEEFA79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CELLACÍMZÉSI MÓDOK A TÁBLÁZATKEZELŐ PROGRAMBAN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07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lyen cellacímzési módokat használ a táblázatkezelő program?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lyiket milyen esetben használj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589720"/>
            <a:ext cx="8642160" cy="8254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latív és abszolút hivatkozást keverhetjük is! Ilyenkor csak a számot vagy csak a betűt védjü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Ha a relatív és abszolút hivatkozást keverjük akkor VEGYES HIVATKOZÁSról beszélünk.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számot vagy csak a betűt védjü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A védett betűt vagy számot a  $ (dollár) jel jelz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védett betű vagy szám elé kell kitenni!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Excel cellacímzési módjai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9900"/>
                </a:solidFill>
                <a:latin typeface="Arial"/>
              </a:rPr>
              <a:t>Relatív hivatkoz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1964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2=A2*B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1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5013360"/>
            <a:ext cx="8642160" cy="15958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xcel értelemszerűen más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 C1 hivatkozást a C2 cellába másolom, akkor az A1*B1 képletből A2*B2 les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5400" spc="-1" strike="noStrike">
                <a:solidFill>
                  <a:srgbClr val="ff9900"/>
                </a:solidFill>
                <a:latin typeface="Arial"/>
              </a:rPr>
              <a:t>átváltozik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, RELATÍV HIVATKOZÁSnak nevezzü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Nincs je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Abszolút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745160"/>
            <a:ext cx="8642160" cy="211320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em akarjuk, hogy egy hivatkozás másoláskor megváltozzon, akkor védekeznünk kell elle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lyenkor a védeni kívánt cella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betű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szám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lé egy-egy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“$ ”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jelet szúrunk be. Ekkor tetszőleges másoláskor is a cellánk hivatkozása változatlan mar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4000" spc="-1" strike="noStrike">
                <a:solidFill>
                  <a:srgbClr val="ff9900"/>
                </a:solidFill>
                <a:latin typeface="Arial"/>
              </a:rPr>
              <a:t>nem változik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, ABSZOLÚT  HIVATKOZÁSnak nevezzü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z abszolút hivatkozást a </a:t>
            </a:r>
            <a:r>
              <a:rPr b="1" lang="hu-HU" sz="4800" spc="-1" strike="noStrike">
                <a:solidFill>
                  <a:srgbClr val="ff9900"/>
                </a:solidFill>
                <a:latin typeface="Arial"/>
              </a:rPr>
              <a:t>$ 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(dollár) jel jelzi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betű és a szám elé is ki kell tenni!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Vegyes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6:25:38Z</dcterms:created>
  <dc:creator>Varga Zsuzsa</dc:creator>
  <dc:description/>
  <cp:keywords/>
  <dc:language>en-US</dc:language>
  <cp:lastModifiedBy>Gaspar Edit</cp:lastModifiedBy>
  <dcterms:modified xsi:type="dcterms:W3CDTF">2010-09-28T19:56:21Z</dcterms:modified>
  <cp:revision>12</cp:revision>
  <dc:subject/>
  <dc:title>CELLACÍMZÉSI MÓDOK A TÁBLÁZATKEZELŐ PROGRAMBAN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8</vt:lpwstr>
  </property>
</Properties>
</file>