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A3A1-6D3B-40B1-B613-2B8E169B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B8E7-4883-425A-B3B5-31AAEDC2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98AA-B160-422D-8080-8E123A50D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A511-A0E0-4E4C-9662-B911F4641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E141-4164-4008-AFE3-27333AE2F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D888E-2142-4E01-B48E-4E9A6EA0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6B0CA-66CC-4D9D-B13E-473B8900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9FD1-1C76-4C4E-8B05-0DA768D6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582B6-DD63-430B-9A9A-5C04255D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2B95-0FBB-4BE7-8B06-0EDB817A4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09D97-48A8-48ED-B943-DD43BA28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926-14F9-4EE5-B704-808B6B25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C1E8-96E6-4032-8FF7-024C55FA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5516-5DE4-464F-9B6A-98EB7016A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A609-E3E1-4B68-BF39-CAD7492E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4026-7AA1-4049-957A-D370207EE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1FF3F-4342-476B-A3E7-C2C09F7F3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E30B-B61C-4254-AD08-5B39B8BA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E8E-C88F-495B-BAB6-89EC305B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1E1C-E115-4A83-982A-3DE0079B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FC0D-2728-4556-A5D6-69335F70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87A7-F776-4DCB-888E-461FB142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5FB-5F52-41EE-AD14-69040545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BDF-608D-4CF2-B1A6-414B9A1D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A44D-0C88-4FD0-BABF-BC4DA3850B9D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B274-F47B-41AB-A4F5-3DA772F1FFCA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CELLACÍMZÉSI MÓDOK A TÁBLÁZATKEZELŐ PROGRAMBAN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07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lyen cellacímzési módokat használ a táblázatkezelő program? 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lyiket milyen esetben használj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3716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C2=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A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*B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589720"/>
            <a:ext cx="8642160" cy="82548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latív és abszolút hivatkozást keverhetjük is! Ilyenkor csak a számot vagy csak a betűt védjü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1=A1*B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000000"/>
                </a:solidFill>
                <a:latin typeface="Arial"/>
              </a:rPr>
              <a:t>VEGYES HIVATKOZÁ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Ha a relatív és abszolút hivatkozást keverjük akkor VEGYES HIVATKOZÁSról beszélünk.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csak a számot vagy csak a betűt védjü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A védett betűt vagy számot a  $ (dollár) jel jelz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Csak a védett betű vagy szám elé kell kitenni!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z Excel cellacímzési módjai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5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Relatív hivatkoz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Abszolút hivatkoz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Vegyes hivatkoz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86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200" spc="-1" strike="noStrike">
                <a:solidFill>
                  <a:srgbClr val="ff9900"/>
                </a:solidFill>
                <a:latin typeface="Arial"/>
              </a:rPr>
              <a:t>Relatív hivatkozá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1964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2=A2*B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51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5013360"/>
            <a:ext cx="8642160" cy="159588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xcel értelemszerűen máso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a C1 hivatkozást a C2 cellába másolom, akkor az A1*B1 képletből A2*B2 les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1=A1*B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000000"/>
                </a:solidFill>
                <a:latin typeface="Arial"/>
              </a:rPr>
              <a:t>RELATÍV HIVATKOZÁ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Az olyan hivatkozást, amely másoláskor </a:t>
            </a:r>
            <a:r>
              <a:rPr b="1" lang="hu-HU" sz="5400" spc="-1" strike="noStrike">
                <a:solidFill>
                  <a:srgbClr val="ff9900"/>
                </a:solidFill>
                <a:latin typeface="Arial"/>
              </a:rPr>
              <a:t>átváltozik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, RELATÍV HIVATKOZÁSnak nevezzü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Nincs je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86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ff9900"/>
                </a:solidFill>
                <a:latin typeface="Arial"/>
              </a:rPr>
              <a:t>Abszolút hivatkozá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0" y="3716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C2=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A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*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B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4745160"/>
            <a:ext cx="8642160" cy="211320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em akarjuk, hogy egy hivatkozás másoláskor megváltozzon, akkor védekeznünk kell elle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lyenkor a védeni kívánt cella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betűj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szám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elé egy-egy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“$ ”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jelet szúrunk be. Ekkor tetszőleges másoláskor is a cellánk hivatkozása változatlan mar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1=A1*B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ABSZOLÚT HIVATKOZÁ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Az olyan hivatkozást, amely másoláskor </a:t>
            </a:r>
            <a:r>
              <a:rPr b="1" lang="hu-HU" sz="4000" spc="-1" strike="noStrike">
                <a:solidFill>
                  <a:srgbClr val="ff9900"/>
                </a:solidFill>
                <a:latin typeface="Arial"/>
              </a:rPr>
              <a:t>nem változik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, ABSZOLÚT  HIVATKOZÁSnak nevezzü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z abszolút hivatkozást a </a:t>
            </a:r>
            <a:r>
              <a:rPr b="1" lang="hu-HU" sz="4800" spc="-1" strike="noStrike">
                <a:solidFill>
                  <a:srgbClr val="ff9900"/>
                </a:solidFill>
                <a:latin typeface="Arial"/>
              </a:rPr>
              <a:t>$ </a:t>
            </a: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(dollár) jel jelzi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betű és a szám elé is ki kell tenni!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86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ff9900"/>
                </a:solidFill>
                <a:latin typeface="Arial"/>
              </a:rPr>
              <a:t>Vegyes hivatkozá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16:25:38Z</dcterms:created>
  <dc:creator>Varga Zsuzsa</dc:creator>
  <dc:description/>
  <cp:keywords/>
  <dc:language>en-US</dc:language>
  <cp:lastModifiedBy>Gaspar Edit</cp:lastModifiedBy>
  <dcterms:modified xsi:type="dcterms:W3CDTF">2010-09-28T19:56:21Z</dcterms:modified>
  <cp:revision>12</cp:revision>
  <dc:subject/>
  <dc:title>CELLACÍMZÉSI MÓDOK A TÁBLÁZATKEZELŐ PROGRAMBAN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8</vt:lpwstr>
  </property>
</Properties>
</file>