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E6EE-DF0B-4ED0-A9DC-10C64A62B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1228-97AC-4408-845A-781287304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8F32-F1A7-41BA-BB24-944E58FD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0B89-754F-4041-B90F-315B0A65E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E5045-B133-429D-8138-CB542156B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5390C-0003-448F-8855-03555E606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44DC1-9BD6-4866-AB34-CC1AE4554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73CBA-6633-436B-BA52-ACF610EAB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8C51-FE71-4DD4-9BD8-3EE4AD5C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90C6-EE5C-47E1-B20F-6692A6CD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7E94-A04B-4A88-AA7C-630EF93F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709E-644A-42A2-80DF-F95676AE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0832-D488-4480-A0BD-50DC23CE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BC8E-B2C4-434B-8DB8-EB7C51E4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AA93-14B0-4671-AB02-D7A0ABCFD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DDB4-2FA6-46FE-A5C0-558800D0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8034-F969-4858-A257-91F5C42C6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C864F-4573-4EE4-87FC-A25BC81FE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8FA61-E0AD-4E58-8DDE-537EC0DE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286EB-D72B-4FBF-BDCA-9C413C748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63961-58E8-4B9B-978A-3608958C6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0B802-D98E-4F09-81E1-818DC1B6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A53F-14B5-4F6E-83F6-979A3DCDD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726FB-13B4-4D03-ABDF-4208ED58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55BEF0-5927-4A16-8299-9AA60206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C2D29-A3C8-4244-B3A4-561175E1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390E6-F672-4423-8A79-3B7BDFC6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43004-D646-4451-85B9-AEFC936E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2DF4D-D2F2-4CB3-A93B-184CEDA53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99849-4626-4DE4-8799-CFB0932F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64FC32-7372-438B-82E5-D3FF5191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2AE07-6A65-4449-9107-C7822A25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A2B1C-47E5-4231-AF99-46892B92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053F-AAC3-4B8B-8FDF-A8D9500D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C0C71-6A37-4E65-BAB8-E146C880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4E549-28A2-45A4-ACDB-30A612BD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5EA87-F118-4867-A733-4A390ABF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2EF0D-5134-4AE3-8D21-E5C90DB9B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24921D-942C-4EA8-84A3-BF7D2C02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0A33F4-28A1-4564-BED3-C8071C6D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E9622-8FFE-4FDE-855D-0E07BDA70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E1942-0CD5-420F-9256-27C4B507A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38D69-2D6F-4F78-9206-4F3750BCB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3F73-7C12-408D-BAEA-CA4D4AA2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0962-25E8-4FED-97C6-F11D6B1C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80F5-8B25-4A5D-85EA-F905453C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8BB1-8A94-470C-BDB4-066A836E0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BE1E-D407-4CBF-90B1-A9E01C8D3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ă liberă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ă liberă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AD7A-E53D-4CBA-AFAE-FAEF77417C22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ar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ă liberă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ă liberă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ă liberă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ă liberă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ă liberă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rmă liberă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upar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ă liberă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ormă liberă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ormă liberă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ormă liberă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7983-7CBA-4846-AFEF-63681C5A5FDA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ă liberă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ă liberă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upar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ă liberă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ormă liberă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ormă liberă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ormă liberă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E3643-D398-4D5E-9A53-3469D13E9926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reptunghi cu un colţ tăiat şi rotunjit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riunghi drept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rmă liberă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rmă liberă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3E27-D834-4334-8499-8C816E7DFF98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u 1" descr=""/>
          <p:cNvPicPr/>
          <p:nvPr/>
        </p:nvPicPr>
        <p:blipFill>
          <a:blip r:embed="rId2"/>
          <a:stretch/>
        </p:blipFill>
        <p:spPr>
          <a:xfrm>
            <a:off x="1852560" y="743040"/>
            <a:ext cx="7456680" cy="2158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clock.gif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6757920" y="4429080"/>
            <a:ext cx="2386080" cy="228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clock1.jpg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357120" y="1000080"/>
            <a:ext cx="2011320" cy="2068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pieces.JPG"/>
          <p:cNvPicPr/>
          <p:nvPr/>
        </p:nvPicPr>
        <p:blipFill>
          <a:blip r:embed="rId5"/>
          <a:stretch/>
        </p:blipFill>
        <p:spPr>
          <a:xfrm>
            <a:off x="2214720" y="4071960"/>
            <a:ext cx="2593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7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HÓNAP(dátumérték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28760" y="16426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dátumérték argumentumnak megfelelő hónap értéket adja eredményü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hónap értékét az 1...12 tartományba eső egész értékként kapja (1=január, ..., 12=december)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z a dátum, amelynek hónap értékét keresi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Dátumok bevitele a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átum függvénnyel, illetve más képletek vagy függvé-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nyek eredményeké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lehetség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3" descr="Új kép (5).bmp"/>
          <p:cNvPicPr/>
          <p:nvPr/>
        </p:nvPicPr>
        <p:blipFill>
          <a:blip r:embed="rId2"/>
          <a:stretch/>
        </p:blipFill>
        <p:spPr>
          <a:xfrm>
            <a:off x="4214880" y="4429080"/>
            <a:ext cx="4643280" cy="2271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5480" y="71388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8. NETWORKDAYS (kezdő-dátum, vég-dátum, ünnepek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85480" y="2071800"/>
            <a:ext cx="86439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összes munkanap számát adja meg a kezdő-dátum és a vég-dátum között. Nem tartoznak a munkanapok közé a hétvégi és a munkaszüneti napok. A networkdays függvény például felhasználható két dátum közötti munkanapoktól függő alkalmazotti járulék számításár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Kezdő-dátum: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a kezdő dátumnak megfelelő érté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b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Vég-dátum: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a befejező dátumnak megfelelő érté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c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Ünnepek: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egy vagy több dátumérték, amelyet a két dátum közötti időszakból ki kell zárni (állami ünnepnapok, bankszü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nap stb.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Content Placeholder 3" descr="Új kép (6).bmp"/>
          <p:cNvPicPr/>
          <p:nvPr/>
        </p:nvPicPr>
        <p:blipFill>
          <a:blip r:embed="rId2"/>
          <a:stretch/>
        </p:blipFill>
        <p:spPr>
          <a:xfrm>
            <a:off x="285840" y="1143000"/>
            <a:ext cx="8429400" cy="529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9. MOST függvén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14200" y="1642680"/>
            <a:ext cx="8715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z a témakör a Microsoft Office Excel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MOST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függvényé-nek képletszintaxisát és használatát mutatja b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aktuális dátum- és időértéket adja eredményül sorszám formájába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a a cella formátuma 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Általános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volt a függvény beírása előtt, az Excel módosítja ugyanarra a dátum- és időformá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tumra, amely az eredeti területi dátum- és időbeállítások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ban van megadva 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vezérlőpult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A cella dátum- és időformátumát a menüszalag </a:t>
            </a:r>
            <a:r>
              <a:rPr b="1" i="1" lang="hu-HU" sz="2600" spc="-1" strike="noStrike">
                <a:solidFill>
                  <a:srgbClr val="000000"/>
                </a:solidFill>
                <a:latin typeface="Constantia"/>
              </a:rPr>
              <a:t>Kezdőlap 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lapjának </a:t>
            </a:r>
            <a:r>
              <a:rPr b="1" i="1" lang="hu-HU" sz="2600" spc="-1" strike="noStrike">
                <a:solidFill>
                  <a:srgbClr val="000000"/>
                </a:solidFill>
                <a:latin typeface="Constantia"/>
              </a:rPr>
              <a:t>Szám 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szakaszában lévő parancsokkal módosít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hatj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uk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2876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MOST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függvény akkor hasznos, ha az aktuális dátumot és időt kell megjeleníteni egy munkalapon, vagy ha ezek alapján kell kiszámítani egy értéket, és az értéket mindig frissíteni kell a munkalap megnyitása-kor. Ha a 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MOST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függvény nem frissíti a cellaértékeket a várt időben, módosítani kell a munkafüzet vagy munkalap újraszámítási beállításai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OS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függvényszintaxisnak nincs argumentum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- (érték, amely egy művelethez, eseményhez, metódus-hoz, tulajdonsághoz, függvényhez vagy eljáráshoz biztosít információt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58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0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MPERC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(időérték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28760" y="192888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időérték argumentumnak megfelelő másodperc értéket adja eredményül 0 és 59 közötti egész szám formájába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3" descr="Új kép (7).bmp"/>
          <p:cNvPicPr/>
          <p:nvPr/>
        </p:nvPicPr>
        <p:blipFill>
          <a:blip r:embed="rId2"/>
          <a:stretch/>
        </p:blipFill>
        <p:spPr>
          <a:xfrm>
            <a:off x="3357720" y="2857680"/>
            <a:ext cx="5578200" cy="3790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1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IDŐ(óra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perc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mperc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0040" y="17146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adott időponthoz tartozó tizedestörtet adja eredményü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a a cellaformátum a függvény bevitele előt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Általá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nos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volt, az eredmény dátumként lesz formázv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Óra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23-nál nagyobb értékeket a program elosztja 24-gyel, a maradék lesz az óra érték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Perc: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Az 59-nél nagyobb értékeket a program órákká és percekké alakítj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Content Placeholder 3" descr="Új kép (8).bmp"/>
          <p:cNvPicPr/>
          <p:nvPr/>
        </p:nvPicPr>
        <p:blipFill>
          <a:blip r:embed="rId2"/>
          <a:stretch/>
        </p:blipFill>
        <p:spPr>
          <a:xfrm>
            <a:off x="3000240" y="3214800"/>
            <a:ext cx="5931000" cy="3267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4" name="Rectangle 2"/>
          <p:cNvSpPr/>
          <p:nvPr/>
        </p:nvSpPr>
        <p:spPr>
          <a:xfrm>
            <a:off x="285840" y="1285920"/>
            <a:ext cx="8358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Mperc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59-nél nagyobb értékeket a program órákká, percekké és másodpercekké alakítj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2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IDŐÉRTÉK(idő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szöveg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idő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szövegben megadott időt időértékként adja vissz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visszaadott érték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0:00:00 é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23:59:59 időpontoknak felelnek me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3" descr="Új kép (9).bmp"/>
          <p:cNvPicPr/>
          <p:nvPr/>
        </p:nvPicPr>
        <p:blipFill>
          <a:blip r:embed="rId2"/>
          <a:stretch/>
        </p:blipFill>
        <p:spPr>
          <a:xfrm>
            <a:off x="2143080" y="4143240"/>
            <a:ext cx="6550200" cy="187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3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MA függvén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M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függvény akkor hasznos, ha az aktuális dátumot kell megjeleníteni egy munkalap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függvény időtartamok számításához is használható. Példáu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ha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valaki 1963-ban született, a következő képlettel kiszámíthatja a személy életkorát az idei születésnapján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ÉV(MA())-196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z a képlet a 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M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függvényt az 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ÉV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függvény argumentumaként használva adja vissza az aktuális évet, majd kivonja azt az 1963-ból, visszaadva a személy életkorá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04617b"/>
                </a:solidFill>
                <a:latin typeface="Comic Sans MS"/>
              </a:rPr>
              <a:t>Cserey-Goga” Iskolacsoport, Kraszn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7120" y="1856880"/>
            <a:ext cx="6786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Oszt</a:t>
            </a:r>
            <a:r>
              <a:rPr b="1" lang="hu-HU" sz="2600" spc="-1" strike="noStrike" u="sng">
                <a:solidFill>
                  <a:srgbClr val="000000"/>
                </a:solidFill>
                <a:uFillTx/>
                <a:latin typeface="Constantia"/>
              </a:rPr>
              <a:t>ály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.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soporttagok: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Kocsis Anna-M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r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Lucza Eszter-Orsoly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Mocan Cristian-Miha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Pap Árpád-Zsol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Pap Imol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 u="sng">
                <a:solidFill>
                  <a:srgbClr val="000000"/>
                </a:solidFill>
                <a:uFillTx/>
                <a:latin typeface="Constantia"/>
              </a:rPr>
              <a:t>Kisegitő tanár: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Gáspár Edi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285840" y="8568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M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függvényszintaxisnak nincs argumentum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3" descr="Új kép (10).bmp"/>
          <p:cNvPicPr/>
          <p:nvPr/>
        </p:nvPicPr>
        <p:blipFill>
          <a:blip r:embed="rId2"/>
          <a:stretch/>
        </p:blipFill>
        <p:spPr>
          <a:xfrm>
            <a:off x="2714760" y="1928880"/>
            <a:ext cx="5592600" cy="3952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2560" y="499680"/>
            <a:ext cx="871524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4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HÉTNAPJA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(dátumérték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ered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mény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típusa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14200" y="2071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dátumértéknek megfelelő napot adja eredményül. A visszaadott érték 1 és 7 közötti egész szám, amely alapértelmezés szerint a vasárnap (1), illetve a szombat (7) megfelelőj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Dátumok bevitele a DÁTUM függvénnyel,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má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képl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tek vag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függvények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redményeké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lehetsége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Picture 3" descr="Új kép (11).bmp"/>
          <p:cNvPicPr/>
          <p:nvPr/>
        </p:nvPicPr>
        <p:blipFill>
          <a:blip r:embed="rId2"/>
          <a:stretch/>
        </p:blipFill>
        <p:spPr>
          <a:xfrm>
            <a:off x="3571920" y="4214880"/>
            <a:ext cx="5369040" cy="242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4200" y="7045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5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WEEKNUM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(dátumérték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vis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z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sza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típus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Visszatérési értéke egy szám, amely azt mutatja meg, hogy a megadott dátum az év hányadik hetére esi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Dátumérték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vizsgált dátum.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b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Vissza_típus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s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zám, amely a hét kezdőnapját adja meg. Alapértéke 1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3" descr="Új kép.bmp"/>
          <p:cNvPicPr/>
          <p:nvPr/>
        </p:nvPicPr>
        <p:blipFill>
          <a:blip r:embed="rId2"/>
          <a:stretch/>
        </p:blipFill>
        <p:spPr>
          <a:xfrm>
            <a:off x="2214720" y="4500720"/>
            <a:ext cx="6551280" cy="1676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4200" y="92844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6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WORKDAY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(kezdő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dátum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na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pok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ünnepek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42920" y="2142720"/>
            <a:ext cx="8786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kezdő_dátumot megadott számú munkanappal megelőző vagy követő dátum értékét adja vissza. A munkanapokba nem számítanak bele a hétvégék és az ünnepként megadott dátumo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Kezdő_dátum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kezdő dátumnak megfelelő érté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Napok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kezdő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dátum előtti vagy utáni munkanapok száma. Pozitív érték megadása jövőbeni, míg a negatív érték korábbi időpontot jelö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42920" y="642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)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Ünnepek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gy vagy több dátumérték, amelyet a két dátum közötti időszakból ki kell zárni (állami ünnepnapok, bankszünnap stb.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lista lehet a dátumokat tartalmazó cellatartomány vagy dátumértékek tömbállandój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olyan állandók csoportja, amel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képletekbe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rgumentumkén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asználható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3" descr="Új kép.bmp"/>
          <p:cNvPicPr/>
          <p:nvPr/>
        </p:nvPicPr>
        <p:blipFill>
          <a:blip r:embed="rId2"/>
          <a:stretch/>
        </p:blipFill>
        <p:spPr>
          <a:xfrm>
            <a:off x="3071880" y="2786040"/>
            <a:ext cx="5889600" cy="3882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7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ÉV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(dátumérték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714320"/>
            <a:ext cx="822960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dátumértéknek megfelelő évet adja eredményü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Dátumérték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z a dátum, amelynek év értékét keres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Picture 3" descr="Új kép.bmp"/>
          <p:cNvPicPr/>
          <p:nvPr/>
        </p:nvPicPr>
        <p:blipFill>
          <a:blip r:embed="rId2"/>
          <a:stretch/>
        </p:blipFill>
        <p:spPr>
          <a:xfrm>
            <a:off x="3357720" y="3214800"/>
            <a:ext cx="5073480" cy="2589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4200" y="7045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8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YEARFRAC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(kezdő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dátum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vég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dátum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alap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42920" y="1856880"/>
            <a:ext cx="8786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kezdő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dátum és a vég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dátum közötti teljes napok számát adja meg törtévké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Kezdő_dátum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kezdő dátumnak megfelelő érté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Vég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dátum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befejező dátumnak megfelelő érté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Alap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napok kiszámítására használt módsze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kódszám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3" descr="Új kép.bmp"/>
          <p:cNvPicPr/>
          <p:nvPr/>
        </p:nvPicPr>
        <p:blipFill>
          <a:blip r:embed="rId2"/>
          <a:stretch/>
        </p:blipFill>
        <p:spPr>
          <a:xfrm>
            <a:off x="3286080" y="4214880"/>
            <a:ext cx="5372280" cy="2543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Datum es ido fuggvenyekkel vegzett feladatok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2378160"/>
            <a:ext cx="822960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)Az A3 cellaba ird ki az aktualis datumot es idot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2590920" y="2971800"/>
            <a:ext cx="5105160" cy="31338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)Szamold ki hany nap es hany munkanap van 2010 szeptember 13 es 2011 junius 17 kozott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)Keszits tablazatot,amelyben kiszamolod,hogy hany nap telt el szuletesetek napjatol az aktualis datumig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.)Keszitsd el a kovetkezo tablazatot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2124000" y="3789360"/>
            <a:ext cx="431964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39640" y="713880"/>
            <a:ext cx="4319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5000" spc="-1" strike="noStrike" u="sng">
                <a:solidFill>
                  <a:srgbClr val="04617b"/>
                </a:solidFill>
                <a:uFillTx/>
                <a:latin typeface="Calibri"/>
              </a:rPr>
              <a:t>KÖNYVÉSZET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28400" y="2356920"/>
            <a:ext cx="5329080" cy="16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ttp://office.microsoft.c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ttp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google.h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6" name="Picture 3" descr="Új kép.bmp"/>
          <p:cNvPicPr/>
          <p:nvPr/>
        </p:nvPicPr>
        <p:blipFill>
          <a:blip r:embed="rId2"/>
          <a:stretch/>
        </p:blipFill>
        <p:spPr>
          <a:xfrm>
            <a:off x="3143160" y="3857760"/>
            <a:ext cx="5357880" cy="205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. </a:t>
            </a: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D</a:t>
            </a:r>
            <a:r>
              <a:rPr b="0" lang="hu-HU" sz="5000" spc="-1" strike="noStrike" u="sng">
                <a:solidFill>
                  <a:srgbClr val="04617b"/>
                </a:solidFill>
                <a:uFillTx/>
                <a:latin typeface="Calibri"/>
              </a:rPr>
              <a:t>átum függvény (date)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dátum függvény a megadott dátumnak megfelelő so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számot adja eredményü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éldául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: dátum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(2010;10;7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dátum függvény olyan helyzetekben lehet hasznos, ahol az év, hónap és nap adatok képletekből vagy cellahivatkozásokból származnak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gy olyan munkalap esetében például, amely az Excel által nem ismert formátummal (például ÉÉÉÉHHNN) megadott dátumokat tartalmaz, a dátum függvény más függvényekkel együtt történő használatával átalakíthatja a dátumokat az Excel által is felismert sorszámokká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2. </a:t>
            </a:r>
            <a:r>
              <a:rPr b="0" lang="hu-HU" sz="5000" spc="-1" strike="noStrike" u="sng">
                <a:solidFill>
                  <a:srgbClr val="04617b"/>
                </a:solidFill>
                <a:uFillTx/>
                <a:latin typeface="Calibri"/>
              </a:rPr>
              <a:t>Dátumérték függvén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7120" y="185688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dátumérték függvény egy szöveges formában tárolt dátumot alakít át az Excel által dátumként felismert sorszámmá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éldául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dátumérték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(2010.10.07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dátumérték függvény olyan esetekben hasznos, amikor egy munkalapon szövegszerűen tárolt dátumadatokat kell dátumként szűrni, rendezni, formázni vagy dátumszámításban felhasználn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3. </a:t>
            </a:r>
            <a:r>
              <a:rPr b="0" lang="hu-HU" sz="5000" spc="-1" strike="noStrike" u="sng">
                <a:solidFill>
                  <a:srgbClr val="04617b"/>
                </a:solidFill>
                <a:uFillTx/>
                <a:latin typeface="Calibri"/>
              </a:rPr>
              <a:t>NAP (dátumérték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a dátum, amelynek nap értékét keresi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Dátumok bevitele a DÁTUM függvénnyel, illetve más képletek vagy függvények eredményeként lehetség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éldául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2010. október 7. dátum beírására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asználj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dátum(2010;10;7) függvény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3" descr="Új kép.bmp"/>
          <p:cNvPicPr/>
          <p:nvPr/>
        </p:nvPicPr>
        <p:blipFill>
          <a:blip r:embed="rId2"/>
          <a:stretch/>
        </p:blipFill>
        <p:spPr>
          <a:xfrm>
            <a:off x="4786200" y="4000680"/>
            <a:ext cx="4000680" cy="250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4. Nap360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57120" y="2214360"/>
            <a:ext cx="82296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Nap360 függvény két dátum közötti napok számát adja eredményül, 360 napos évet (tizenkét 30 napos hónap) véve alapul, ami bizonyos könyvelési számításoknál használatos. Ez a függvény kifizetések kiszámítására használható, ha 30 napos hónapokon alapuló könyvelést haszná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9284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5. EDATE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/EOMONTH</a:t>
            </a: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(kezdő-dátum,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hónapok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920" y="2214360"/>
            <a:ext cx="88581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függvény a megadott számú hónappal a kezdő-dátum előtti illetve utáni dátumértéket adja eredményül. Az EDATE a megfelelő hónapban a kibocsátás napjával azonos napra eső lejárati vagy esedékességi időpont kiszámítására használható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)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 Kezdő-dátum: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kezdő dátumnak megfelelő érték. Dátumok bevitele a dátum függvénnyel, illetve más képletek vagy függvények eredményeként lehetséges. A 2010. október 7. dátum beírására használja például a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á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um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(2010;10;7) függvény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57120" y="92880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Hónapok: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a kezdő-dátum előtti vagy utáni hónapok száma. Pozitív érték megadása jövőbeni, míg a negatív érték korábbi idő pontot jelö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4" descr="Új kép (1)1.bmp"/>
          <p:cNvPicPr/>
          <p:nvPr/>
        </p:nvPicPr>
        <p:blipFill>
          <a:blip r:embed="rId2"/>
          <a:stretch/>
        </p:blipFill>
        <p:spPr>
          <a:xfrm>
            <a:off x="357120" y="3500280"/>
            <a:ext cx="4062600" cy="2714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4" name="Picture 6" descr="Új kép (2).bmp"/>
          <p:cNvPicPr/>
          <p:nvPr/>
        </p:nvPicPr>
        <p:blipFill>
          <a:blip r:embed="rId3"/>
          <a:stretch/>
        </p:blipFill>
        <p:spPr>
          <a:xfrm>
            <a:off x="4857840" y="2643120"/>
            <a:ext cx="3952800" cy="2532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6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ÓRA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/PERC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(időérték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13840" y="1714680"/>
            <a:ext cx="8643960" cy="178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A függvény az időérték argumentumnak megfelelő óra értéket adja eredményül 0 és 23 közötti egész szám formájában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A keresett órát tartalmazó időpont. Az időadatok megadhatók szövegként idézőjelek között vagy számként, illetve más képletek vagy függvények eredményekén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3" descr="Új kép (3).bmp"/>
          <p:cNvPicPr/>
          <p:nvPr/>
        </p:nvPicPr>
        <p:blipFill>
          <a:blip r:embed="rId2"/>
          <a:stretch/>
        </p:blipFill>
        <p:spPr>
          <a:xfrm>
            <a:off x="357120" y="3786120"/>
            <a:ext cx="4070520" cy="282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8" name="Picture 5" descr="Új kép (4).bmp"/>
          <p:cNvPicPr/>
          <p:nvPr/>
        </p:nvPicPr>
        <p:blipFill>
          <a:blip r:embed="rId3"/>
          <a:stretch/>
        </p:blipFill>
        <p:spPr>
          <a:xfrm>
            <a:off x="4929120" y="4143240"/>
            <a:ext cx="3884760" cy="2257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0:41:11Z</dcterms:created>
  <dc:creator>user</dc:creator>
  <dc:description/>
  <dc:language>en-US</dc:language>
  <cp:lastModifiedBy>dac</cp:lastModifiedBy>
  <dcterms:modified xsi:type="dcterms:W3CDTF">2010-10-11T17:37:32Z</dcterms:modified>
  <cp:revision>30</cp:revision>
  <dc:subject/>
  <dc:title>“Dátum es idő“ függvények</dc:title>
</cp:coreProperties>
</file>