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39042-A6AF-496E-B8B4-42E7917B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F037-6BD7-4BA1-A916-DD20BFE1C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495-8561-4277-83E8-53CA31B1E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D232-BD87-4857-BDBB-7FA0FF470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7F10A-3147-4F0C-A434-21310763C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31B0-3570-4881-BABD-8AA0A1BDD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6C9A-2A0B-4540-9D4E-ECE28ED5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BCAED-A901-434D-9D8C-1A68112F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43622-AF0E-4015-9730-4D69CDDA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0109B-A340-4160-9E43-7D232B5EF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CA3C7-E104-47A9-B444-81BBF325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D4595-B265-4B87-AEDF-E065745A0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830A-11F8-40FC-A386-AE534CEB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24D7-F375-4B13-96E1-D261EA42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4FC00-9AC4-4E00-B753-6C466E55F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92974-8D06-4732-AB03-EBABF00E2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0C666-F0D8-4930-848D-C823BB83F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81C907-AA20-42F0-AB34-A1D415D16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481DB-D7B5-4EF7-9207-D75C91FE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58FFB3-C8A4-4450-AA8A-70E35DBA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AE3EDF-B770-4DC5-A85E-1EAB48E5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59DD6-BAC0-4DE4-8278-55667163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BAAB-E334-48AB-9E41-2FCF92BA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07E2D-6D2C-41C4-80A9-F2B939BCC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ABA510-E7B2-476E-8986-9C921F20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5A79FE-8874-42A1-8ACC-AEBE1718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262C7-631C-42C2-BF36-55126066D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F7FE-611F-4435-805F-20B7025F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390AFE-4BE7-4B33-B716-948244B5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03F59-F1D6-4656-BEBF-292345B0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98244-680F-498D-A375-39E96780E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9DA57-F640-40F6-988E-DAC1AC86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3EE23B-4FFC-49B9-B2C6-F2AAD05B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F6B9-C2AF-4E5B-A122-4CB08221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05B91-57C8-4400-A33A-3B27D07C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10F37-1D6B-456C-AF0A-707A860F0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33901-443D-40E8-A364-4462CB701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E6EE0-AAC1-406B-982E-F181EEF1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358D5C-F568-44C5-A2CD-39EF5A24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BB8986-A7FD-4B31-BC69-31FF6DB2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453C84-1EC7-45EE-AB67-FADFBCD17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4F123-F198-42D2-9B93-E9F26ACA9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75569-E839-482E-A11F-8E8FDB1B8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6E83-3991-4692-95E3-3C5F333B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4454F-E124-442B-9B3E-514322DE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2E46-A85B-4860-8D38-BBF48214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69BB-0770-4009-A515-65384A7C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A89F-F16E-4D50-82C9-619A6069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790C-C7D6-4322-A828-036585710D0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A62B5-645C-4D5C-A96B-3DB7950CED4B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0068E-BAAA-4D1B-9418-333097B9271E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cu un colţ tăiat şi rotunjit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unghi drept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ă liberă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ă liberă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165C-1859-4123-9EE4-6FDB0A090B2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2"/>
          <a:stretch/>
        </p:blipFill>
        <p:spPr>
          <a:xfrm>
            <a:off x="1852560" y="743040"/>
            <a:ext cx="745668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lock.gif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757920" y="4429080"/>
            <a:ext cx="23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ck1.jp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357120" y="1000080"/>
            <a:ext cx="2011320" cy="206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pieces.JPG"/>
          <p:cNvPicPr/>
          <p:nvPr/>
        </p:nvPicPr>
        <p:blipFill>
          <a:blip r:embed="rId5"/>
          <a:stretch/>
        </p:blipFill>
        <p:spPr>
          <a:xfrm>
            <a:off x="2214720" y="4071960"/>
            <a:ext cx="259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ÓNAP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760" y="164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 argumentumnak megfelelő hónap érték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ónap értékét az 1...12 tartományba eső egész értékként kapja (1=január, ..., 12=december)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hó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tum függvénnyel, illetve más képletek vagy függvé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ek 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Új kép (5).bmp"/>
          <p:cNvPicPr/>
          <p:nvPr/>
        </p:nvPicPr>
        <p:blipFill>
          <a:blip r:embed="rId2"/>
          <a:stretch/>
        </p:blipFill>
        <p:spPr>
          <a:xfrm>
            <a:off x="4214880" y="4429080"/>
            <a:ext cx="464328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8. NETWORKDAYS (kezdő-dátum, vég-dátum, ünnepe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480" y="2071800"/>
            <a:ext cx="86439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összes munkanap számát adja meg a kezdő-dátum és a vég-dátum között. Nem tartoznak a munkanapok közé a hétvégi és a munkaszüneti napok. A networkdays függvény például felhasználható két dátum közötti munkanapoktól függő alkalmazotti járulék számításá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egy vagy több dátumérték, amelyet a két dátum közötti időszakból ki kell zárni (állami ünnepnapok, bankszü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ap stb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3" descr="Új kép (6).bmp"/>
          <p:cNvPicPr/>
          <p:nvPr/>
        </p:nvPicPr>
        <p:blipFill>
          <a:blip r:embed="rId2"/>
          <a:stretch/>
        </p:blipFill>
        <p:spPr>
          <a:xfrm>
            <a:off x="285840" y="1143000"/>
            <a:ext cx="8429400" cy="529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9. MOST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4200" y="16426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témakör a Microsoft Office Excel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é-nek képletszintaxisát és használatát mutatja b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ktuális dátum- és időértéket adja eredményül sorszám formájáb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 formátum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 a függvény beírása előtt, az Excel módosítja ugyanarra a dátum- és időfor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umra, amely az eredeti területi dátum- és időbeállításo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an van megadva 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ezérlőpult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A cella dátum- és időformátumát a menüszalag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Kezdőlap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lapjának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Szám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szakaszában lévő parancsokkal módosít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atj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k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és időt kell megjeleníteni egy munkalapon, vagy ha ezek alapján kell kiszámítani egy értéket, és az értéket mindig frissíteni kell a munkalap megnyitása-kor. Ha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nem frissíti a cellaértékeket a várt időben, módosítani kell a munkafüzet vagy munkalap újraszámítási beállítása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függvényszintaxisnak nincs argumentu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- (érték, amely egy művelethez, eseményhez, metódus-hoz, tulajdonsághoz, függvényhez vagy eljáráshoz biztosít információt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0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19288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érték argumentumnak megfelelő másodperc értéket adja eredményül 0 és 59 közötti egész szám formájáb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Új kép (7).bmp"/>
          <p:cNvPicPr/>
          <p:nvPr/>
        </p:nvPicPr>
        <p:blipFill>
          <a:blip r:embed="rId2"/>
          <a:stretch/>
        </p:blipFill>
        <p:spPr>
          <a:xfrm>
            <a:off x="3357720" y="2857680"/>
            <a:ext cx="5578200" cy="37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1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(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dott időponthoz tartozó tizedestört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formátum a függvény bevitele előt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, az eredmény dátumként lesz formáz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Óra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3-nál nagyobb értékeket a program elosztja 24-gyel, a maradék lesz az óra érték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Perc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z 59-nél nagyobb értékeket a program órákká és 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Content Placeholder 3" descr="Új kép (8).bmp"/>
          <p:cNvPicPr/>
          <p:nvPr/>
        </p:nvPicPr>
        <p:blipFill>
          <a:blip r:embed="rId2"/>
          <a:stretch/>
        </p:blipFill>
        <p:spPr>
          <a:xfrm>
            <a:off x="3000240" y="3214800"/>
            <a:ext cx="5931000" cy="32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4" name="Rectangle 2"/>
          <p:cNvSpPr/>
          <p:nvPr/>
        </p:nvSpPr>
        <p:spPr>
          <a:xfrm>
            <a:off x="285840" y="1285920"/>
            <a:ext cx="835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perc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59-nél nagyobb értékeket a program órákká, percekké és másod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2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ÉRTÉK(i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öveg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övegben megadott időt időértékként adja viss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visszaadott 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0:00:00 é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3:59:59 időpontoknak felelnek m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Új kép (9).bmp"/>
          <p:cNvPicPr/>
          <p:nvPr/>
        </p:nvPicPr>
        <p:blipFill>
          <a:blip r:embed="rId2"/>
          <a:stretch/>
        </p:blipFill>
        <p:spPr>
          <a:xfrm>
            <a:off x="2143080" y="4143240"/>
            <a:ext cx="655020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3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A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kell megjeleníteni egy munkalap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időtartamok számításához is használható. Példáu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h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alaki 1963-ban született, a következő képlettel kiszámíthatja a személy életkorát az idei születésnapjá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(MA())-196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képlet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t az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rgumentumaként használva adja vissza az aktuális évet, majd kivonja azt az 1963-ból, visszaadva a személy életkorá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Cserey-Goga” Iskolacsoport, Krasz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7120" y="1856880"/>
            <a:ext cx="678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zt</a:t>
            </a: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á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.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soporttagok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Kocsis Anna-M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Lucza Eszter-Orsoly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Mocan Cristian-Miha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Árpád-Zsol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Imo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Kisegitő tanár: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Gáspár Ed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85840" y="856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szintaxisnak nincs argumentu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Új kép (10).bmp"/>
          <p:cNvPicPr/>
          <p:nvPr/>
        </p:nvPicPr>
        <p:blipFill>
          <a:blip r:embed="rId2"/>
          <a:stretch/>
        </p:blipFill>
        <p:spPr>
          <a:xfrm>
            <a:off x="2714760" y="1928880"/>
            <a:ext cx="5592600" cy="39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499680"/>
            <a:ext cx="871524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4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ÉTNAPJ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ere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én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napot adja eredményül. A visszaadott érték 1 és 7 közötti egész szám, amely alapértelmezés szerint a vasárnap (1), illetve a szombat (7) megfelelő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ép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ek va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e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3" descr="Új kép (11).bmp"/>
          <p:cNvPicPr/>
          <p:nvPr/>
        </p:nvPicPr>
        <p:blipFill>
          <a:blip r:embed="rId2"/>
          <a:stretch/>
        </p:blipFill>
        <p:spPr>
          <a:xfrm>
            <a:off x="3571920" y="4214880"/>
            <a:ext cx="53690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5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EEKN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i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isszatérési értéke egy szám, amely azt mutatja meg, hogy a megadott dátum az év hányadik hetére esi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vizsgált dátum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issza_típus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ám, amely a hét kezdőnapját adja meg. Alapértéke 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Új kép.bmp"/>
          <p:cNvPicPr/>
          <p:nvPr/>
        </p:nvPicPr>
        <p:blipFill>
          <a:blip r:embed="rId2"/>
          <a:stretch/>
        </p:blipFill>
        <p:spPr>
          <a:xfrm>
            <a:off x="2214720" y="4500720"/>
            <a:ext cx="655128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4200" y="9284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ORKDA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o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ünnepe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2920" y="214272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_dátumot megadott számú munkanappal megelőző vagy követő dátum értékét adja vissza. A munkanapokba nem számítanak bele a hétvégék és az ünnepként megadott dátumo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apo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előtti vagy utáni munkanapok száma. Pozitív érték megadása jövőbeni, míg a negatív érték korábbi idő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2920" y="642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y vagy több dátumérték, amelyet a két dátum közötti időszakból ki kell zárni (állami ünnepnapok, bankszünnap stb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lista lehet a dátumokat tartalmazó cellatartomány vagy dátumértékek tömbállandó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lyan állandók csoportja, amel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épletekb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gumentumké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hat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Új kép.bmp"/>
          <p:cNvPicPr/>
          <p:nvPr/>
        </p:nvPicPr>
        <p:blipFill>
          <a:blip r:embed="rId2"/>
          <a:stretch/>
        </p:blipFill>
        <p:spPr>
          <a:xfrm>
            <a:off x="3071880" y="2786040"/>
            <a:ext cx="5889600" cy="38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ÉV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évet adja eredményü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év értékét kere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3" descr="Új kép.bmp"/>
          <p:cNvPicPr/>
          <p:nvPr/>
        </p:nvPicPr>
        <p:blipFill>
          <a:blip r:embed="rId2"/>
          <a:stretch/>
        </p:blipFill>
        <p:spPr>
          <a:xfrm>
            <a:off x="3357720" y="3214800"/>
            <a:ext cx="507348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8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YEARFRA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é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lap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2920" y="18568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és a vé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közötti teljes napok számát adja meg törtévké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Alap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napok kiszámítására használt módsz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ódszá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3" descr="Új kép.bmp"/>
          <p:cNvPicPr/>
          <p:nvPr/>
        </p:nvPicPr>
        <p:blipFill>
          <a:blip r:embed="rId2"/>
          <a:stretch/>
        </p:blipFill>
        <p:spPr>
          <a:xfrm>
            <a:off x="3286080" y="4214880"/>
            <a:ext cx="5372280" cy="25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Datum es ido fuggvenyekkel vegzett feladatok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37816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)Az A3 cellaba ird ki az aktualis datumot es ido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5105160" cy="3133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)Szamold ki hany nap es hany munkanap van 2010 szeptember 13 es 2011 junius 17 kozot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)Keszits tablazatot,amelyben kiszamolod,hogy hany nap telt el szuletesetek napjatol az aktualis datumi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)Keszitsd el a kovetkezo tablazatot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4319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39640" y="71388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KÖNYVÉSZET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400" y="2356920"/>
            <a:ext cx="532908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office.microsof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oogle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Új kép.bmp"/>
          <p:cNvPicPr/>
          <p:nvPr/>
        </p:nvPicPr>
        <p:blipFill>
          <a:blip r:embed="rId2"/>
          <a:stretch/>
        </p:blipFill>
        <p:spPr>
          <a:xfrm>
            <a:off x="3143160" y="3857760"/>
            <a:ext cx="5357880" cy="20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átum függvény (date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a megadott dátumnak megfelelő s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ámo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: dátum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;10;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olyan helyzetekben lehet hasznos, ahol az év, hónap és nap adatok képletekből vagy cellahivatkozásokból származna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 olyan munkalap esetében például, amely az Excel által nem ismert formátummal (például ÉÉÉÉHHNN) megadott dátumokat tartalmaz, a dátum függvény más függvényekkel együtt történő használatával átalakíthatja a dátumokat az Excel által is felismert sorszámokk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Dátumérték 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8568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egy szöveges formában tárolt dátumot alakít át az Excel által dátumként felismert sorszámmá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.10.07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olyan esetekben hasznos, amikor egy munkalapon szövegszerűen tárolt dátumadatokat kell dátumként szűrni, rendezni, formázni vagy dátumszámításban felhasznál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NAP 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 dátum, amelynek 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 illetve más képletek vagy függvények eredményeként lehetség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010. október 7. dátum beírásár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dátum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Új kép.bmp"/>
          <p:cNvPicPr/>
          <p:nvPr/>
        </p:nvPicPr>
        <p:blipFill>
          <a:blip r:embed="rId2"/>
          <a:stretch/>
        </p:blipFill>
        <p:spPr>
          <a:xfrm>
            <a:off x="4786200" y="4000680"/>
            <a:ext cx="40006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4. Nap36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120" y="22143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Nap360 függvény két dátum közötti napok számát adja eredményül, 360 napos évet (tizenkét 30 napos hónap) véve alapul, ami bizonyos könyvelési számításoknál használatos. Ez a függvény kifizetések kiszámítására használható, ha 30 napos hónapokon alapuló könyvelést haszná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5. EDAT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EOMONTH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(kezdő-dátum,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hónapo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2214360"/>
            <a:ext cx="8858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a megadott számú hónappal a kezdő-dátum előtti illetve utáni dátumértéket adja eredményül. Az EDATE a megfelelő hónapban a kibocsátás napjával azonos napra eső lejárati vagy esedékességi időpont kiszámítására használhat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Kezdő-dátum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 dátumnak megfelelő érték. Dátumok bevitele a dátum függvénnyel, illetve más képletek vagy függvények eredményeként lehetséges. A 2010. október 7. dátum beírására használja például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m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7120" y="9288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Hónap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-dátum előtti vagy utáni hónapok száma. Pozitív érték megadása jövőbeni, míg a negatív érték korábbi idő 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Új kép (1)1.bmp"/>
          <p:cNvPicPr/>
          <p:nvPr/>
        </p:nvPicPr>
        <p:blipFill>
          <a:blip r:embed="rId2"/>
          <a:stretch/>
        </p:blipFill>
        <p:spPr>
          <a:xfrm>
            <a:off x="357120" y="3500280"/>
            <a:ext cx="406260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4" name="Picture 6" descr="Új kép (2).bmp"/>
          <p:cNvPicPr/>
          <p:nvPr/>
        </p:nvPicPr>
        <p:blipFill>
          <a:blip r:embed="rId3"/>
          <a:stretch/>
        </p:blipFill>
        <p:spPr>
          <a:xfrm>
            <a:off x="4857840" y="2643120"/>
            <a:ext cx="3952800" cy="25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/PERC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3840" y="1714680"/>
            <a:ext cx="864396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üggvény az időérték argumentumnak megfelelő óra értéket adja eredményül 0 és 23 közötti egész szám formájába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eresett órát tartalmazó időpont. Az időadatok megadhatók szövegként idézőjelek között vagy számként, illetve más képletek vagy függvények eredményeké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Új kép (3).bmp"/>
          <p:cNvPicPr/>
          <p:nvPr/>
        </p:nvPicPr>
        <p:blipFill>
          <a:blip r:embed="rId2"/>
          <a:stretch/>
        </p:blipFill>
        <p:spPr>
          <a:xfrm>
            <a:off x="357120" y="3786120"/>
            <a:ext cx="40705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Picture 5" descr="Új kép (4).bmp"/>
          <p:cNvPicPr/>
          <p:nvPr/>
        </p:nvPicPr>
        <p:blipFill>
          <a:blip r:embed="rId3"/>
          <a:stretch/>
        </p:blipFill>
        <p:spPr>
          <a:xfrm>
            <a:off x="4929120" y="4143240"/>
            <a:ext cx="3884760" cy="22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41:11Z</dcterms:created>
  <dc:creator>user</dc:creator>
  <dc:description/>
  <dc:language>en-US</dc:language>
  <cp:lastModifiedBy>dac</cp:lastModifiedBy>
  <dcterms:modified xsi:type="dcterms:W3CDTF">2010-10-11T17:37:32Z</dcterms:modified>
  <cp:revision>30</cp:revision>
  <dc:subject/>
  <dc:title>“Dátum es idő“ függvények</dc:title>
</cp:coreProperties>
</file>