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E4D-524D-46BE-8DDE-C7AA7627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C68-8002-4E4C-A7CB-741F8C58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1DB-704B-48E0-BE37-4025A78F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AB1-ABDF-40AF-85A7-67B67713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7208-6F96-4526-907D-EF9A8ED7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6F17-5BD7-4CF6-8C9B-029461B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A8E7-90E6-43C4-898E-A295E7C1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65B-CE26-4D8D-99FA-3E01208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8E20-D2E8-4EC8-8FD8-032900AF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648D-6BFF-49DF-A9FA-44465CF9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3BAA-26B5-4BF9-9B9F-105A65E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022-6C3A-4EA8-9176-5F0E60F5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493C-531A-4E1C-8473-5269F6DF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97F-C747-49F2-ABEE-828D043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19E-A612-4ED2-8C57-4F27D34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D770-647A-446B-B64B-2D7A162C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F98F-582D-4452-84E7-8DB164C6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723D-1515-4824-910E-9D62ADA7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3D41-E7F3-4825-8B13-9081D4D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EC35-F53C-47BF-B100-D0351292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6A76-4379-4643-A25E-BF0FB8D7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E3B1-BBAF-4C6D-995B-427D0D51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C6B-CBAC-4BC7-8A61-D9D5E5BD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A5F0-AF97-4CF6-ABE9-C84D78A4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3C84-6CFA-4CA0-A1E2-708D7E9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544C-307C-4566-A201-713CDDC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AE8A-0B81-4EE7-8F79-AE5CF6D9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9CC5-7121-4115-91FA-9A90E3E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01271-3231-48F6-AB88-E346C97A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8EA9-8C6D-448E-9AA5-CD993564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65E39-21E1-4100-BEBE-B2A40439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88A6-69F6-45FB-A0F5-6F6412F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768F-8BAF-4EAF-BC07-5F6A8F6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637-71AD-4A5D-AB34-D6AE589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3AEB-5BA0-4658-B112-A9B61D5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403B-BF45-4036-872B-BD013DBB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4DDB-705F-4BDC-80A0-3802C837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8606-CF2C-4132-8DCF-1084D95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8260-A143-49ED-A824-11E9F7E4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135A-10E1-4A46-B5ED-F39A48E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A88F-9CDD-40B8-8A48-35A40A7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9318-EA6F-48C9-B0B9-437733F6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6078-2C42-41A4-8342-D6D5B84A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8EF-16BC-451E-9A73-3D9FF724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A03-3AA4-40DA-AD29-24BD7E06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63C-5AF2-425F-A0C3-29C4162A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B8F-9715-4542-AAA0-74E57D88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28C-AF65-4F42-BC39-F02A1A2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24F5-C814-4D04-A3EC-5AB331A3838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AC3D-3573-4362-84B3-EFC0CE18FEB2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63CB-B79F-4FB2-85B4-8A44B314114D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2B1-6824-4E02-97F4-34C12BD74D4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2"/>
          <a:stretch/>
        </p:blipFill>
        <p:spPr>
          <a:xfrm>
            <a:off x="1852560" y="743040"/>
            <a:ext cx="745668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lock.gif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757920" y="442908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ck1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57120" y="1000080"/>
            <a:ext cx="2011320" cy="20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ieces.JPG"/>
          <p:cNvPicPr/>
          <p:nvPr/>
        </p:nvPicPr>
        <p:blipFill>
          <a:blip r:embed="rId5"/>
          <a:stretch/>
        </p:blipFill>
        <p:spPr>
          <a:xfrm>
            <a:off x="2214720" y="4071960"/>
            <a:ext cx="259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ÓNAP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760" y="164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 argumentumnak megfelelő hónap érték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ónap értékét az 1...12 tartományba eső egész értékként kapja (1=január, ..., 12=december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hó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tum függvénnyel, illetve más képletek vagy függvé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ek 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Új kép (5).bmp"/>
          <p:cNvPicPr/>
          <p:nvPr/>
        </p:nvPicPr>
        <p:blipFill>
          <a:blip r:embed="rId2"/>
          <a:stretch/>
        </p:blipFill>
        <p:spPr>
          <a:xfrm>
            <a:off x="4214880" y="4429080"/>
            <a:ext cx="46432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8. NETWORKDAYS (kezdő-dátum, vég-dátum, ünnepe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480" y="2071800"/>
            <a:ext cx="86439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összes munkanap számát adja meg a kezdő-dátum és a vég-dátum között. Nem tartoznak a munkanapok közé a hétvégi és a munkaszüneti napok. A networkdays függvény például felhasználható két dátum közötti munkanapoktól függő alkalmazotti járulék számítás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egy vagy több dátumérték, amelyet a két dátum közötti időszakból ki kell zárni (állami ünnepnapok, bankszü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ap stb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3" descr="Új kép (6).bmp"/>
          <p:cNvPicPr/>
          <p:nvPr/>
        </p:nvPicPr>
        <p:blipFill>
          <a:blip r:embed="rId2"/>
          <a:stretch/>
        </p:blipFill>
        <p:spPr>
          <a:xfrm>
            <a:off x="285840" y="1143000"/>
            <a:ext cx="8429400" cy="529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9. MOST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4200" y="16426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témakör a Microsoft Office Exc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é-nek képletszintaxisát és használatát mutatja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ktuális dátum- és időértéket adja eredményül sorszám formájáb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 formátum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 a függvény beírása előtt, az Excel módosítja ugyanarra a dátum- és időfor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umra, amely az eredeti területi dátum- és időbeállításo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an van megadva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ezérlőpult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 cella dátum- és időformátumát a menüszalag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Kezdőlap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lapjának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Szám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szakaszában lévő parancsokkal módosí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atj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k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és időt kell megjeleníteni egy munkalapon, vagy ha ezek alapján kell kiszámítani egy értéket, és az értéket mindig frissíteni kell a munkalap megnyitása-kor. Ha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nem frissíti a cellaértékeket a várt időben, módosítani kell a munkafüzet vagy munkalap újraszámítási beállítása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függvényszintaxisnak nincs argumentu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- (érték, amely egy művelethez, eseményhez, metódus-hoz, tulajdonsághoz, függvényhez vagy eljáráshoz biztosít információ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0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9288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érték argumentumnak megfelelő másodperc értéket adja eredményül 0 és 59 közötti egész szám formájáb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Új kép (7).bmp"/>
          <p:cNvPicPr/>
          <p:nvPr/>
        </p:nvPicPr>
        <p:blipFill>
          <a:blip r:embed="rId2"/>
          <a:stretch/>
        </p:blipFill>
        <p:spPr>
          <a:xfrm>
            <a:off x="3357720" y="2857680"/>
            <a:ext cx="557820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1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(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dott időponthoz tartozó tizedestört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formátum a függvény bevitele előt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, az eredmény dátumként lesz formáz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Óra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3-nál nagyobb értékeket a program elosztja 24-gyel, a maradék lesz az óra érté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erc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z 59-nél nagyobb értékeket a program órákká és 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ontent Placeholder 3" descr="Új kép (8).bmp"/>
          <p:cNvPicPr/>
          <p:nvPr/>
        </p:nvPicPr>
        <p:blipFill>
          <a:blip r:embed="rId2"/>
          <a:stretch/>
        </p:blipFill>
        <p:spPr>
          <a:xfrm>
            <a:off x="3000240" y="3214800"/>
            <a:ext cx="5931000" cy="32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Rectangle 2"/>
          <p:cNvSpPr/>
          <p:nvPr/>
        </p:nvSpPr>
        <p:spPr>
          <a:xfrm>
            <a:off x="285840" y="1285920"/>
            <a:ext cx="835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per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59-nél nagyobb értékeket a program órákká, percekké és másod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2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ÉRTÉK(i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öveg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övegben megadott időt időértékként adja viss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visszaadott 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0:00:00 é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3:59:59 időpontoknak felelnek m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Új kép (9).bmp"/>
          <p:cNvPicPr/>
          <p:nvPr/>
        </p:nvPicPr>
        <p:blipFill>
          <a:blip r:embed="rId2"/>
          <a:stretch/>
        </p:blipFill>
        <p:spPr>
          <a:xfrm>
            <a:off x="2143080" y="4143240"/>
            <a:ext cx="655020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3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kell megjeleníteni egy munkala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időtartamok számításához is használható. Példáu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laki 1963-ban született, a következő képlettel kiszámíthatja a személy életkorát az idei születésnapjá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(MA())-196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képlet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t az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rgumentumaként használva adja vissza az aktuális évet, majd kivonja azt az 1963-ból, visszaadva a személy életkorá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Cserey-Goga” Iskolacsoport, Krasz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120" y="1856880"/>
            <a:ext cx="678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zt</a:t>
            </a: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á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.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soporttagok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Kocsis Anna-M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Lucza Eszter-Orsol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Mocan Cristian-Mih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Árpád-Zso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Im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Kisegitő tanár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Gáspár 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856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szintaxisnak nincs argumentu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Új kép (10).bmp"/>
          <p:cNvPicPr/>
          <p:nvPr/>
        </p:nvPicPr>
        <p:blipFill>
          <a:blip r:embed="rId2"/>
          <a:stretch/>
        </p:blipFill>
        <p:spPr>
          <a:xfrm>
            <a:off x="2714760" y="1928880"/>
            <a:ext cx="5592600" cy="39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71524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4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ÉTNAPJ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ere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én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napot adja eredményül. A visszaadott érték 1 és 7 közötti egész szám, amely alapértelmezés szerint a vasárnap (1), illetve a szombat (7) megfelelő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ép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ek va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e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3" descr="Új kép (11).bmp"/>
          <p:cNvPicPr/>
          <p:nvPr/>
        </p:nvPicPr>
        <p:blipFill>
          <a:blip r:embed="rId2"/>
          <a:stretch/>
        </p:blipFill>
        <p:spPr>
          <a:xfrm>
            <a:off x="3571920" y="4214880"/>
            <a:ext cx="53690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5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EEKN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isszatérési értéke egy szám, amely azt mutatja meg, hogy a megadott dátum az év hányadik hetére es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vizsgált dátum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issza_típus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ám, amely a hét kezdőnapját adja meg. Alapértéke 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Új kép.bmp"/>
          <p:cNvPicPr/>
          <p:nvPr/>
        </p:nvPicPr>
        <p:blipFill>
          <a:blip r:embed="rId2"/>
          <a:stretch/>
        </p:blipFill>
        <p:spPr>
          <a:xfrm>
            <a:off x="2214720" y="4500720"/>
            <a:ext cx="65512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ORKDA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o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ünnepe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2920" y="214272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_dátumot megadott számú munkanappal megelőző vagy követő dátum értékét adja vissza. A munkanapokba nem számítanak bele a hétvégék és az ünnepként megadott dátum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apo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előtti vagy utáni munkanapok száma. Pozitív érték megadása jövőbeni, míg a negatív érték korábbi idő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2920" y="642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 vagy több dátumérték, amelyet a két dátum közötti időszakból ki kell zárni (állami ünnepnapok, bankszünnap stb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lista lehet a dátumokat tartalmazó cellatartomány vagy dátumértékek tömbállandó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lyan állandók csoportja, ame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épletekb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gumentumké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hat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Új kép.bmp"/>
          <p:cNvPicPr/>
          <p:nvPr/>
        </p:nvPicPr>
        <p:blipFill>
          <a:blip r:embed="rId2"/>
          <a:stretch/>
        </p:blipFill>
        <p:spPr>
          <a:xfrm>
            <a:off x="3071880" y="2786040"/>
            <a:ext cx="5889600" cy="38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ÉV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évet adja eredményü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év értékét kere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Új kép.bmp"/>
          <p:cNvPicPr/>
          <p:nvPr/>
        </p:nvPicPr>
        <p:blipFill>
          <a:blip r:embed="rId2"/>
          <a:stretch/>
        </p:blipFill>
        <p:spPr>
          <a:xfrm>
            <a:off x="3357720" y="3214800"/>
            <a:ext cx="507348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8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YEARFRA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é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ap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2920" y="1856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és a vé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közötti teljes napok számát adja meg törtévké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lap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napok kiszámítására használt módsz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szá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3" descr="Új kép.bmp"/>
          <p:cNvPicPr/>
          <p:nvPr/>
        </p:nvPicPr>
        <p:blipFill>
          <a:blip r:embed="rId2"/>
          <a:stretch/>
        </p:blipFill>
        <p:spPr>
          <a:xfrm>
            <a:off x="3286080" y="4214880"/>
            <a:ext cx="5372280" cy="25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Datum es ido fuggvenyekkel vegzett feladatok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37816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)Az A3 cellaba ird ki az aktualis datumot es ido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105160" cy="3133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)Szamold ki hany nap es hany munkanap van 2010 szeptember 13 es 2011 junius 17 kozot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)Keszits tablazatot,amelyben kiszamolod,hogy hany nap telt el szuletesetek napjatol az aktualis datumi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)Keszitsd el a kovetkezo tablazato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431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39640" y="71388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KÖNYVÉSZET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2356920"/>
            <a:ext cx="53290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office.microsof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oogle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Új kép.bmp"/>
          <p:cNvPicPr/>
          <p:nvPr/>
        </p:nvPicPr>
        <p:blipFill>
          <a:blip r:embed="rId2"/>
          <a:stretch/>
        </p:blipFill>
        <p:spPr>
          <a:xfrm>
            <a:off x="3143160" y="3857760"/>
            <a:ext cx="5357880" cy="20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átum függvény (date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a megadott dátumnak megfelelő s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ámo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: dátum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;10;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olyan helyzetekben lehet hasznos, ahol az év, hónap és nap adatok képletekből vagy cellahivatkozásokból származna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 olyan munkalap esetében például, amely az Excel által nem ismert formátummal (például ÉÉÉÉHHNN) megadott dátumokat tartalmaz, a dátum függvény más függvényekkel együtt történő használatával átalakíthatja a dátumokat az Excel által is felismert sorszámokk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Dátumérték 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8568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egy szöveges formában tárolt dátumot alakít át az Excel által dátumként felismert sorszámmá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.10.07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olyan esetekben hasznos, amikor egy munkalapon szövegszerűen tárolt dátumadatokat kell dátumként szűrni, rendezni, formázni vagy dátumszámításban felhasznál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NAP 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 dátum, amelynek 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 illetve más képletek vagy függvények eredményeként lehetsé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010. október 7. dátum beírásár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dátum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Új kép.bmp"/>
          <p:cNvPicPr/>
          <p:nvPr/>
        </p:nvPicPr>
        <p:blipFill>
          <a:blip r:embed="rId2"/>
          <a:stretch/>
        </p:blipFill>
        <p:spPr>
          <a:xfrm>
            <a:off x="4786200" y="4000680"/>
            <a:ext cx="40006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4. Nap3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214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Nap360 függvény két dátum közötti napok számát adja eredményül, 360 napos évet (tizenkét 30 napos hónap) véve alapul, ami bizonyos könyvelési számításoknál használatos. Ez a függvény kifizetések kiszámítására használható, ha 30 napos hónapokon alapuló könyvelést haszná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5. EDAT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EOMONTH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(kezdő-dátum,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ónapo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2214360"/>
            <a:ext cx="8858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a megadott számú hónappal a kezdő-dátum előtti illetve utáni dátumértéket adja eredményül. Az EDATE a megfelelő hónapban a kibocsátás napjával azonos napra eső lejárati vagy esedékességi időpont kiszámítására használhat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Kezdő-dátum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 dátumnak megfelelő érték. Dátumok bevitele a dátum függvénnyel, illetve más képletek vagy függvények eredményeként lehetséges. A 2010. október 7. dátum beírására használja például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m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Hónap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-dátum előtti vagy utáni hónapok száma. Pozitív érték megadása jövőbeni, míg a negatív érték korábbi idő 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Új kép (1)1.bmp"/>
          <p:cNvPicPr/>
          <p:nvPr/>
        </p:nvPicPr>
        <p:blipFill>
          <a:blip r:embed="rId2"/>
          <a:stretch/>
        </p:blipFill>
        <p:spPr>
          <a:xfrm>
            <a:off x="357120" y="3500280"/>
            <a:ext cx="406260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4" name="Picture 6" descr="Új kép (2).bmp"/>
          <p:cNvPicPr/>
          <p:nvPr/>
        </p:nvPicPr>
        <p:blipFill>
          <a:blip r:embed="rId3"/>
          <a:stretch/>
        </p:blipFill>
        <p:spPr>
          <a:xfrm>
            <a:off x="4857840" y="2643120"/>
            <a:ext cx="3952800" cy="25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/PERC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3840" y="1714680"/>
            <a:ext cx="864396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üggvény az időérték argumentumnak megfelelő óra értéket adja eredményül 0 és 23 közötti egész szám formájába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ett órát tartalmazó időpont. Az időadatok megadhatók szövegként idézőjelek között vagy számként, illetve más képletek vagy függvények eredményeké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Új kép (3).bmp"/>
          <p:cNvPicPr/>
          <p:nvPr/>
        </p:nvPicPr>
        <p:blipFill>
          <a:blip r:embed="rId2"/>
          <a:stretch/>
        </p:blipFill>
        <p:spPr>
          <a:xfrm>
            <a:off x="357120" y="3786120"/>
            <a:ext cx="40705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Picture 5" descr="Új kép (4).bmp"/>
          <p:cNvPicPr/>
          <p:nvPr/>
        </p:nvPicPr>
        <p:blipFill>
          <a:blip r:embed="rId3"/>
          <a:stretch/>
        </p:blipFill>
        <p:spPr>
          <a:xfrm>
            <a:off x="4929120" y="4143240"/>
            <a:ext cx="388476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1:11Z</dcterms:created>
  <dc:creator>user</dc:creator>
  <dc:description/>
  <dc:language>en-US</dc:language>
  <cp:lastModifiedBy>dac</cp:lastModifiedBy>
  <dcterms:modified xsi:type="dcterms:W3CDTF">2010-10-11T17:37:32Z</dcterms:modified>
  <cp:revision>30</cp:revision>
  <dc:subject/>
  <dc:title>“Dátum es idő“ függvények</dc:title>
</cp:coreProperties>
</file>