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27.png" ContentType="image/png"/>
  <Override PartName="/ppt/media/image1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033-01CA-4E60-AD0C-62156023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5EAA-9507-4C2B-94F9-302A1D5F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58FE-2AF0-4E4A-8031-5895CBDB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765F-2807-4F1F-9C0D-EE0D804DE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61ED-260E-4F39-992C-F52E18CBB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0F2C-0D26-45E3-AC48-C656EC3F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B81F-BA0E-40DF-8ED3-F9749B7E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CC2EB-6952-4B96-BA43-3E881111A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AF09-AFC3-4559-87EB-56CE244C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453D-FBB3-426D-B383-833C389BA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B174-B8BE-4179-81BE-216056759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66A7-34B9-43E2-BCEA-18FCFFB89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67FE-8BE4-42F6-AEF6-87B70AB86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31BC-DE79-4520-A564-A5EDA9737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5B7B-6BEC-4429-BE54-D82424F1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D87B-CD3A-4055-85F4-339ACDE04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B3F60-3850-4610-83FE-8CCF0BD28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1E798-C422-4503-9297-811F3F7D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2D7B3-784D-4B51-B0FF-6534B7EB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93CFB-30BC-4A46-BB97-0CB7A97CF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A148A7-E3CE-4DF5-B5F7-E3134C319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B7258-4348-4E4B-97C6-D64E3CF7A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0660-0F2D-4B9A-80BF-1A4987230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E1B60-FB4D-4E6C-9750-9EF3B34CC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0194B-E896-407D-B099-E755A901F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71E12-BEAD-43B2-9775-700149C8C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61AFA-9378-4545-9C46-09585242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50D4B-020C-44B7-B5CB-FA2E9BF14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F53BBE-8D77-41C6-913D-631FE89CD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7FA591-C1F7-4985-8F8C-FA9CC417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9866A2-B898-4CAB-815B-6B2E93D58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AA716-05DA-4135-B6C0-FC949E817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7BFF9-5584-4E00-A202-64F1DB28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24EBB-7262-4680-B48D-7CCEE0A07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6237A-6B57-446A-84DE-488D28CB4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966B9C-A7F2-4A0D-96B5-12464E024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CF02F-64CE-4FDF-AB8A-4C9804E60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7BFDF-E610-4562-BA3C-4E182E38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1990D-87E5-4115-8357-7D92254E7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F3C65-98DA-46F1-9ADE-944E44B1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6B740-590F-41A9-B8EA-EFD4B1E6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B5568-16AF-4884-AD7C-FA512AEAE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6691E-83A6-4E97-8DAB-8E475B0F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77BF-C2F5-44D5-83F9-E09708D8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3D51-563D-4E67-B539-0605AFDFD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4C83-1E37-4C26-8F70-029A0482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3D04-6FA1-41A1-87E2-D3F65DD9D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D9D6D-F458-47C6-A75D-614E6206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ă liberă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ormă liberă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12D8-B68F-4EC5-A94D-691AD1A875C4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ormă liberă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ormă liberă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rmă liberă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ormă liberă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2A14-C3A3-452C-BD88-1FE3005D3D4F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rmă liberă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rmă liberă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upare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ormă liberă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ormă liberă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ormă liberă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ormă liberă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EADC-B615-4707-9F5C-3ED487543BAC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reptunghi cu un colţ tăiat şi rotunjit 8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riunghi drept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ormă liberă 9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rmă liberă 10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43D2E-0314-4E66-8E34-FB0347DC8283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u 1" descr=""/>
          <p:cNvPicPr/>
          <p:nvPr/>
        </p:nvPicPr>
        <p:blipFill>
          <a:blip r:embed="rId2"/>
          <a:stretch/>
        </p:blipFill>
        <p:spPr>
          <a:xfrm>
            <a:off x="1852560" y="743040"/>
            <a:ext cx="7456680" cy="2158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clock.gif"/>
          <p:cNvPicPr/>
          <p:nvPr/>
        </p:nvPicPr>
        <p:blipFill>
          <a:blip r:embed="rId3">
            <a:biLevel thresh="50000"/>
          </a:blip>
          <a:stretch/>
        </p:blipFill>
        <p:spPr>
          <a:xfrm>
            <a:off x="6757920" y="4429080"/>
            <a:ext cx="2386080" cy="228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clock1.jp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357120" y="1000080"/>
            <a:ext cx="2011320" cy="20685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pieces.JPG"/>
          <p:cNvPicPr/>
          <p:nvPr/>
        </p:nvPicPr>
        <p:blipFill>
          <a:blip r:embed="rId5"/>
          <a:stretch/>
        </p:blipFill>
        <p:spPr>
          <a:xfrm>
            <a:off x="2214720" y="4071960"/>
            <a:ext cx="25938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7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HÓNAP(dátum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28760" y="16426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dátumérték argumentumnak megfelelő hónap értéket adja eredményü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hónap értékét az 1...12 tartományba eső egész értékként kapja (1=január, ..., 12=december)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z a dátum, amelynek hónap értékét keres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ok bevitele 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átum függvénnyel, illetve más képletek vagy függvé-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nyek eredményeké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lehetség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3" descr="Új kép (5).bmp"/>
          <p:cNvPicPr/>
          <p:nvPr/>
        </p:nvPicPr>
        <p:blipFill>
          <a:blip r:embed="rId2"/>
          <a:stretch/>
        </p:blipFill>
        <p:spPr>
          <a:xfrm>
            <a:off x="4214880" y="4429080"/>
            <a:ext cx="4643280" cy="2271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85480" y="71388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8. NETWORKDAYS (kezdő-dátum, vég-dátum, ünnepek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85480" y="2071800"/>
            <a:ext cx="86439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összes munkanap számát adja meg a kezdő-dátum és a vég-dátum között. Nem tartoznak a munkanapok közé a hétvégi és a munkaszüneti napok. A networkdays függvény például felhasználható két dátum közötti munkanapoktól függő alkalmazotti járulék számításár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Kezdő-dátum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 kezd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Vég-dátum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 befejez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c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Ünnepek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egy vagy több dátumérték, amelyet a két dátum közötti időszakból ki kell zárni (állami ünnepnapok, bankszü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(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nap stb.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Content Placeholder 3" descr="Új kép (6).bmp"/>
          <p:cNvPicPr/>
          <p:nvPr/>
        </p:nvPicPr>
        <p:blipFill>
          <a:blip r:embed="rId2"/>
          <a:stretch/>
        </p:blipFill>
        <p:spPr>
          <a:xfrm>
            <a:off x="285840" y="1143000"/>
            <a:ext cx="8429400" cy="5291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9. MOST függvén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14200" y="1642680"/>
            <a:ext cx="8715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z a témakör a Microsoft Office Excel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OST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függvényé-nek képletszintaxisát és használatát mutatja b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ktuális dátum- és időértéket adja eredményül sorszám formájába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 a cella formátum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Általános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volt a függvény beírása előtt, az Excel módosítja ugyanarra a dátum- és időform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tumra, amely az eredeti területi dátum- és időbeállításo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ban van megadva 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vezérlőpult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A cella dátum- és időformátumát a menüszalag </a:t>
            </a:r>
            <a:r>
              <a:rPr b="1" i="1" lang="hu-HU" sz="2600" spc="-1" strike="noStrike">
                <a:solidFill>
                  <a:srgbClr val="000000"/>
                </a:solidFill>
                <a:latin typeface="Constantia"/>
              </a:rPr>
              <a:t>Kezdőlap 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lapjának </a:t>
            </a:r>
            <a:r>
              <a:rPr b="1" i="1" lang="hu-HU" sz="2600" spc="-1" strike="noStrike">
                <a:solidFill>
                  <a:srgbClr val="000000"/>
                </a:solidFill>
                <a:latin typeface="Constantia"/>
              </a:rPr>
              <a:t>Szám 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szakaszában lévő parancsokkal módosít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hatj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k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2876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OST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akkor hasznos, ha az aktuális dátumot és időt kell megjeleníteni egy munkalapon, vagy ha ezek alapján kell kiszámítani egy értéket, és az értéket mindig frissíteni kell a munkalap megnyitása-kor. Ha 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OST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nem frissíti a cellaértékeket a várt időben, módosítani kell a munkafüzet vagy munkalap újraszámítási beállításai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MOS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 függvényszintaxisnak nincs argumentu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- (érték, amely egy művelethez, eseményhez, metódus-hoz, tulajdonsághoz, függvényhez vagy eljáráshoz biztosít információt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858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0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PER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idő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28760" y="1928880"/>
            <a:ext cx="822960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időérték argumentumnak megfelelő másodperc értéket adja eredményül 0 és 59 közötti egész szám formájába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0" name="Picture 3" descr="Új kép (7).bmp"/>
          <p:cNvPicPr/>
          <p:nvPr/>
        </p:nvPicPr>
        <p:blipFill>
          <a:blip r:embed="rId2"/>
          <a:stretch/>
        </p:blipFill>
        <p:spPr>
          <a:xfrm>
            <a:off x="3357720" y="2857680"/>
            <a:ext cx="5578200" cy="3790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1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IDŐ(ór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per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perc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0040" y="171468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dott időponthoz tartozó tizedestörtet adja eredményü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 a cellaformátum a függvény bevitele előt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Általá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nos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volt, az eredmény dátumként lesz formázv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Óra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23-nál nagyobb értékeket a program elosztja 24-gyel, a maradék lesz az óra érték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Perc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z 59-nél nagyobb értékeket a program órákká és percekké alakít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Content Placeholder 3" descr="Új kép (8).bmp"/>
          <p:cNvPicPr/>
          <p:nvPr/>
        </p:nvPicPr>
        <p:blipFill>
          <a:blip r:embed="rId2"/>
          <a:stretch/>
        </p:blipFill>
        <p:spPr>
          <a:xfrm>
            <a:off x="3000240" y="3214800"/>
            <a:ext cx="5931000" cy="3267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234" name="Rectangle 2"/>
          <p:cNvSpPr/>
          <p:nvPr/>
        </p:nvSpPr>
        <p:spPr>
          <a:xfrm>
            <a:off x="285840" y="1285920"/>
            <a:ext cx="83581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perc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59-nél nagyobb értékeket a program órákká, percekké és másodpercekké alakít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2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IDŐÉRTÉK(idő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szöveg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idő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szövegben megadott időt időértékként adja vissz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visszaadott érté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0:00:00 és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23:59:59 időpontoknak felelnek meg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Picture 3" descr="Új kép (9).bmp"/>
          <p:cNvPicPr/>
          <p:nvPr/>
        </p:nvPicPr>
        <p:blipFill>
          <a:blip r:embed="rId2"/>
          <a:stretch/>
        </p:blipFill>
        <p:spPr>
          <a:xfrm>
            <a:off x="2143080" y="4143240"/>
            <a:ext cx="6550200" cy="1871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3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A függvén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akkor hasznos, ha az aktuális dátumot kell megjeleníteni egy munkalap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függvény időtartamok számításához is használható. Példáu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: ha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valaki 1963-ban született, a következő képlettel kiszámíthatja a személy életkorát az idei születésnapján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ÉV(MA())-1963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z a képlet 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t az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ÉV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 argumentumaként használva adja vissza az aktuális évet, majd kivonja azt az 1963-ból, visszaadva a személy életkorá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4617b"/>
                </a:solidFill>
                <a:latin typeface="Comic Sans MS"/>
              </a:rPr>
              <a:t>Cserey-Goga” Iskolacsoport, Kraszn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7120" y="1856880"/>
            <a:ext cx="6786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Oszt</a:t>
            </a:r>
            <a:r>
              <a:rPr b="1" lang="hu-HU" sz="2600" spc="-1" strike="noStrike" u="sng">
                <a:solidFill>
                  <a:srgbClr val="000000"/>
                </a:solidFill>
                <a:uFillTx/>
                <a:latin typeface="Constantia"/>
              </a:rPr>
              <a:t>ály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: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X.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Csoporttagok: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Kocsis Anna-M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á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r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Lucza Eszter-Orsoly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Mocan Cristian-Mihai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Pap Árpád-Zsol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Pap Imol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 u="sng">
                <a:solidFill>
                  <a:srgbClr val="000000"/>
                </a:solidFill>
                <a:uFillTx/>
                <a:latin typeface="Constantia"/>
              </a:rPr>
              <a:t>Kisegitő tanár: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hu-HU" sz="2400" spc="-1" strike="noStrike">
                <a:solidFill>
                  <a:srgbClr val="000000"/>
                </a:solidFill>
                <a:latin typeface="Bookman Old Style"/>
              </a:rPr>
              <a:t>Gáspár Ed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 txBox="1"/>
          <p:nvPr/>
        </p:nvSpPr>
        <p:spPr>
          <a:xfrm>
            <a:off x="285840" y="8568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M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függvényszintaxisnak nincs argumentum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3" descr="Új kép (10).bmp"/>
          <p:cNvPicPr/>
          <p:nvPr/>
        </p:nvPicPr>
        <p:blipFill>
          <a:blip r:embed="rId2"/>
          <a:stretch/>
        </p:blipFill>
        <p:spPr>
          <a:xfrm>
            <a:off x="2714760" y="1928880"/>
            <a:ext cx="5592600" cy="39528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42560" y="499680"/>
            <a:ext cx="8715240" cy="1490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4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HÉTNAPJ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dátumérték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ered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mény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típusa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14200" y="20714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dátumértéknek megfelelő napot adja eredményül. A visszaadott érték 1 és 7 közötti egész szám, amely alapértelmezés szerint a vasárnap (1), illetve a szombat (7) megfelelőj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ok bevitele a DÁTUM függvénnyel,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m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ép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tek vagy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függvények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redményekén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lehetséges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4" name="Picture 3" descr="Új kép (11).bmp"/>
          <p:cNvPicPr/>
          <p:nvPr/>
        </p:nvPicPr>
        <p:blipFill>
          <a:blip r:embed="rId2"/>
          <a:stretch/>
        </p:blipFill>
        <p:spPr>
          <a:xfrm>
            <a:off x="3571920" y="4214880"/>
            <a:ext cx="5369040" cy="2428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5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WEEKN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dátumérték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vis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z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sz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típus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Visszatérési értéke egy szám, amely azt mutatja meg, hogy a megadott dátum az év hányadik hetére esi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Dátumérté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vizsgált dátum.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Vissza_típus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s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zám, amely a hét kezdőnapját adja meg. Alapértéke 1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7" name="Picture 3" descr="Új kép.bmp"/>
          <p:cNvPicPr/>
          <p:nvPr/>
        </p:nvPicPr>
        <p:blipFill>
          <a:blip r:embed="rId2"/>
          <a:stretch/>
        </p:blipFill>
        <p:spPr>
          <a:xfrm>
            <a:off x="2214720" y="4500720"/>
            <a:ext cx="6551280" cy="16761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14200" y="92844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6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WORKDAY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kezdő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dát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n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pok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ünnepe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42920" y="214272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ezdő_dátumot megadott számú munkanappal megelőző vagy követő dátum értékét adja vissza. A munkanapokba nem számítanak bele a hétvégék és az ünnepként megadott dátumo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Kezdő_dátum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ezd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Napo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ezdő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 előtti vagy utáni munkanapok száma. Pozitív érték megadása jövőbeni, míg a negatív érték korábbi időpontot jelö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142920" y="64260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Ünnepe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gy vagy több dátumérték, amelyet a két dátum közötti időszakból ki kell zárni (állami ünnepnapok, bankszünnap stb.)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lista lehet a dátumokat tartalmazó cellatartomány vagy dátumértékek tömbállandó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(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olyan állandók csoportja, amely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épletekbe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rgumentumkén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sználható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)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1" name="Picture 3" descr="Új kép.bmp"/>
          <p:cNvPicPr/>
          <p:nvPr/>
        </p:nvPicPr>
        <p:blipFill>
          <a:blip r:embed="rId2"/>
          <a:stretch/>
        </p:blipFill>
        <p:spPr>
          <a:xfrm>
            <a:off x="3071880" y="2786040"/>
            <a:ext cx="5889600" cy="3882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858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7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ÉV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dátum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1714320"/>
            <a:ext cx="8229600" cy="460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dátumértéknek megfelelő évet adja eredményül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Dátumérték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z a dátum, amelynek év értékét keres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4" name="Picture 3" descr="Új kép.bmp"/>
          <p:cNvPicPr/>
          <p:nvPr/>
        </p:nvPicPr>
        <p:blipFill>
          <a:blip r:embed="rId2"/>
          <a:stretch/>
        </p:blipFill>
        <p:spPr>
          <a:xfrm>
            <a:off x="3357720" y="3214800"/>
            <a:ext cx="5073480" cy="2589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14200" y="704520"/>
            <a:ext cx="8715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8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YEARFRAC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kezdő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dát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vég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-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dátum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,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alap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42920" y="1856880"/>
            <a:ext cx="878688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ezdő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 és a vég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 közötti teljes napok számát adja meg törtévkén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Kezdő_dátum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kezd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Vég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dátum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befejező dátumnak megfelelő érték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)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Alap: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napok kiszámítására használt módsze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kódszám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57" name="Picture 3" descr="Új kép.bmp"/>
          <p:cNvPicPr/>
          <p:nvPr/>
        </p:nvPicPr>
        <p:blipFill>
          <a:blip r:embed="rId2"/>
          <a:stretch/>
        </p:blipFill>
        <p:spPr>
          <a:xfrm>
            <a:off x="3286080" y="4214880"/>
            <a:ext cx="5372280" cy="2543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4617b"/>
                </a:solidFill>
                <a:latin typeface="Calibri"/>
              </a:rPr>
              <a:t>Datum es ido fuggvenyekkel vegzett feladatok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2378160"/>
            <a:ext cx="8229600" cy="394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.)Az A3 cellaba ird ki az aktualis datumot es idot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5105160" cy="31338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.)Szamold ki hany nap es hany munkanap van 2010 szeptember 13 es 2011 junius 17 kozott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3.)Keszits tablazatot,amelyben kiszamolod,hogy hany nap telt el szuletesetek napjatol az aktualis datumig!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4.)Keszitsd el a kovetkezo tablazatot!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124000" y="3789360"/>
            <a:ext cx="4319640" cy="23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339640" y="713880"/>
            <a:ext cx="43196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KÖNYVÉSZET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8400" y="2356920"/>
            <a:ext cx="5329080" cy="16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ttp://office.microsoft.com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ttp: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//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google.hu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66" name="Picture 3" descr="Új kép.bmp"/>
          <p:cNvPicPr/>
          <p:nvPr/>
        </p:nvPicPr>
        <p:blipFill>
          <a:blip r:embed="rId2"/>
          <a:stretch/>
        </p:blipFill>
        <p:spPr>
          <a:xfrm>
            <a:off x="3143160" y="3857760"/>
            <a:ext cx="5357880" cy="20523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1. </a:t>
            </a: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D</a:t>
            </a:r>
            <a:r>
              <a:rPr b="0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átum függvény (date)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 függvény a megadott dátumnak megfelelő sor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-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számot adja eredményül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éldául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: dátum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(2010;10;7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 függvény olyan helyzetekben lehet hasznos, ahol az év, hónap és nap adatok képletekből vagy cellahivatkozásokból származnak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Egy olyan munkalap esetében például, amely az Excel által nem ismert formátummal (például ÉÉÉÉHHNN) megadott dátumokat tartalmaz, a dátum függvény más függvényekkel együtt történő használatával átalakíthatja a dátumokat az Excel által is felismert sorszámokká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858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2. </a:t>
            </a:r>
            <a:r>
              <a:rPr b="0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Dátumérték függvény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357120" y="1856880"/>
            <a:ext cx="82296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érték függvény egy szöveges formában tárolt dátumot alakít át az Excel által dátumként felismert sorszámmá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éldául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érték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(2010.10.07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dátumérték függvény olyan esetekben hasznos, amikor egy munkalapon szövegszerűen tárolt dátumadatokat kell dátumként szűrni, rendezni, formázni vagy dátumszámításban felhasználni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3. </a:t>
            </a:r>
            <a:r>
              <a:rPr b="0" lang="hu-HU" sz="5000" spc="-1" strike="noStrike" u="sng">
                <a:solidFill>
                  <a:srgbClr val="04617b"/>
                </a:solidFill>
                <a:uFillTx/>
                <a:latin typeface="Calibri"/>
              </a:rPr>
              <a:t>NAP (dátum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43040"/>
            <a:ext cx="82296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z a dátum, amelynek nap értékét keresi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Dátumok bevitele a DÁTUM függvénnyel, illetve más képletek vagy függvények eredményeként lehetség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i="1" lang="hu-HU" sz="2600" spc="-1" strike="noStrike">
                <a:solidFill>
                  <a:srgbClr val="000000"/>
                </a:solidFill>
                <a:latin typeface="Constantia"/>
              </a:rPr>
              <a:t>éldául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2010. október 7. dátum beírásár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használja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a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 dátum(2010;10;7) függvény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Új kép.bmp"/>
          <p:cNvPicPr/>
          <p:nvPr/>
        </p:nvPicPr>
        <p:blipFill>
          <a:blip r:embed="rId2"/>
          <a:stretch/>
        </p:blipFill>
        <p:spPr>
          <a:xfrm>
            <a:off x="4786200" y="4000680"/>
            <a:ext cx="4000680" cy="2500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4. Nap360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357120" y="221436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 Nap360 függvény két dátum közötti napok számát adja eredményül, 360 napos évet (tizenkét 30 napos hónap) véve alapul, ami bizonyos könyvelési számításoknál használatos. Ez a függvény kifizetések kiszámítására használható, ha 30 napos hónapokon alapuló könyvelést haszná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5840" y="9284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5. EDATE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/EOMONTH</a:t>
            </a: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(kezdő-dátum,</a:t>
            </a: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hu-HU" sz="4500" spc="-1" strike="noStrike">
                <a:solidFill>
                  <a:srgbClr val="04617b"/>
                </a:solidFill>
                <a:latin typeface="Calibri"/>
              </a:rPr>
              <a:t>hónapok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42920" y="2214360"/>
            <a:ext cx="885816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függvény a megadott számú hónappal a kezdő-dátum előtti illetve utáni dátumértéket adja eredményül. Az EDATE a megfelelő hónapban a kibocsátás napjával azonos napra eső lejárati vagy esedékességi időpont kiszámítására használható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)</a:t>
            </a: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 Kezdő-dátum: 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a kezdő dátumnak megfelelő érték. Dátumok bevitele a dátum függvénnyel, illetve más képletek vagy függvények eredményeként lehetséges. A 2010. október 7. dátum beírására használja például a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á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um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(2010;10;7) függvény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357120" y="92880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000000"/>
                </a:solidFill>
                <a:latin typeface="Constantia"/>
              </a:rPr>
              <a:t>Hónapok:</a:t>
            </a:r>
            <a:r>
              <a:rPr b="0" lang="hu-HU" sz="2600" spc="-1" strike="noStrike">
                <a:solidFill>
                  <a:srgbClr val="000000"/>
                </a:solidFill>
                <a:latin typeface="Constantia"/>
              </a:rPr>
              <a:t> a kezdő-dátum előtti vagy utáni hónapok száma. Pozitív érték megadása jövőbeni, míg a negatív érték korábbi idő pontot jelö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Picture 4" descr="Új kép (1)1.bmp"/>
          <p:cNvPicPr/>
          <p:nvPr/>
        </p:nvPicPr>
        <p:blipFill>
          <a:blip r:embed="rId2"/>
          <a:stretch/>
        </p:blipFill>
        <p:spPr>
          <a:xfrm>
            <a:off x="357120" y="3500280"/>
            <a:ext cx="4062600" cy="27147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4" name="Picture 6" descr="Új kép (2).bmp"/>
          <p:cNvPicPr/>
          <p:nvPr/>
        </p:nvPicPr>
        <p:blipFill>
          <a:blip r:embed="rId3"/>
          <a:stretch/>
        </p:blipFill>
        <p:spPr>
          <a:xfrm>
            <a:off x="4857840" y="2643120"/>
            <a:ext cx="3952800" cy="25322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6.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ÓRA</a:t>
            </a: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/PERC </a:t>
            </a:r>
            <a:r>
              <a:rPr b="0" lang="hu-HU" sz="5000" spc="-1" strike="noStrike">
                <a:solidFill>
                  <a:srgbClr val="04617b"/>
                </a:solidFill>
                <a:latin typeface="Calibri"/>
              </a:rPr>
              <a:t>(időérték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213840" y="1714680"/>
            <a:ext cx="8643960" cy="178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függvény az időérték argumentumnak megfelelő óra értéket adja eredményül 0 és 23 közötti egész szám formájában.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onstantia"/>
              </a:rPr>
              <a:t>A keresett órát tartalmazó időpont. Az időadatok megadhatók szövegként idézőjelek között vagy számként, illetve más képletek vagy függvények eredményekén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3" descr="Új kép (3).bmp"/>
          <p:cNvPicPr/>
          <p:nvPr/>
        </p:nvPicPr>
        <p:blipFill>
          <a:blip r:embed="rId2"/>
          <a:stretch/>
        </p:blipFill>
        <p:spPr>
          <a:xfrm>
            <a:off x="357120" y="3786120"/>
            <a:ext cx="4070520" cy="28288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218" name="Picture 5" descr="Új kép (4).bmp"/>
          <p:cNvPicPr/>
          <p:nvPr/>
        </p:nvPicPr>
        <p:blipFill>
          <a:blip r:embed="rId3"/>
          <a:stretch/>
        </p:blipFill>
        <p:spPr>
          <a:xfrm>
            <a:off x="4929120" y="4143240"/>
            <a:ext cx="3884760" cy="2257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6T10:41:11Z</dcterms:created>
  <dc:creator>user</dc:creator>
  <dc:description/>
  <dc:language>en-US</dc:language>
  <cp:lastModifiedBy>dac</cp:lastModifiedBy>
  <dcterms:modified xsi:type="dcterms:W3CDTF">2010-10-11T17:37:32Z</dcterms:modified>
  <cp:revision>30</cp:revision>
  <dc:subject/>
  <dc:title>“Dátum es idő“ függvények</dc:title>
</cp:coreProperties>
</file>