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C19-EC35-417B-9031-00D2F049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BC5-EA56-403F-81E3-55E11E8A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BE7-7885-475B-AF65-51018FFE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2CD-473F-4D32-9011-60EC3F7F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183A-DB6E-49DE-B497-6F9D787D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692D-DC2A-4C26-B32E-225345B3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56D2-EC1F-4B53-ABA6-2CF64625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4492-097B-47B6-B593-9873FD0B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4686-9903-42DB-AFE2-126E4A63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98D2-A6B9-44F1-A29B-50BB269E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803F-97BB-4657-A464-3B1BAD85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091-9980-4D07-A066-BE3C6F2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CCC9-7DA9-4618-B6F7-577F367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EB4E-E382-4D81-A550-A72A9BF7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F3FB-4474-4B2C-9FA5-2861AB5B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A815-D5FD-46D7-B763-C5175CD3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F087-81FD-412C-B445-4864F53E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F4C-D1E6-415B-9CA5-88D6D3C5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8CF-152F-481F-8187-D186E47D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DDE-FDE4-43DE-9AD8-31727631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8BA-34DF-44D6-ABBF-F7A02E76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DDB-0332-46D8-8A28-BE420C45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EB0-31FC-45C4-AF6A-94F50CF8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F0A-F8B4-4C9E-BAAB-157F60C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962E-1E9A-485B-B7FE-48E553395ACB}" type="slidenum">
              <a:rPr b="0" lang="hu-H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4F27-0CFA-459E-802C-814D7784DD43}" type="slidenum">
              <a:rPr b="0" lang="hu-H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Arial"/>
              </a:rPr>
              <a:t>Gombaismeret mindenkine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A gombák természetérő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Ehető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Gyógyító</a:t>
            </a:r>
            <a:r>
              <a:rPr b="0" lang="hu-H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Hallucinogén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Mérges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Ehető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Csiper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Galamb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Vargány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zegfű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zarvas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árga ró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Ánizsszagú tölcsér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Gyógyító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Pecsétviasz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Késői las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hii-take 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epketapló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Téli fülő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Gyapjas tint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Hallucinogén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Psilocyb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égyölő galó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Csattanós maszla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Mérges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Őszi tőke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Mérges pókhálós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égyölő galó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Redős papsap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Ráncos tint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8:49:34Z</dcterms:created>
  <dc:creator/>
  <dc:description/>
  <dc:language>en-US</dc:language>
  <cp:lastModifiedBy>kede</cp:lastModifiedBy>
  <dcterms:modified xsi:type="dcterms:W3CDTF">2001-10-26T12:31:40Z</dcterms:modified>
  <cp:revision>3</cp:revision>
  <dc:subject/>
  <dc:title/>
</cp:coreProperties>
</file>