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B9F-9466-4984-A5F4-C77E042D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9156-E17C-4831-A05D-52CA90DB9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C7DF-CA02-4902-A10B-EA06655AF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BF8F-E830-4372-9026-15D2DC35E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3EE9-669B-4241-AD7B-F5D04D188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F1E6F-16E7-4FCC-9AE2-9E830D368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B7F17-22B7-4CE8-9312-27D361C6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413E-7A01-48FA-BBBD-0AEF93A6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A1FF1-DFD7-4CF3-ACC6-F9C0FD70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BA0C-F43C-4363-BCA3-C15AF1F4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4EFBC-617A-4042-9F93-8DAB94243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1746-BAB3-4BB4-971A-64D4908D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974FF-7D1A-4A97-8509-652FF141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638D-88D1-4CCC-8193-8B92D4C4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759B-B479-4D5B-B8FF-2C4F3782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76CAC-2941-4C7C-984A-78EFD0B86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E1201-6087-4EAB-854F-9FA03B71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5229-ACDC-4482-90DA-ADA9A1DB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C0C-81DA-45FE-8D88-58B70F99E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67F9-A3B3-4C59-9C84-195EFE8C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9F68-F125-4E2B-BB25-2C9C6AD7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1293-6CCE-40D2-AD29-FB4FC722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D9A9-70F3-4864-8207-D3A31132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F05-51AA-4AD8-9FDA-06964BDFA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71C8E-20F9-4B6E-8723-6800DBA79AFF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66C2-98F0-497E-BEB0-2CA710E1F616}" type="slidenum">
              <a:rPr b="0" lang="hu-HU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eaeaea"/>
                </a:solidFill>
                <a:latin typeface="Arial"/>
              </a:rPr>
              <a:t>Gombaismeret mindenkine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A gombák természetéről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Ehető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yógyító</a:t>
            </a:r>
            <a:r>
              <a:rPr b="0" lang="hu-HU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Hallucinogén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eaeaea"/>
                </a:solidFill>
                <a:latin typeface="Arial"/>
              </a:rPr>
              <a:t>Mérges gombá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Ehető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iper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alamb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Vargány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egfű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zarva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árga ró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Ánizsszagú tölcsér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Gyógyító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ecsétviasz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Késői las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Shii-take 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epketapló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Téli fülők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Gyapja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Hallucinogén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Psilocyb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Csattanós maszla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ebd189"/>
                </a:solidFill>
                <a:latin typeface="Arial"/>
              </a:rPr>
              <a:t>Mérges gombák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Őszi tőke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Mérges pókhálós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Légyölő galóc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edős papsapk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eaeaea"/>
                </a:solidFill>
                <a:latin typeface="Arial"/>
              </a:rPr>
              <a:t>Ráncos tintagomb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28840" y="167652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5T08:49:34Z</dcterms:created>
  <dc:creator/>
  <dc:description/>
  <dc:language>en-US</dc:language>
  <cp:lastModifiedBy>kede</cp:lastModifiedBy>
  <dcterms:modified xsi:type="dcterms:W3CDTF">2001-10-26T12:31:40Z</dcterms:modified>
  <cp:revision>3</cp:revision>
  <dc:subject/>
  <dc:title/>
</cp:coreProperties>
</file>