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F4B-D26F-4DCD-9425-EC105F96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A35-805D-4230-8321-D1564CD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5CA-CF18-4812-BB1B-1D0CE862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6E4-638D-48AC-B8CA-9D6F23E8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1C8C-8C00-4FC5-8B27-904BACA6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1C6-14AE-4B47-9CCB-6F69E32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958-6C9F-487E-8BAF-16327DC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5EDD-24FD-46ED-BF1F-829CA3D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3F7-0B3B-4D7B-BFBA-81E155F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0AB-2AC1-4504-AFFB-007092FF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B2F-64DF-4DC4-8C0F-BFAECFD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4EA-EFA7-4425-9EEF-1BFB480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8AE8-2BD8-4EC2-8A68-B40468A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8A0C-E392-4DB7-8447-3F152F6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F47-8467-45B7-89E5-E0A1251A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08CE-0A74-4430-98F9-1311619B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3709-365B-474C-A87E-7149744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5D2-A44F-48A4-8FC5-FAA33F49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DB0-7F55-44F0-9D02-FEC13B28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D79-9D84-4D7C-A4A9-D3516A3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BCB-341E-4067-8B2D-D0F8491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460-1CEF-44D4-94A6-E72422DE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DD4-0B60-4D1C-82D5-99ED6C40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68A-6299-47FD-B4A7-7F63643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FBA-FF72-4451-A4F6-64C4803D0312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6BCC-B671-43E3-A9EF-9D6481A041BB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"/>
              </a:rPr>
              <a:t>Gombaismeret mindenkin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A gombák természetérő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Ehető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yógyító</a:t>
            </a:r>
            <a:r>
              <a:rPr b="0" lang="hu-H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Hallucinogén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Mérges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Ehető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iper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alamb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Vargán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egfű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arva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árga ró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Ánizsszagú tölcsér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yógyító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ecsétviasz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Késői las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hii-take 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epketapl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Téli fülő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yapja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Hallucinogén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silocyb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attanós maszl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Mérges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Őszi tőke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Mérges pókháló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edős papsap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ánco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8:49:34Z</dcterms:created>
  <dc:creator/>
  <dc:description/>
  <dc:language>en-US</dc:language>
  <cp:lastModifiedBy>kede</cp:lastModifiedBy>
  <dcterms:modified xsi:type="dcterms:W3CDTF">2001-10-26T12:31:40Z</dcterms:modified>
  <cp:revision>3</cp:revision>
  <dc:subject/>
  <dc:title/>
</cp:coreProperties>
</file>