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3F9-A558-495D-A577-3C25269E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F9EB-1CE6-4E19-8910-9543890CE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7BF4-AA17-4356-B469-EEC44EF9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3C65-C945-45D2-AC84-94D44360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D1CC-2D8F-4403-8E22-D95FD6517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14811-4FD8-468A-AE23-E130D138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5ADAF-4359-4151-9B15-E178743B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33B0-0BC2-4CD5-B849-A1C76A5A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C9A0-634B-4B77-A4C9-A1505540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77C87-C0B9-4349-8A4B-805FC186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8D2F-84DB-4A76-BF69-D6E5AD685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4070-D732-4C4F-9624-DDC1F6D7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D2ED9-E4C5-490B-9C92-690CA86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7F198-103C-4375-A5DF-4BAC62AC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DB43-3508-4B29-9502-419B70EE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EAD8-1AA1-4EA8-BAF2-E9E6FA2FC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F666D-1DFD-4C67-A847-D0DBB552D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D7C-A8CF-43D7-B795-09166BCA2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F281-16AF-4F50-B819-9D92C80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31F-4833-4519-8834-FA3B70F7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59EF-67D5-454F-9E35-ABDF6E3C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27E-776C-407E-981E-8FD84986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3453-91D9-45B2-97FC-CE7C4C1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B23B-9ADB-4B0C-8C21-7A99EFE8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037F-59FB-47AE-9932-FAA517882156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B8AE-5FE6-43C5-BBDB-B91DD4EF30BC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"/>
              </a:rPr>
              <a:t>Gombaismeret mindenkin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A gombák természetérő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Ehető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yógyító</a:t>
            </a:r>
            <a:r>
              <a:rPr b="0" lang="hu-H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Hallucinogén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Mérges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Ehető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iper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alamb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Vargán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egfű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arva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árga ró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Ánizsszagú tölcsér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yógyító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ecsétviasz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Késői las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hii-take 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epketapl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Téli fülő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yapja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Hallucinogén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silocyb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attanós maszl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Mérges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Őszi tőke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Mérges pókháló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edős papsap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ánco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8:49:34Z</dcterms:created>
  <dc:creator/>
  <dc:description/>
  <dc:language>en-US</dc:language>
  <cp:lastModifiedBy>kede</cp:lastModifiedBy>
  <dcterms:modified xsi:type="dcterms:W3CDTF">2001-10-26T12:31:40Z</dcterms:modified>
  <cp:revision>3</cp:revision>
  <dc:subject/>
  <dc:title/>
</cp:coreProperties>
</file>