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1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6.jpeg" ContentType="image/jpeg"/>
  <Override PartName="/ppt/media/image39.png" ContentType="image/png"/>
  <Override PartName="/ppt/media/image41.png" ContentType="image/png"/>
  <Override PartName="/ppt/media/image9.gif" ContentType="image/gif"/>
  <Override PartName="/ppt/media/image34.jpeg" ContentType="image/jpeg"/>
  <Override PartName="/ppt/media/image7.png" ContentType="image/pn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459-68F4-40DB-8F70-6061A29D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D7A-CF45-4AF3-AD35-09E733B1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095-C8B6-4EA6-BA38-16EA517D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5E1-AFEF-4892-833E-D57A3F6F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067C-21FE-4E2C-92EA-872EE000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5B59-7B98-4191-820A-B39A188A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6F53-1F67-4699-A90E-A8F6728C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1FF0-AD7A-44A1-8830-A498241C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559E-E93F-4AE9-9FC0-60F38B07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9113-598B-4716-A473-5DBB84F7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90D7-B0CF-4365-8B92-8FDF640A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94A-8EE3-4E64-8DAD-16743975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4846-2128-4456-8CC1-DD9CAE06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D78B-E455-4E6E-8061-7D5E2708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C68F-59FC-49C8-81A1-C465314C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9A4C-4360-48E9-B419-1C6BF151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F9BB-FD6A-4981-990C-659F5B51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0E7B-79CF-4EF2-A7A5-85D798A4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1E63E-CD0B-44AA-A39A-57EAE1FF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E9933-BE89-46BD-B6C9-A4285CD1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F0DF2-38B5-4010-A8D0-900DEF1C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622E-3CB2-4828-AC35-5235B6D0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32E-1C4B-4A33-82DE-74F7AB53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F3C8F-1240-4C91-AFAD-85964219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644F6-CBA2-4696-AC90-69E65CEC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20DA6-B731-4616-829B-795AF160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87A02-1A9B-4819-86DF-F4BFB54D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1AC3-8E69-439A-9411-35FA9772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7A234-7FFD-4AE2-8DA3-BA4BC6A3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32C81-9B96-4DFC-81B0-A7E1A25A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7FA93-6A29-4324-8D25-6DD2AB6C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9C0F1-15D6-422F-B21A-6AC77D4A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61B31-0471-49E4-ADD8-D093EE69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AEB-0B79-41D1-BAED-048DBF90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F5CE6-DC12-49E5-BCFB-034CB7A0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0D953-5F5E-44E1-BABD-1B8A2B93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989AD-8906-4315-93F7-2FCE76A2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652BA-464E-4B5F-90DB-804C1697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A39AB-3378-4B5C-9CBE-17496F36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258DD-BBA1-4F13-8E5E-B0B2735B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D6286-0B27-48DF-864E-2731758F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84AB5-2D4B-46C5-94B2-EEE29479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1617E-336E-42B9-A6B1-B277C29D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80923-C915-4DB8-BBFD-7547DA89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ADC-CFBF-44AA-8AA3-5C521A6F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E6279-6968-4ACA-BFC0-1F53E3A2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13601-56F3-4388-BED0-DCD48AC9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00E5D-35A7-467B-9862-5357BE86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81884-1922-4C4F-BA30-C20F89FF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A9CCC-EF43-46D4-83D3-134468EA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C6DC8-19F9-4F1E-90A6-9B12D2B3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B9DC4-FDA0-4244-8751-D7616456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A90BD-2459-4208-B754-A688BD4E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B7962-12A2-4D3D-9E75-F9FC4670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5DBF5-8CEB-45CC-B166-713CF126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F14-CA1E-46DA-99AB-1BB2E994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7B43E-2848-43C6-905F-CA3A0ECF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B192C-2756-4203-8749-15EEC008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6495F-EF46-4A31-90E1-F0C64C17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27FD1-486D-45B9-9F5D-1A910BE2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951E9-FF80-49DF-A251-626390AD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8A8CD-8257-486A-A721-806F2AA2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19AFB-DBAB-4C95-810A-0A834DBF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9AB15-7D83-4DD5-9C7B-2D4A5EB5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BF13D-2D9B-414D-97FC-8B7AD064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BC849-046E-4E11-A31C-4B1561F8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BFC-6A82-4F0D-8EC4-844ABC4B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DD74E-06DE-4E21-8FE7-AF4E1097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05470-3CCE-498E-83F7-58609A29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DEA04-8D09-4C25-B910-A479C22F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FB4-83B0-4175-B386-720C4B94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6A7-CFC4-4424-BE72-EDCCF712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D095-36D6-4338-8F3C-75794DE01B3F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4016-8601-4228-A081-3929BA33C54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1653-3F2F-4F0F-AD14-E1C5AE063007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B9AF-AEA3-4ED0-A638-668CA1964868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C22D-EB9E-4392-B641-FA5E1CEDE569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5036-A2E3-4DBA-97D5-70373C9CF883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352600" cy="194328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3" descr=""/>
          <p:cNvPicPr/>
          <p:nvPr/>
        </p:nvPicPr>
        <p:blipFill>
          <a:blip r:embed="rId2"/>
          <a:stretch/>
        </p:blipFill>
        <p:spPr>
          <a:xfrm>
            <a:off x="858960" y="182520"/>
            <a:ext cx="8613720" cy="4707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2195640" y="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4429080"/>
            <a:ext cx="471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X. B. os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. Csoport: Boda Timea Kl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i E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yom Balaz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h P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ncze Adina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SANY5403.JPG"/>
          <p:cNvPicPr/>
          <p:nvPr/>
        </p:nvPicPr>
        <p:blipFill>
          <a:blip r:embed="rId3"/>
          <a:stretch/>
        </p:blipFill>
        <p:spPr>
          <a:xfrm>
            <a:off x="3714840" y="2714760"/>
            <a:ext cx="5143320" cy="2857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A HA függvénnyel feltételes vizsgálatok hajthatók végre értékeken és képleteken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rebuchet MS"/>
              </a:rPr>
              <a:t>=HA(feltétel; ha igaz; ha hamis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3" name="Picture 5" descr="Happy Pencil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Smiling Pencil"/>
          <p:cNvPicPr/>
          <p:nvPr/>
        </p:nvPicPr>
        <p:blipFill>
          <a:blip r:embed="rId1"/>
          <a:stretch/>
        </p:blipFill>
        <p:spPr>
          <a:xfrm>
            <a:off x="6215040" y="328608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z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ÉS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függvény egyik leggyakoribb szerepe más, logikai vizsgálatokat végrehajtó függvények hasznosságának kiterjesztése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gikai1, logikai2...: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     1-30 vizsgálandó feltétel, amelyek IGAZ vagy HAMIS értéket vehetnek fel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Picture 5" descr="Smiling Pencil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3535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ZUMHA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függvénnyel összeadhatja azokat az értékeket egy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artományba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 amelyek megfelelnek a megadott feltételeknek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Picture 5" descr="Smiling Pencil"/>
          <p:cNvPicPr/>
          <p:nvPr/>
        </p:nvPicPr>
        <p:blipFill>
          <a:blip r:embed="rId2"/>
          <a:stretch/>
        </p:blipFill>
        <p:spPr>
          <a:xfrm>
            <a:off x="6111720" y="3500280"/>
            <a:ext cx="303228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ifejezé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helyőrző egy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karakterlánc-kifejezés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jelöl, amely azonosítja a megszámlálni kívánt értékeket tartalmazó mezőt, vagy pedig olyan kifejezés helyett áll, amely a mezőben szereplő adatokkal végez számításoka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7" descr="Pencil Smiling"/>
          <p:cNvPicPr/>
          <p:nvPr/>
        </p:nvPicPr>
        <p:blipFill>
          <a:blip r:embed="rId2"/>
          <a:stretch/>
        </p:blipFill>
        <p:spPr>
          <a:xfrm>
            <a:off x="7215120" y="1222200"/>
            <a:ext cx="1928880" cy="5635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gy szám pozitív négyzetgyökét adja meg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5" descr="Smiling Red Pencil Isolated On A White Background"/>
          <p:cNvPicPr/>
          <p:nvPr/>
        </p:nvPicPr>
        <p:blipFill>
          <a:blip r:embed="rId2"/>
          <a:stretch/>
        </p:blipFill>
        <p:spPr>
          <a:xfrm>
            <a:off x="3071880" y="2571840"/>
            <a:ext cx="6072120" cy="4286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5" descr="http://www.dreamstime.com/smiling-pencil-thumb3319008.jpg"/>
          <p:cNvPicPr/>
          <p:nvPr/>
        </p:nvPicPr>
        <p:blipFill>
          <a:blip r:embed="rId1"/>
          <a:stretch/>
        </p:blipFill>
        <p:spPr>
          <a:xfrm>
            <a:off x="6537240" y="0"/>
            <a:ext cx="2606760" cy="3000240"/>
          </a:xfrm>
          <a:prstGeom prst="rect">
            <a:avLst/>
          </a:prstGeom>
          <a:ln w="0">
            <a:noFill/>
          </a:ln>
        </p:spPr>
      </p:pic>
      <p:pic>
        <p:nvPicPr>
          <p:cNvPr id="320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két függvény becslést ad egy, a lekérdezés megadott mezőjében található értékhalmazzal jelölt sokaság vagy mintasokaság varianciájára (szórásnégyzetére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„szám” négyzetgyökét számítja ki. A szám tetszőleges nem negatív érték lehe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4" name="Picture 2" descr="http://t1.gstatic.com/images?q=tbn:7JdVikQmok9eZM:s"/>
          <p:cNvPicPr/>
          <p:nvPr/>
        </p:nvPicPr>
        <p:blipFill>
          <a:blip r:embed="rId2"/>
          <a:stretch/>
        </p:blipFill>
        <p:spPr>
          <a:xfrm>
            <a:off x="0" y="4227480"/>
            <a:ext cx="1876320" cy="2630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-49320" y="85680"/>
            <a:ext cx="7755120" cy="1382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informatika.gtportal.eu/index.php?f0=tablaz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clasa10-gasparedit.wikispaces.com/Materia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ép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http://www.dreamstime.com/stock-photography-happy-boy-with-pencil-watercol-image51561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u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z Exel 2007 programot arra fejlesztették ki, hogy számitásokat készitsünk benn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számitasok létrehozása két  formája létezik: képlet és függvény használat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Képlettet akkor kell használnunk, ha a feladathoz nincs beépitett fügvén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 a programba épitett számoló egységek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2" descr="http://www.frontiernet.net/~mblow/images/writerworkshop/pencil%20funny.gif"/>
          <p:cNvPicPr/>
          <p:nvPr/>
        </p:nvPicPr>
        <p:blipFill>
          <a:blip r:embed="rId2"/>
          <a:stretch/>
        </p:blipFill>
        <p:spPr>
          <a:xfrm>
            <a:off x="7572240" y="3071880"/>
            <a:ext cx="1571760" cy="3786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ttp://cdn.mgsrvr.com/funnies/pencil_draw_lg_nwm.gif"/>
          <p:cNvPicPr/>
          <p:nvPr/>
        </p:nvPicPr>
        <p:blipFill>
          <a:blip r:embed="rId1"/>
          <a:stretch/>
        </p:blipFill>
        <p:spPr>
          <a:xfrm>
            <a:off x="5421240" y="0"/>
            <a:ext cx="372276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Titlu 1" descr=""/>
          <p:cNvPicPr/>
          <p:nvPr/>
        </p:nvPicPr>
        <p:blipFill>
          <a:blip r:embed="rId2"/>
          <a:stretch/>
        </p:blipFill>
        <p:spPr>
          <a:xfrm>
            <a:off x="285840" y="506520"/>
            <a:ext cx="7462800" cy="2212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500040" y="2999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Nem szükséges külön elvégezni minden számolást hanem meg lehet sokszorozni az eredményt a képletek másolás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http://www.frontiernet.net/~mblow/images/writerworkshop/bookguy.gif"/>
          <p:cNvPicPr/>
          <p:nvPr/>
        </p:nvPicPr>
        <p:blipFill>
          <a:blip r:embed="rId3"/>
          <a:stretch/>
        </p:blipFill>
        <p:spPr>
          <a:xfrm>
            <a:off x="0" y="4786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Három tipusú cellahivatkozás ismert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Abszolút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Relativív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Vegyes hivatko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2" descr="http://www.frontiernet.net/~mblow/images/homepage/PencilEraser.jpg"/>
          <p:cNvPicPr/>
          <p:nvPr/>
        </p:nvPicPr>
        <p:blipFill>
          <a:blip r:embed="rId1"/>
          <a:stretch/>
        </p:blipFill>
        <p:spPr>
          <a:xfrm>
            <a:off x="0" y="4143240"/>
            <a:ext cx="2502000" cy="2714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image.shutterstock.com/display_pic_with_logo/484729/484729,1255252969,2/stock-vector-book-with-pencil-38627632.jpg"/>
          <p:cNvPicPr/>
          <p:nvPr/>
        </p:nvPicPr>
        <p:blipFill>
          <a:blip r:embed="rId2"/>
          <a:stretch/>
        </p:blipFill>
        <p:spPr>
          <a:xfrm>
            <a:off x="7286760" y="3143160"/>
            <a:ext cx="200016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leggyakrabban használt függvények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Matematikai függvény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Statisz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Log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Dátum és idő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Trigonometri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Informa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Pénzügy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5" descr="http://images.clipartof.com/thumbnails/223883-Royalty-Free-RF-Clipart-Illustration-Of-A-Funny-Moodie-Character-Holding-A-Pencil-By-Note-Paper.jpg"/>
          <p:cNvPicPr/>
          <p:nvPr/>
        </p:nvPicPr>
        <p:blipFill>
          <a:blip r:embed="rId2"/>
          <a:stretch/>
        </p:blipFill>
        <p:spPr>
          <a:xfrm>
            <a:off x="7000920" y="3286080"/>
            <a:ext cx="2143080" cy="3571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68200" y="-225360"/>
            <a:ext cx="8467920" cy="28828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71680" y="3143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összegé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9"/>
              <p:cNvSpPr txBox="1"/>
              <p:nvPr/>
            </p:nvSpPr>
            <p:spPr>
              <a:xfrm>
                <a:off x="4929120" y="4929120"/>
                <a:ext cx="40338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zum=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8686800" cy="1492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5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Object 8"/>
          <p:cNvGraphicFramePr/>
          <p:nvPr/>
        </p:nvGraphicFramePr>
        <p:xfrm>
          <a:off x="1258920" y="1628640"/>
          <a:ext cx="7883640" cy="15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628640"/>
                    <a:ext cx="788364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37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tartományban szereplő legnagyobb értéket adja eredményü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5715000" y="3533760"/>
            <a:ext cx="3429000" cy="332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5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684360" y="32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ban szereplő legkisebb értéket adja eredményü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5" name="Picture 8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3080" cy="1887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/>
          <p:cNvPicPr/>
          <p:nvPr/>
        </p:nvPicPr>
        <p:blipFill>
          <a:blip r:embed="rId3"/>
          <a:stretch/>
        </p:blipFill>
        <p:spPr>
          <a:xfrm>
            <a:off x="4857840" y="3317760"/>
            <a:ext cx="4286160" cy="3540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5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928800" y="4429080"/>
                <a:ext cx="403704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átlag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 txBox="1"/>
          <p:nvPr/>
        </p:nvSpPr>
        <p:spPr>
          <a:xfrm>
            <a:off x="285480" y="178596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átlagá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0" name="Picture 12" descr="Happy Boy With Pencil-watercol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1:30:10Z</dcterms:created>
  <dc:creator>Elev</dc:creator>
  <dc:description/>
  <dc:language>en-US</dc:language>
  <cp:lastModifiedBy>Bela</cp:lastModifiedBy>
  <dcterms:modified xsi:type="dcterms:W3CDTF">2010-10-10T11:47:23Z</dcterms:modified>
  <cp:revision>15</cp:revision>
  <dc:subject/>
  <dc:title>Slide 1</dc:title>
</cp:coreProperties>
</file>