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6.jpeg" ContentType="image/jpeg"/>
  <Override PartName="/ppt/media/image24.jpeg" ContentType="image/jpeg"/>
  <Override PartName="/ppt/media/image22.png" ContentType="image/png"/>
  <Override PartName="/ppt/media/image20.jpeg" ContentType="image/jpeg"/>
  <Override PartName="/ppt/media/image19.png" ContentType="image/png"/>
  <Override PartName="/ppt/media/image21.png" ContentType="image/png"/>
  <Override PartName="/ppt/media/image18.png" ContentType="image/png"/>
  <Override PartName="/ppt/media/image6.jpeg" ContentType="image/jpeg"/>
  <Override PartName="/ppt/media/image17.png" ContentType="image/png"/>
  <Override PartName="/ppt/media/image32.jpeg" ContentType="image/jpeg"/>
  <Override PartName="/ppt/media/image16.png" ContentType="image/png"/>
  <Override PartName="/ppt/media/image11.png" ContentType="image/png"/>
  <Override PartName="/ppt/media/image12.jpeg" ContentType="image/jpeg"/>
  <Override PartName="/ppt/media/image37.jpeg" ContentType="image/jpeg"/>
  <Override PartName="/ppt/media/image23.png" ContentType="image/png"/>
  <Override PartName="/ppt/media/image13.jpeg" ContentType="image/jpeg"/>
  <Override PartName="/ppt/media/image40.jpeg" ContentType="image/jpeg"/>
  <Override PartName="/ppt/media/image30.jpeg" ContentType="image/jpeg"/>
  <Override PartName="/ppt/media/image31.png" ContentType="image/png"/>
  <Override PartName="/ppt/media/image36.jpeg" ContentType="image/jpeg"/>
  <Override PartName="/ppt/media/image39.png" ContentType="image/png"/>
  <Override PartName="/ppt/media/image41.png" ContentType="image/png"/>
  <Override PartName="/ppt/media/image9.gif" ContentType="image/gif"/>
  <Override PartName="/ppt/media/image34.jpeg" ContentType="image/jpeg"/>
  <Override PartName="/ppt/media/image7.png" ContentType="image/png"/>
  <Override PartName="/ppt/media/image38.png" ContentType="image/png"/>
  <Override PartName="/ppt/media/image8.png" ContentType="image/png"/>
  <Override PartName="/ppt/media/image1.jpeg" ContentType="image/jpeg"/>
  <Override PartName="/ppt/media/image10.png" ContentType="image/png"/>
  <Override PartName="/ppt/media/image27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33.png" ContentType="image/png"/>
  <Override PartName="/ppt/media/image3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14.png" ContentType="image/png"/>
  <Override PartName="/ppt/media/image15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EBD0-E944-4EAB-B180-24460538E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3E92-2390-439E-A6F4-1434AEF55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5BEE-7D5B-4EFD-B11C-64FC7F50C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DF4C-F6EA-471D-8585-5580CD429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01FA9-657B-4EC5-B5AE-95D4C40EF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B69CF-7CBE-4E9B-A14B-26CE6BCCE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8E826-7559-412B-B11B-BC475EB48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7A94C-82E4-4616-864F-7C670639C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CC5CD-6C13-4F88-94A7-A3690EF9E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E3B25-9450-4FE5-BF23-02C31DB3C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B4226-0FAE-4BC1-8A02-F0004F8D4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2F48-EA36-4A7E-8347-2DE67C580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E9797-AFB3-48BF-AB1E-CA10E15C4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03A23-B173-43DA-B132-9E3D04793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8FB04-9F80-4BF4-B481-56DFF8933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8CDFA-2F3F-472D-A0C1-F98F155F5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3BC20-0A5B-4D85-8AB3-480870E62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5BE618-2E50-4820-ADD0-E8F41262F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80165E-F09E-4F74-AB7A-B6AF24DB8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FC206F-D154-4445-A6CE-6EB146E93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E9891A-297B-4D16-BA3A-AEF818695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78A78B-8C38-461A-9E6D-EE7CCDB40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A482-3B92-41F4-B302-9460086B3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787B84-A81A-4B86-A44A-B762BA02E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FED089-19B7-42AB-A4B8-26611C65A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09033D-2ABE-40F4-B129-D901EEE5E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A4D702-54D6-4E2A-A666-A91146176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E2A097-5A3E-45E7-A9CE-8E23E326D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EEACE9-5042-4FE7-89B9-0455CC250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BA7C96-A8CC-4116-8BCF-B2AABC2F4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892BA3-7AE8-4BD9-8D7E-B07CAA249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CEE41C-7B0E-4DD9-88E4-7D8F5BC07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3B4949-CF1C-4BF9-8D0E-6255EF22E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B826-9BD6-45DA-8844-43A9B3633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C70801-54E6-4637-9122-17E7A8F91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5AEA8D-EBDF-4296-8363-6CEA129C3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3441B0-03BA-4FC8-9CE4-16E19730B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D1F64E-CD9F-4164-87B6-CCC242AC5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7050B0-ED90-40EA-BD1B-901F58BAF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5E818C-C907-46C8-9B08-201CA8966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C57A10-431B-46BC-838B-872AD6385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30D49F-6C16-4314-8194-6888D5CC1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FDCD2E-D779-4DF5-88C0-9DC1E109A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93D92E-18F4-4D2E-8CC5-57D79F407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4CFF-F1BB-4AA7-8AC2-D2AAA5DDE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F6486B-494E-44D6-B221-09A14AB73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268394-8264-443E-B388-7B826B59A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74D6E3-969F-4E43-9138-4303E5C41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6257DF-4F6D-49EC-8D42-4CC67455C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51D3BD-919B-4AAD-8208-957A784B8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B71CDB-531A-4BBC-B140-808681CC4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CF44A3-0F54-4BDD-8678-F20F1539B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AAA06F-08C6-487B-B2E7-FAC8AF20A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D42679-A40C-42EB-A2D0-ED43A4DB2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96C159-84ED-472C-96D1-854C33103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B3BD-C155-4D96-A355-72792B323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F72989-A9CC-4F9A-9B46-7337BCE1B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B24868-F735-4862-B83A-7395F2110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629C51-3F85-4CF3-8A4F-03326AC42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D77BDF-8E64-4003-B2F6-44B824CB1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671ED9-F77A-4209-8645-473AF94BE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812907-7E80-4F52-AE13-2B997F26C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8A2587-8E4F-46B6-8969-FEE6B05CE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472C1B-FC91-48D2-9A94-9E61F052F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C2672C-2CB0-4372-AE33-589907C5B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44E0F1-CEF2-46F5-BA17-95807A97A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5C54-2D28-4BAD-9B9E-9FB486AAA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97CE0A-BEA9-4FBB-9D68-3FE5B6DEA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F25D96-1062-40F7-8E51-3B38E0A36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C6FCD4-54E2-4D2C-9930-80E007DBD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BBD1-D469-44B7-BE07-2D33B834A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A40E-5ED7-4037-84CE-CEFCD06E4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Rectangle 8" descr=""/>
            <p:cNvPicPr/>
            <p:nvPr/>
          </p:nvPicPr>
          <p:blipFill>
            <a:blip r:embed="rId3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68007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68007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68007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68007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666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F549E-E416-440A-BD2C-95AB384E6E9D}" type="slidenum">
              <a:rPr b="0" lang="en-US" sz="1100" spc="-1" strike="noStrike">
                <a:solidFill>
                  <a:srgbClr val="666666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Straight Connector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68007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68007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68007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68007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15085-33CD-4CD4-9EA1-AB4AAEE2B627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Rectangle 8" descr=""/>
            <p:cNvPicPr/>
            <p:nvPr/>
          </p:nvPicPr>
          <p:blipFill>
            <a:blip r:embed="rId3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68007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68007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68007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68007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666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83242-A4C7-4D4B-9E50-38DADC2414C8}" type="slidenum">
              <a:rPr b="0" lang="en-US" sz="1100" spc="-1" strike="noStrike">
                <a:solidFill>
                  <a:srgbClr val="666666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68007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68007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68007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68007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666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495C8-3FD7-483C-860E-1265DCF0144D}" type="slidenum">
              <a:rPr b="0" lang="en-US" sz="1100" spc="-1" strike="noStrike">
                <a:solidFill>
                  <a:srgbClr val="666666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Rectangle 8" descr=""/>
            <p:cNvPicPr/>
            <p:nvPr/>
          </p:nvPicPr>
          <p:blipFill>
            <a:blip r:embed="rId3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68007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68007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68007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68007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666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1777F-566C-423D-9C11-9E04051F51B6}" type="slidenum">
              <a:rPr b="0" lang="en-US" sz="1100" spc="-1" strike="noStrike">
                <a:solidFill>
                  <a:srgbClr val="666666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221" name="Rectangle 8" descr=""/>
            <p:cNvPicPr/>
            <p:nvPr/>
          </p:nvPicPr>
          <p:blipFill>
            <a:blip r:embed="rId3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68007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68007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68007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68007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666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08805-C67C-4FC9-96A1-3C39317CEB34}" type="slidenum">
              <a:rPr b="0" lang="en-US" sz="1100" spc="-1" strike="noStrike">
                <a:solidFill>
                  <a:srgbClr val="666666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pn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2352600" cy="1943280"/>
          </a:xfrm>
          <a:prstGeom prst="rect">
            <a:avLst/>
          </a:prstGeom>
          <a:ln w="0">
            <a:noFill/>
          </a:ln>
        </p:spPr>
      </p:pic>
      <p:pic>
        <p:nvPicPr>
          <p:cNvPr id="265" name="Rectangle 3" descr=""/>
          <p:cNvPicPr/>
          <p:nvPr/>
        </p:nvPicPr>
        <p:blipFill>
          <a:blip r:embed="rId2"/>
          <a:stretch/>
        </p:blipFill>
        <p:spPr>
          <a:xfrm>
            <a:off x="858960" y="182520"/>
            <a:ext cx="8613720" cy="4707000"/>
          </a:xfrm>
          <a:prstGeom prst="rect">
            <a:avLst/>
          </a:prstGeom>
          <a:ln w="0">
            <a:noFill/>
          </a:ln>
        </p:spPr>
      </p:pic>
      <p:sp>
        <p:nvSpPr>
          <p:cNvPr id="266" name="Rectangle 4"/>
          <p:cNvSpPr/>
          <p:nvPr/>
        </p:nvSpPr>
        <p:spPr>
          <a:xfrm>
            <a:off x="2195640" y="0"/>
            <a:ext cx="4572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6"/>
          <p:cNvSpPr/>
          <p:nvPr/>
        </p:nvSpPr>
        <p:spPr>
          <a:xfrm>
            <a:off x="0" y="4429080"/>
            <a:ext cx="47149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X. B. osz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. Csoport: Boda Timea Kla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di Em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yom Balaz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h Pe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ncze Adina Ma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6" descr="SANY5403.JPG"/>
          <p:cNvPicPr/>
          <p:nvPr/>
        </p:nvPicPr>
        <p:blipFill>
          <a:blip r:embed="rId3"/>
          <a:stretch/>
        </p:blipFill>
        <p:spPr>
          <a:xfrm>
            <a:off x="3714840" y="2714760"/>
            <a:ext cx="5143320" cy="28573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Rectangl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A HA függvénnyel feltételes vizsgálatok hajthatók végre értékeken és képleteken.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Trebuchet MS"/>
              </a:rPr>
              <a:t>=HA(feltétel; ha igaz; ha hamis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03" name="Picture 5" descr="Happy Pencil"/>
          <p:cNvPicPr/>
          <p:nvPr/>
        </p:nvPicPr>
        <p:blipFill>
          <a:blip r:embed="rId2"/>
          <a:stretch/>
        </p:blipFill>
        <p:spPr>
          <a:xfrm>
            <a:off x="7429680" y="0"/>
            <a:ext cx="171432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5" descr="Smiling Pencil"/>
          <p:cNvPicPr/>
          <p:nvPr/>
        </p:nvPicPr>
        <p:blipFill>
          <a:blip r:embed="rId1"/>
          <a:stretch/>
        </p:blipFill>
        <p:spPr>
          <a:xfrm>
            <a:off x="6215040" y="3286080"/>
            <a:ext cx="2928960" cy="3571920"/>
          </a:xfrm>
          <a:prstGeom prst="rect">
            <a:avLst/>
          </a:prstGeom>
          <a:ln w="0">
            <a:noFill/>
          </a:ln>
        </p:spPr>
      </p:pic>
      <p:pic>
        <p:nvPicPr>
          <p:cNvPr id="305" name="Rectangle 2" descr=""/>
          <p:cNvPicPr/>
          <p:nvPr/>
        </p:nvPicPr>
        <p:blipFill>
          <a:blip r:embed="rId2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Az 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ÉS</a:t>
            </a: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 függvény egyik leggyakoribb szerepe más, logikai vizsgálatokat végrehajtó függvények hasznosságának kiterjesztése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Rectangl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Logikai1, logikai2...:</a:t>
            </a: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     1-30 vizsgálandó feltétel, amelyek IGAZ vagy HAMIS értéket vehetnek fel. 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09" name="Picture 5" descr="Smiling Pencil"/>
          <p:cNvPicPr/>
          <p:nvPr/>
        </p:nvPicPr>
        <p:blipFill>
          <a:blip r:embed="rId2"/>
          <a:stretch/>
        </p:blipFill>
        <p:spPr>
          <a:xfrm>
            <a:off x="6072120" y="0"/>
            <a:ext cx="3071880" cy="35352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Rectangl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A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SZUMHA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függvénnyel összeadhatja azokat az értékeket egy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tartományban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, amelyek megfelelnek a megadott feltételeknek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12" name="Picture 5" descr="Smiling Pencil"/>
          <p:cNvPicPr/>
          <p:nvPr/>
        </p:nvPicPr>
        <p:blipFill>
          <a:blip r:embed="rId2"/>
          <a:stretch/>
        </p:blipFill>
        <p:spPr>
          <a:xfrm>
            <a:off x="6111720" y="3500280"/>
            <a:ext cx="3032280" cy="33577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Rectangl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 </a:t>
            </a:r>
            <a:r>
              <a:rPr b="0" i="1" lang="en-US" sz="2600" spc="-1" strike="noStrike">
                <a:solidFill>
                  <a:srgbClr val="000000"/>
                </a:solidFill>
                <a:latin typeface="Trebuchet MS"/>
              </a:rPr>
              <a:t>kifejezés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helyőrző egy </a:t>
            </a: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karakterlánc-kifejezést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jelöl, amely azonosítja a megszámlálni kívánt értékeket tartalmazó mezőt, vagy pedig olyan kifejezés helyett áll, amely a mezőben szereplő adatokkal végez számításokat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15" name="Picture 7" descr="Pencil Smiling"/>
          <p:cNvPicPr/>
          <p:nvPr/>
        </p:nvPicPr>
        <p:blipFill>
          <a:blip r:embed="rId2"/>
          <a:stretch/>
        </p:blipFill>
        <p:spPr>
          <a:xfrm>
            <a:off x="7215120" y="1222200"/>
            <a:ext cx="1928880" cy="563580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Rectangl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Egy szám pozitív négyzetgyökét adja meg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18" name="Picture 5" descr="Smiling Red Pencil Isolated On A White Background"/>
          <p:cNvPicPr/>
          <p:nvPr/>
        </p:nvPicPr>
        <p:blipFill>
          <a:blip r:embed="rId2"/>
          <a:stretch/>
        </p:blipFill>
        <p:spPr>
          <a:xfrm>
            <a:off x="3071880" y="2571840"/>
            <a:ext cx="6072120" cy="42861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Picture 5" descr="http://www.dreamstime.com/smiling-pencil-thumb3319008.jpg"/>
          <p:cNvPicPr/>
          <p:nvPr/>
        </p:nvPicPr>
        <p:blipFill>
          <a:blip r:embed="rId1"/>
          <a:stretch/>
        </p:blipFill>
        <p:spPr>
          <a:xfrm>
            <a:off x="6537240" y="0"/>
            <a:ext cx="2606760" cy="3000240"/>
          </a:xfrm>
          <a:prstGeom prst="rect">
            <a:avLst/>
          </a:prstGeom>
          <a:ln w="0">
            <a:noFill/>
          </a:ln>
        </p:spPr>
      </p:pic>
      <p:pic>
        <p:nvPicPr>
          <p:cNvPr id="320" name="Rectangle 2" descr=""/>
          <p:cNvPicPr/>
          <p:nvPr/>
        </p:nvPicPr>
        <p:blipFill>
          <a:blip r:embed="rId2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A két függvény becslést ad egy, a lekérdezés megadott mezőjében található értékhalmazzal jelölt sokaság vagy mintasokaság varianciájára (szórásnégyzetére)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circl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rebuchet MS"/>
              </a:rPr>
              <a:t>A „szám” négyzetgyökét számítja ki. A szám tetszőleges nem negatív érték lehet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24" name="Picture 2" descr="http://t1.gstatic.com/images?q=tbn:7JdVikQmok9eZM:s"/>
          <p:cNvPicPr/>
          <p:nvPr/>
        </p:nvPicPr>
        <p:blipFill>
          <a:blip r:embed="rId2"/>
          <a:stretch/>
        </p:blipFill>
        <p:spPr>
          <a:xfrm>
            <a:off x="0" y="4227480"/>
            <a:ext cx="1876320" cy="263052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Rectangle 2" descr=""/>
          <p:cNvPicPr/>
          <p:nvPr/>
        </p:nvPicPr>
        <p:blipFill>
          <a:blip r:embed="rId1"/>
          <a:stretch/>
        </p:blipFill>
        <p:spPr>
          <a:xfrm>
            <a:off x="-49320" y="85680"/>
            <a:ext cx="7755120" cy="138276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http://informatika.gtportal.eu/index.php?f0=tablaz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http://clasa10-gasparedit.wikispaces.com/Material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K</a:t>
            </a:r>
            <a:r>
              <a:rPr b="0" lang="hu-HU" sz="2600" spc="-1" strike="noStrike">
                <a:solidFill>
                  <a:srgbClr val="000000"/>
                </a:solidFill>
                <a:latin typeface="Trebuchet MS"/>
              </a:rPr>
              <a:t>épek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: http://www.dreamstime.com/stock-photography-happy-boy-with-pencil-watercol-image5156102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Titlu 1" descr=""/>
          <p:cNvPicPr/>
          <p:nvPr/>
        </p:nvPicPr>
        <p:blipFill>
          <a:blip r:embed="rId1"/>
          <a:stretch/>
        </p:blipFill>
        <p:spPr>
          <a:xfrm>
            <a:off x="244440" y="291960"/>
            <a:ext cx="7461360" cy="117648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Trebuchet MS"/>
              </a:rPr>
              <a:t>Az Exel 2007 programot arra fejlesztették ki, hogy számitásokat készitsünk benne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Trebuchet MS"/>
              </a:rPr>
              <a:t>A számitasok létrehozása két  formája létezik: képlet és függvény használatával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Trebuchet MS"/>
              </a:rPr>
              <a:t>Képlettet akkor kell használnunk, ha a feladathoz nincs beépitett fügvény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Trebuchet MS"/>
              </a:rPr>
              <a:t>Függvények a programba épitett számoló egységek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71" name="Picture 2" descr="http://www.frontiernet.net/~mblow/images/writerworkshop/pencil%20funny.gif"/>
          <p:cNvPicPr/>
          <p:nvPr/>
        </p:nvPicPr>
        <p:blipFill>
          <a:blip r:embed="rId2"/>
          <a:stretch/>
        </p:blipFill>
        <p:spPr>
          <a:xfrm>
            <a:off x="7572240" y="3071880"/>
            <a:ext cx="1571760" cy="37861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6" descr="http://cdn.mgsrvr.com/funnies/pencil_draw_lg_nwm.gif"/>
          <p:cNvPicPr/>
          <p:nvPr/>
        </p:nvPicPr>
        <p:blipFill>
          <a:blip r:embed="rId1"/>
          <a:stretch/>
        </p:blipFill>
        <p:spPr>
          <a:xfrm>
            <a:off x="5421240" y="0"/>
            <a:ext cx="3722760" cy="6858000"/>
          </a:xfrm>
          <a:prstGeom prst="rect">
            <a:avLst/>
          </a:prstGeom>
          <a:ln w="0">
            <a:noFill/>
          </a:ln>
        </p:spPr>
      </p:pic>
      <p:pic>
        <p:nvPicPr>
          <p:cNvPr id="273" name="Titlu 1" descr=""/>
          <p:cNvPicPr/>
          <p:nvPr/>
        </p:nvPicPr>
        <p:blipFill>
          <a:blip r:embed="rId2"/>
          <a:stretch/>
        </p:blipFill>
        <p:spPr>
          <a:xfrm>
            <a:off x="285840" y="506520"/>
            <a:ext cx="7462800" cy="221292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 txBox="1"/>
          <p:nvPr/>
        </p:nvSpPr>
        <p:spPr>
          <a:xfrm>
            <a:off x="500040" y="299988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Trebuchet MS"/>
              </a:rPr>
              <a:t>Nem szükséges külön elvégezni minden számolást hanem meg lehet sokszorozni az eredményt a képletek másolásával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75" name="Picture 2" descr="http://www.frontiernet.net/~mblow/images/writerworkshop/bookguy.gif"/>
          <p:cNvPicPr/>
          <p:nvPr/>
        </p:nvPicPr>
        <p:blipFill>
          <a:blip r:embed="rId3"/>
          <a:stretch/>
        </p:blipFill>
        <p:spPr>
          <a:xfrm>
            <a:off x="0" y="4786200"/>
            <a:ext cx="2071800" cy="20718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 txBox="1"/>
          <p:nvPr/>
        </p:nvSpPr>
        <p:spPr>
          <a:xfrm>
            <a:off x="457200" y="713880"/>
            <a:ext cx="82296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000000"/>
                </a:solidFill>
                <a:latin typeface="Trebuchet MS"/>
              </a:rPr>
              <a:t>Három tipusú cellahivatkozás ismert: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000000"/>
                </a:solidFill>
                <a:latin typeface="Trebuchet MS"/>
              </a:rPr>
              <a:t>- Abszolút hivatkozás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000000"/>
                </a:solidFill>
                <a:latin typeface="Trebuchet MS"/>
              </a:rPr>
              <a:t>- Relativív hivatkozás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000000"/>
                </a:solidFill>
                <a:latin typeface="Trebuchet MS"/>
              </a:rPr>
              <a:t>- Vegyes hivatkoás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77" name="Picture 2" descr="http://www.frontiernet.net/~mblow/images/homepage/PencilEraser.jpg"/>
          <p:cNvPicPr/>
          <p:nvPr/>
        </p:nvPicPr>
        <p:blipFill>
          <a:blip r:embed="rId1"/>
          <a:stretch/>
        </p:blipFill>
        <p:spPr>
          <a:xfrm>
            <a:off x="0" y="4143240"/>
            <a:ext cx="2502000" cy="271476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4" descr="http://image.shutterstock.com/display_pic_with_logo/484729/484729,1255252969,2/stock-vector-book-with-pencil-38627632.jpg"/>
          <p:cNvPicPr/>
          <p:nvPr/>
        </p:nvPicPr>
        <p:blipFill>
          <a:blip r:embed="rId2"/>
          <a:stretch/>
        </p:blipFill>
        <p:spPr>
          <a:xfrm>
            <a:off x="7286760" y="3143160"/>
            <a:ext cx="2000160" cy="37148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Rectangle 2" descr=""/>
          <p:cNvPicPr/>
          <p:nvPr/>
        </p:nvPicPr>
        <p:blipFill>
          <a:blip r:embed="rId1"/>
          <a:stretch/>
        </p:blipFill>
        <p:spPr>
          <a:xfrm>
            <a:off x="225360" y="231840"/>
            <a:ext cx="7480440" cy="123660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Trebuchet MS"/>
              </a:rPr>
              <a:t>A leggyakrabban használt függvények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Trebuchet MS"/>
              </a:rPr>
              <a:t>Matematikai függvények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Trebuchet MS"/>
              </a:rPr>
              <a:t>Statisztikai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hu-HU" sz="2600" spc="-1" strike="noStrike">
                <a:solidFill>
                  <a:srgbClr val="000000"/>
                </a:solidFill>
                <a:latin typeface="Trebuchet MS"/>
              </a:rPr>
              <a:t>függvények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Trebuchet MS"/>
              </a:rPr>
              <a:t>Logikai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hu-HU" sz="2600" spc="-1" strike="noStrike">
                <a:solidFill>
                  <a:srgbClr val="000000"/>
                </a:solidFill>
                <a:latin typeface="Trebuchet MS"/>
              </a:rPr>
              <a:t>függvények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Trebuchet MS"/>
              </a:rPr>
              <a:t>Dátum és idő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hu-HU" sz="2600" spc="-1" strike="noStrike">
                <a:solidFill>
                  <a:srgbClr val="000000"/>
                </a:solidFill>
                <a:latin typeface="Trebuchet MS"/>
              </a:rPr>
              <a:t>függvények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Trebuchet MS"/>
              </a:rPr>
              <a:t>Trigonometriai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hu-HU" sz="2600" spc="-1" strike="noStrike">
                <a:solidFill>
                  <a:srgbClr val="000000"/>
                </a:solidFill>
                <a:latin typeface="Trebuchet MS"/>
              </a:rPr>
              <a:t>függvények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Trebuchet MS"/>
              </a:rPr>
              <a:t>Informatikai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hu-HU" sz="2600" spc="-1" strike="noStrike">
                <a:solidFill>
                  <a:srgbClr val="000000"/>
                </a:solidFill>
                <a:latin typeface="Trebuchet MS"/>
              </a:rPr>
              <a:t>függvények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Trebuchet MS"/>
              </a:rPr>
              <a:t>Pénzügyi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hu-HU" sz="2600" spc="-1" strike="noStrike">
                <a:solidFill>
                  <a:srgbClr val="000000"/>
                </a:solidFill>
                <a:latin typeface="Trebuchet MS"/>
              </a:rPr>
              <a:t>függvények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81" name="Picture 5" descr="http://images.clipartof.com/thumbnails/223883-Royalty-Free-RF-Clipart-Illustration-Of-A-Funny-Moodie-Character-Holding-A-Pencil-By-Note-Paper.jpg"/>
          <p:cNvPicPr/>
          <p:nvPr/>
        </p:nvPicPr>
        <p:blipFill>
          <a:blip r:embed="rId2"/>
          <a:stretch/>
        </p:blipFill>
        <p:spPr>
          <a:xfrm>
            <a:off x="7000920" y="3286080"/>
            <a:ext cx="2143080" cy="357192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Rectangle 2" descr=""/>
          <p:cNvPicPr/>
          <p:nvPr/>
        </p:nvPicPr>
        <p:blipFill>
          <a:blip r:embed="rId1"/>
          <a:stretch/>
        </p:blipFill>
        <p:spPr>
          <a:xfrm>
            <a:off x="268200" y="-225360"/>
            <a:ext cx="8467920" cy="2882880"/>
          </a:xfrm>
          <a:prstGeom prst="rect">
            <a:avLst/>
          </a:prstGeom>
          <a:ln w="0">
            <a:noFill/>
          </a:ln>
        </p:spPr>
      </p:pic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571680" y="31431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rebuchet MS"/>
              </a:rPr>
              <a:t>A tartomány számadatokkal kitöltött celláinak összegét számolja ki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4" name="Object 9"/>
              <p:cNvSpPr txBox="1"/>
              <p:nvPr/>
            </p:nvSpPr>
            <p:spPr>
              <a:xfrm>
                <a:off x="4929120" y="4929120"/>
                <a:ext cx="403380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zum=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+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285" name="Picture 5" descr=""/>
          <p:cNvPicPr/>
          <p:nvPr/>
        </p:nvPicPr>
        <p:blipFill>
          <a:blip r:embed="rId2"/>
          <a:stretch/>
        </p:blipFill>
        <p:spPr>
          <a:xfrm>
            <a:off x="214200" y="2357280"/>
            <a:ext cx="8686800" cy="149256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Rectangle 5" descr=""/>
          <p:cNvPicPr/>
          <p:nvPr/>
        </p:nvPicPr>
        <p:blipFill>
          <a:blip r:embed="rId1"/>
          <a:stretch/>
        </p:blipFill>
        <p:spPr>
          <a:xfrm>
            <a:off x="85680" y="317520"/>
            <a:ext cx="7620120" cy="1150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7" name="Object 8"/>
          <p:cNvGraphicFramePr/>
          <p:nvPr/>
        </p:nvGraphicFramePr>
        <p:xfrm>
          <a:off x="1258920" y="1628640"/>
          <a:ext cx="7883640" cy="1533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8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58920" y="1628640"/>
                    <a:ext cx="7883640" cy="15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9" name=""/>
          <p:cNvSpPr txBox="1"/>
          <p:nvPr/>
        </p:nvSpPr>
        <p:spPr>
          <a:xfrm>
            <a:off x="4177800" y="1600200"/>
            <a:ext cx="352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/>
          </p:nvPr>
        </p:nvSpPr>
        <p:spPr>
          <a:xfrm>
            <a:off x="0" y="371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Trebuchet MS"/>
              </a:rPr>
              <a:t>A tartományban szereplő legnagyobb értéket adja eredményü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91" name="Picture 13" descr=""/>
          <p:cNvPicPr/>
          <p:nvPr/>
        </p:nvPicPr>
        <p:blipFill>
          <a:blip r:embed="rId4"/>
          <a:stretch/>
        </p:blipFill>
        <p:spPr>
          <a:xfrm>
            <a:off x="5715000" y="3533760"/>
            <a:ext cx="3429000" cy="33242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Rectangle 5" descr=""/>
          <p:cNvPicPr/>
          <p:nvPr/>
        </p:nvPicPr>
        <p:blipFill>
          <a:blip r:embed="rId1"/>
          <a:stretch/>
        </p:blipFill>
        <p:spPr>
          <a:xfrm>
            <a:off x="255600" y="-6480"/>
            <a:ext cx="7493040" cy="115884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 txBox="1"/>
          <p:nvPr/>
        </p:nvSpPr>
        <p:spPr>
          <a:xfrm>
            <a:off x="684360" y="32130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rebuchet MS"/>
              </a:rPr>
              <a:t>A tartományban szereplő legkisebb értéket adja eredményül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177800" y="1600200"/>
            <a:ext cx="352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95" name="Picture 8" descr=""/>
          <p:cNvPicPr/>
          <p:nvPr/>
        </p:nvPicPr>
        <p:blipFill>
          <a:blip r:embed="rId2"/>
          <a:stretch/>
        </p:blipFill>
        <p:spPr>
          <a:xfrm>
            <a:off x="0" y="1341360"/>
            <a:ext cx="8893080" cy="188748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11" descr=""/>
          <p:cNvPicPr/>
          <p:nvPr/>
        </p:nvPicPr>
        <p:blipFill>
          <a:blip r:embed="rId3"/>
          <a:stretch/>
        </p:blipFill>
        <p:spPr>
          <a:xfrm>
            <a:off x="4857840" y="3317760"/>
            <a:ext cx="4286160" cy="35402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Rectangle 5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8" name="Object 7"/>
              <p:cNvSpPr txBox="1"/>
              <p:nvPr/>
            </p:nvSpPr>
            <p:spPr>
              <a:xfrm>
                <a:off x="928800" y="4429080"/>
                <a:ext cx="4037040" cy="14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átlag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+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9" name=""/>
          <p:cNvSpPr txBox="1"/>
          <p:nvPr/>
        </p:nvSpPr>
        <p:spPr>
          <a:xfrm>
            <a:off x="285480" y="1785960"/>
            <a:ext cx="352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rebuchet MS"/>
              </a:rPr>
              <a:t>A tartomány számadatokkal kitöltött celláinak átlagát számolja ki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00" name="Picture 12" descr="Happy Boy With Pencil-watercol"/>
          <p:cNvPicPr/>
          <p:nvPr/>
        </p:nvPicPr>
        <p:blipFill>
          <a:blip r:embed="rId2"/>
          <a:stretch/>
        </p:blipFill>
        <p:spPr>
          <a:xfrm>
            <a:off x="5334120" y="0"/>
            <a:ext cx="3809880" cy="3838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8T11:30:10Z</dcterms:created>
  <dc:creator>Elev</dc:creator>
  <dc:description/>
  <dc:language>en-US</dc:language>
  <cp:lastModifiedBy>Bela</cp:lastModifiedBy>
  <dcterms:modified xsi:type="dcterms:W3CDTF">2010-10-10T11:47:23Z</dcterms:modified>
  <cp:revision>15</cp:revision>
  <dc:subject/>
  <dc:title>Slide 1</dc:title>
</cp:coreProperties>
</file>