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6.jpeg" ContentType="image/jpeg"/>
  <Override PartName="/ppt/media/image24.jpeg" ContentType="image/jpeg"/>
  <Override PartName="/ppt/media/image22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1.png" ContentType="image/png"/>
  <Override PartName="/ppt/media/image12.jpeg" ContentType="image/jpeg"/>
  <Override PartName="/ppt/media/image37.jpeg" ContentType="image/jpeg"/>
  <Override PartName="/ppt/media/image23.png" ContentType="image/png"/>
  <Override PartName="/ppt/media/image13.jpeg" ContentType="image/jpeg"/>
  <Override PartName="/ppt/media/image40.jpeg" ContentType="image/jpeg"/>
  <Override PartName="/ppt/media/image30.jpeg" ContentType="image/jpeg"/>
  <Override PartName="/ppt/media/image31.png" ContentType="image/png"/>
  <Override PartName="/ppt/media/image36.jpeg" ContentType="image/jpeg"/>
  <Override PartName="/ppt/media/image39.png" ContentType="image/png"/>
  <Override PartName="/ppt/media/image41.png" ContentType="image/png"/>
  <Override PartName="/ppt/media/image9.gif" ContentType="image/gif"/>
  <Override PartName="/ppt/media/image34.jpeg" ContentType="image/jpeg"/>
  <Override PartName="/ppt/media/image7.png" ContentType="image/png"/>
  <Override PartName="/ppt/media/image38.png" ContentType="image/png"/>
  <Override PartName="/ppt/media/image8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14.png" ContentType="image/png"/>
  <Override PartName="/ppt/media/image15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4AC9-B850-4581-8A44-99CD3BDF7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5B07-1826-47B9-B075-6B66DBBB6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14B3-8E8B-492C-B60C-264820890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C070-BF08-4ACA-A192-39191051C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5AB00-1A6E-4C27-AC88-CF685B3E7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F18FF-EA45-4465-AA5D-1B356B903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9D291-3C26-4EDD-BB9C-4E8BCACC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ECCA5-000A-47A9-BE9E-7C277D46F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2155D-BD3D-4D3D-9F85-416EDF06E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75A4C-19BA-444A-B528-D7AB8E4E1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8E7B6-34B0-425D-B07F-D391504F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41DF-F054-4480-B837-473496044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0C7DF-CD70-4321-955E-BFA7948D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A1E32-B0C6-4C91-8B9E-7BB3038A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E5C4A-1B13-42B1-93F6-4E4A0FD7D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CFCDF-BE45-434B-AFDE-53FAA56A4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319F4-03A3-48B7-A97B-B0A5BB38D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0B1FA-F937-4E66-853D-D49649F95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F4855-09E8-4A73-ACC7-BF25FFE2A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68DCA-2751-4BC7-9A32-75220AE8C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D8BAF-BF81-4671-9ED6-3C3F177FB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23ABC-6181-435B-BD85-52AFAAEF8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B5F5-41DA-4CEF-938D-6B8EA6B1C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471F3-5E66-4E1F-B312-4841D0A94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F562B-E819-42AB-A04C-6FADCFE3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CEE7E-D001-44A6-A094-949B395B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E4AD9-701D-44C8-8986-ACB1102A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99A91-8587-4580-ADAA-34A81CFF1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89BF3-E88A-4A85-A87A-257699421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ADFD6-C7F7-43CF-B353-9F4EE5F9B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05414-7D4C-466B-8599-54467CD63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0DE87-E371-411F-A7A4-67C7D31B0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37BA4-CB68-4B23-A850-13AB75508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D523-CCA4-4829-880E-E9619989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8CC48-6BA8-4B78-A790-F7758D799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E2B43-F2D5-475B-A8D5-F80956499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27072-1C65-4F3B-8A70-9E9330123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7CDD0-2FAA-47F6-AA21-73882EB0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FE7F6-4F81-4070-BCFC-345F16FB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B6A0B-D4B6-4FC9-BB64-544C0963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1F8C2-E0A1-4A4E-A1DD-476F9E1CC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9B6C5-7E2C-4137-B11B-A9181285B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05B36-86CE-45FD-A230-AB56EDF60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5CE9F-808A-4042-A83F-9D62E596A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9EC5-AFE8-489A-9785-AEE8E1607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0ED9D-6BAD-49EB-98CF-D76DC0DCC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8E5F5-66BA-4097-AFB1-9E459FA5E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EDF77-7FB4-42E5-8D3C-42D301E1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357B6-A209-4882-9148-9DC9B6215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211F3-E8BF-43EA-A4EA-619D8E861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6C07F-D519-4E3E-B48C-5D62310C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60CA0-ED41-44A7-B298-BCDC08FD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32826-A02B-4AF2-A4F4-806695DE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D7703-128F-4E59-B80C-C3237A16F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31229-CB4C-400A-9D24-9DE235139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B202-EE89-4E57-A833-9DFD8B9BE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02EA3-7224-4885-9860-9CDDFC1F8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37AA1F-C882-4AAF-BF7F-019F0D6E7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B0DF5-4B52-4385-BBAA-FC7F1952F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0A303-E45F-482A-9D93-D3647578B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7BDC3-1EA5-45B3-AF2A-17FE317B9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ABC72-E3FC-4A95-8569-767105159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E027C-C9A6-49C5-90CE-52AAED4F1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A3708-168A-4AA4-996C-3BF3D7D1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E36A7-9941-4BD7-AF54-4ADD482B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5E166-9EB0-4312-A32F-9749629C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48D3-7138-4A46-A2F8-01EAD82D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9A07B-7E01-47BC-A443-290C6BB2C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6AE63F-C573-4634-9DCC-50826459A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D440B2-BAFF-4D9E-9023-2E90FEF7F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9C8D-306B-42D0-B7E4-CB57FAC5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C05B-3227-4A1E-A095-4A621421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68007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68007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6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7E45E-3631-4158-8999-8B8DA85C2955}" type="slidenum">
              <a:rPr b="0" lang="en-US" sz="1100" spc="-1" strike="noStrike">
                <a:solidFill>
                  <a:srgbClr val="6666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68007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68007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378AB-13AA-4085-891A-EF5F2F638078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68007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68007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6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F2346-6611-4E48-B20A-9D145157C6B2}" type="slidenum">
              <a:rPr b="0" lang="en-US" sz="1100" spc="-1" strike="noStrike">
                <a:solidFill>
                  <a:srgbClr val="6666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68007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68007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6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F0504-1156-4861-ADE9-BDE4612C5C56}" type="slidenum">
              <a:rPr b="0" lang="en-US" sz="1100" spc="-1" strike="noStrike">
                <a:solidFill>
                  <a:srgbClr val="6666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68007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68007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6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1CCAC-A0AD-451A-9852-89135BDD074D}" type="slidenum">
              <a:rPr b="0" lang="en-US" sz="1100" spc="-1" strike="noStrike">
                <a:solidFill>
                  <a:srgbClr val="6666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1" name="Rectangle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68007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68007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6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0A9F9-B7BF-4835-B9DA-DFC1D5A5E0E6}" type="slidenum">
              <a:rPr b="0" lang="en-US" sz="1100" spc="-1" strike="noStrike">
                <a:solidFill>
                  <a:srgbClr val="6666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2352600" cy="1943280"/>
          </a:xfrm>
          <a:prstGeom prst="rect">
            <a:avLst/>
          </a:prstGeom>
          <a:ln w="0">
            <a:noFill/>
          </a:ln>
        </p:spPr>
      </p:pic>
      <p:pic>
        <p:nvPicPr>
          <p:cNvPr id="265" name="Rectangle 3" descr=""/>
          <p:cNvPicPr/>
          <p:nvPr/>
        </p:nvPicPr>
        <p:blipFill>
          <a:blip r:embed="rId2"/>
          <a:stretch/>
        </p:blipFill>
        <p:spPr>
          <a:xfrm>
            <a:off x="858960" y="182520"/>
            <a:ext cx="8613720" cy="470700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4"/>
          <p:cNvSpPr/>
          <p:nvPr/>
        </p:nvSpPr>
        <p:spPr>
          <a:xfrm>
            <a:off x="2195640" y="0"/>
            <a:ext cx="457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0" y="4429080"/>
            <a:ext cx="4714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X. B. os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. Csoport: Boda Timea Kl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di Em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yom Balaz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h P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ncze Adina M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6" descr="SANY5403.JPG"/>
          <p:cNvPicPr/>
          <p:nvPr/>
        </p:nvPicPr>
        <p:blipFill>
          <a:blip r:embed="rId3"/>
          <a:stretch/>
        </p:blipFill>
        <p:spPr>
          <a:xfrm>
            <a:off x="3714840" y="2714760"/>
            <a:ext cx="5143320" cy="28573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A HA függvénnyel feltételes vizsgálatok hajthatók végre értékeken és képleteken.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Trebuchet MS"/>
              </a:rPr>
              <a:t>=HA(feltétel; ha igaz; ha hamis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3" name="Picture 5" descr="Happy Pencil"/>
          <p:cNvPicPr/>
          <p:nvPr/>
        </p:nvPicPr>
        <p:blipFill>
          <a:blip r:embed="rId2"/>
          <a:stretch/>
        </p:blipFill>
        <p:spPr>
          <a:xfrm>
            <a:off x="7429680" y="0"/>
            <a:ext cx="171432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5" descr="Smiling Pencil"/>
          <p:cNvPicPr/>
          <p:nvPr/>
        </p:nvPicPr>
        <p:blipFill>
          <a:blip r:embed="rId1"/>
          <a:stretch/>
        </p:blipFill>
        <p:spPr>
          <a:xfrm>
            <a:off x="6215040" y="3286080"/>
            <a:ext cx="2928960" cy="3571920"/>
          </a:xfrm>
          <a:prstGeom prst="rect">
            <a:avLst/>
          </a:prstGeom>
          <a:ln w="0">
            <a:noFill/>
          </a:ln>
        </p:spPr>
      </p:pic>
      <p:pic>
        <p:nvPicPr>
          <p:cNvPr id="305" name="Rectangle 2" descr=""/>
          <p:cNvPicPr/>
          <p:nvPr/>
        </p:nvPicPr>
        <p:blipFill>
          <a:blip r:embed="rId2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Az 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ÉS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 függvény egyik leggyakoribb szerepe más, logikai vizsgálatokat végrehajtó függvények hasznosságának kiterjesztése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Logikai1, logikai2...:</a:t>
            </a: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     1-30 vizsgálandó feltétel, amelyek IGAZ vagy HAMIS értéket vehetnek fel.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9" name="Picture 5" descr="Smiling Pencil"/>
          <p:cNvPicPr/>
          <p:nvPr/>
        </p:nvPicPr>
        <p:blipFill>
          <a:blip r:embed="rId2"/>
          <a:stretch/>
        </p:blipFill>
        <p:spPr>
          <a:xfrm>
            <a:off x="6072120" y="0"/>
            <a:ext cx="3071880" cy="35352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ZUMHA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függvénnyel összeadhatja azokat az értékeket egy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artományban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, amelyek megfelelnek a megadott feltételeknek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2" name="Picture 5" descr="Smiling Pencil"/>
          <p:cNvPicPr/>
          <p:nvPr/>
        </p:nvPicPr>
        <p:blipFill>
          <a:blip r:embed="rId2"/>
          <a:stretch/>
        </p:blipFill>
        <p:spPr>
          <a:xfrm>
            <a:off x="6111720" y="3500280"/>
            <a:ext cx="3032280" cy="33577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 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kifejezés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helyőrző egy 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karakterlánc-kifejezést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jelöl, amely azonosítja a megszámlálni kívánt értékeket tartalmazó mezőt, vagy pedig olyan kifejezés helyett áll, amely a mezőben szereplő adatokkal végez számításokat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5" name="Picture 7" descr="Pencil Smiling"/>
          <p:cNvPicPr/>
          <p:nvPr/>
        </p:nvPicPr>
        <p:blipFill>
          <a:blip r:embed="rId2"/>
          <a:stretch/>
        </p:blipFill>
        <p:spPr>
          <a:xfrm>
            <a:off x="7215120" y="1222200"/>
            <a:ext cx="1928880" cy="56358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Egy szám pozitív négyzetgyökét adja meg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8" name="Picture 5" descr="Smiling Red Pencil Isolated On A White Background"/>
          <p:cNvPicPr/>
          <p:nvPr/>
        </p:nvPicPr>
        <p:blipFill>
          <a:blip r:embed="rId2"/>
          <a:stretch/>
        </p:blipFill>
        <p:spPr>
          <a:xfrm>
            <a:off x="3071880" y="2571840"/>
            <a:ext cx="6072120" cy="42861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5" descr="http://www.dreamstime.com/smiling-pencil-thumb3319008.jpg"/>
          <p:cNvPicPr/>
          <p:nvPr/>
        </p:nvPicPr>
        <p:blipFill>
          <a:blip r:embed="rId1"/>
          <a:stretch/>
        </p:blipFill>
        <p:spPr>
          <a:xfrm>
            <a:off x="6537240" y="0"/>
            <a:ext cx="2606760" cy="3000240"/>
          </a:xfrm>
          <a:prstGeom prst="rect">
            <a:avLst/>
          </a:prstGeom>
          <a:ln w="0">
            <a:noFill/>
          </a:ln>
        </p:spPr>
      </p:pic>
      <p:pic>
        <p:nvPicPr>
          <p:cNvPr id="320" name="Rectangle 2" descr=""/>
          <p:cNvPicPr/>
          <p:nvPr/>
        </p:nvPicPr>
        <p:blipFill>
          <a:blip r:embed="rId2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A két függvény becslést ad egy, a lekérdezés megadott mezőjében található értékhalmazzal jelölt sokaság vagy mintasokaság varianciájára (szórásnégyzetére)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rebuchet MS"/>
              </a:rPr>
              <a:t>A „szám” négyzetgyökét számítja ki. A szám tetszőleges nem negatív érték lehet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24" name="Picture 2" descr="http://t1.gstatic.com/images?q=tbn:7JdVikQmok9eZM:s"/>
          <p:cNvPicPr/>
          <p:nvPr/>
        </p:nvPicPr>
        <p:blipFill>
          <a:blip r:embed="rId2"/>
          <a:stretch/>
        </p:blipFill>
        <p:spPr>
          <a:xfrm>
            <a:off x="0" y="4227480"/>
            <a:ext cx="1876320" cy="26305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Rectangle 2" descr=""/>
          <p:cNvPicPr/>
          <p:nvPr/>
        </p:nvPicPr>
        <p:blipFill>
          <a:blip r:embed="rId1"/>
          <a:stretch/>
        </p:blipFill>
        <p:spPr>
          <a:xfrm>
            <a:off x="-49320" y="85680"/>
            <a:ext cx="7755120" cy="13827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ttp://informatika.gtportal.eu/index.php?f0=tablaz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ttp://clasa10-gasparedit.wikispaces.com/Material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K</a:t>
            </a: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épek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: http://www.dreamstime.com/stock-photography-happy-boy-with-pencil-watercol-image5156102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Titlu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Az Exel 2007 programot arra fejlesztették ki, hogy számitásokat készitsünk benne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A számitasok létrehozása két  formája létezik: képlet és függvény használatával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Képlettet akkor kell használnunk, ha a feladathoz nincs beépitett fügvény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Függvények a programba épitett számoló egységek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1" name="Picture 2" descr="http://www.frontiernet.net/~mblow/images/writerworkshop/pencil%20funny.gif"/>
          <p:cNvPicPr/>
          <p:nvPr/>
        </p:nvPicPr>
        <p:blipFill>
          <a:blip r:embed="rId2"/>
          <a:stretch/>
        </p:blipFill>
        <p:spPr>
          <a:xfrm>
            <a:off x="7572240" y="3071880"/>
            <a:ext cx="1571760" cy="3786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6" descr="http://cdn.mgsrvr.com/funnies/pencil_draw_lg_nwm.gif"/>
          <p:cNvPicPr/>
          <p:nvPr/>
        </p:nvPicPr>
        <p:blipFill>
          <a:blip r:embed="rId1"/>
          <a:stretch/>
        </p:blipFill>
        <p:spPr>
          <a:xfrm>
            <a:off x="5421240" y="0"/>
            <a:ext cx="3722760" cy="6858000"/>
          </a:xfrm>
          <a:prstGeom prst="rect">
            <a:avLst/>
          </a:prstGeom>
          <a:ln w="0">
            <a:noFill/>
          </a:ln>
        </p:spPr>
      </p:pic>
      <p:pic>
        <p:nvPicPr>
          <p:cNvPr id="273" name="Titlu 1" descr=""/>
          <p:cNvPicPr/>
          <p:nvPr/>
        </p:nvPicPr>
        <p:blipFill>
          <a:blip r:embed="rId2"/>
          <a:stretch/>
        </p:blipFill>
        <p:spPr>
          <a:xfrm>
            <a:off x="285840" y="506520"/>
            <a:ext cx="7462800" cy="221292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 txBox="1"/>
          <p:nvPr/>
        </p:nvSpPr>
        <p:spPr>
          <a:xfrm>
            <a:off x="500040" y="299988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Nem szükséges külön elvégezni minden számolást hanem meg lehet sokszorozni az eredményt a képletek másolásával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5" name="Picture 2" descr="http://www.frontiernet.net/~mblow/images/writerworkshop/bookguy.gif"/>
          <p:cNvPicPr/>
          <p:nvPr/>
        </p:nvPicPr>
        <p:blipFill>
          <a:blip r:embed="rId3"/>
          <a:stretch/>
        </p:blipFill>
        <p:spPr>
          <a:xfrm>
            <a:off x="0" y="4786200"/>
            <a:ext cx="2071800" cy="2071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Trebuchet MS"/>
              </a:rPr>
              <a:t>Három tipusú cellahivatkozás ismert: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Trebuchet MS"/>
              </a:rPr>
              <a:t>- Abszolút hivatkozás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Trebuchet MS"/>
              </a:rPr>
              <a:t>- Relativív hivatkozás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Trebuchet MS"/>
              </a:rPr>
              <a:t>- Vegyes hivatkoás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7" name="Picture 2" descr="http://www.frontiernet.net/~mblow/images/homepage/PencilEraser.jpg"/>
          <p:cNvPicPr/>
          <p:nvPr/>
        </p:nvPicPr>
        <p:blipFill>
          <a:blip r:embed="rId1"/>
          <a:stretch/>
        </p:blipFill>
        <p:spPr>
          <a:xfrm>
            <a:off x="0" y="4143240"/>
            <a:ext cx="2502000" cy="27147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" descr="http://image.shutterstock.com/display_pic_with_logo/484729/484729,1255252969,2/stock-vector-book-with-pencil-38627632.jpg"/>
          <p:cNvPicPr/>
          <p:nvPr/>
        </p:nvPicPr>
        <p:blipFill>
          <a:blip r:embed="rId2"/>
          <a:stretch/>
        </p:blipFill>
        <p:spPr>
          <a:xfrm>
            <a:off x="7286760" y="3143160"/>
            <a:ext cx="2000160" cy="3714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Rectangle 2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A leggyakrabban használt függvények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Matematikai függvények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Statisztikai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függvénye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Logikai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függvénye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Dátum és idő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függvénye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Trigonometriai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függvénye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Informatikai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függvénye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Pénzügyi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függvénye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1" name="Picture 5" descr="http://images.clipartof.com/thumbnails/223883-Royalty-Free-RF-Clipart-Illustration-Of-A-Funny-Moodie-Character-Holding-A-Pencil-By-Note-Paper.jpg"/>
          <p:cNvPicPr/>
          <p:nvPr/>
        </p:nvPicPr>
        <p:blipFill>
          <a:blip r:embed="rId2"/>
          <a:stretch/>
        </p:blipFill>
        <p:spPr>
          <a:xfrm>
            <a:off x="7000920" y="3286080"/>
            <a:ext cx="2143080" cy="35719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Rectangle 2" descr=""/>
          <p:cNvPicPr/>
          <p:nvPr/>
        </p:nvPicPr>
        <p:blipFill>
          <a:blip r:embed="rId1"/>
          <a:stretch/>
        </p:blipFill>
        <p:spPr>
          <a:xfrm>
            <a:off x="268200" y="-225360"/>
            <a:ext cx="8467920" cy="288288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571680" y="31431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rebuchet MS"/>
              </a:rPr>
              <a:t>A tartomány számadatokkal kitöltött celláinak összegét számolja ki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9"/>
              <p:cNvSpPr txBox="1"/>
              <p:nvPr/>
            </p:nvSpPr>
            <p:spPr>
              <a:xfrm>
                <a:off x="4929120" y="4929120"/>
                <a:ext cx="403380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zum=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285" name="Picture 5" descr=""/>
          <p:cNvPicPr/>
          <p:nvPr/>
        </p:nvPicPr>
        <p:blipFill>
          <a:blip r:embed="rId2"/>
          <a:stretch/>
        </p:blipFill>
        <p:spPr>
          <a:xfrm>
            <a:off x="214200" y="2357280"/>
            <a:ext cx="8686800" cy="14925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Rectangle 5" descr=""/>
          <p:cNvPicPr/>
          <p:nvPr/>
        </p:nvPicPr>
        <p:blipFill>
          <a:blip r:embed="rId1"/>
          <a:stretch/>
        </p:blipFill>
        <p:spPr>
          <a:xfrm>
            <a:off x="85680" y="317520"/>
            <a:ext cx="762012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7" name="Object 8"/>
          <p:cNvGraphicFramePr/>
          <p:nvPr/>
        </p:nvGraphicFramePr>
        <p:xfrm>
          <a:off x="1258920" y="1628640"/>
          <a:ext cx="7883640" cy="153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8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8920" y="1628640"/>
                    <a:ext cx="7883640" cy="15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0" y="371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A tartományban szereplő legnagyobb értéket adja eredményü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1" name="Picture 13" descr=""/>
          <p:cNvPicPr/>
          <p:nvPr/>
        </p:nvPicPr>
        <p:blipFill>
          <a:blip r:embed="rId4"/>
          <a:stretch/>
        </p:blipFill>
        <p:spPr>
          <a:xfrm>
            <a:off x="5715000" y="3533760"/>
            <a:ext cx="3429000" cy="3324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Rectangle 5" descr=""/>
          <p:cNvPicPr/>
          <p:nvPr/>
        </p:nvPicPr>
        <p:blipFill>
          <a:blip r:embed="rId1"/>
          <a:stretch/>
        </p:blipFill>
        <p:spPr>
          <a:xfrm>
            <a:off x="255600" y="-6480"/>
            <a:ext cx="7493040" cy="115884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 txBox="1"/>
          <p:nvPr/>
        </p:nvSpPr>
        <p:spPr>
          <a:xfrm>
            <a:off x="684360" y="3213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rebuchet MS"/>
              </a:rPr>
              <a:t>A tartományban szereplő legkisebb értéket adja eredményül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5" name="Picture 8" descr=""/>
          <p:cNvPicPr/>
          <p:nvPr/>
        </p:nvPicPr>
        <p:blipFill>
          <a:blip r:embed="rId2"/>
          <a:stretch/>
        </p:blipFill>
        <p:spPr>
          <a:xfrm>
            <a:off x="0" y="1341360"/>
            <a:ext cx="8893080" cy="18874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1" descr=""/>
          <p:cNvPicPr/>
          <p:nvPr/>
        </p:nvPicPr>
        <p:blipFill>
          <a:blip r:embed="rId3"/>
          <a:stretch/>
        </p:blipFill>
        <p:spPr>
          <a:xfrm>
            <a:off x="4857840" y="3317760"/>
            <a:ext cx="4286160" cy="35402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Rectangle 5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8" name="Object 7"/>
              <p:cNvSpPr txBox="1"/>
              <p:nvPr/>
            </p:nvSpPr>
            <p:spPr>
              <a:xfrm>
                <a:off x="928800" y="4429080"/>
                <a:ext cx="4037040" cy="14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átlag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9" name=""/>
          <p:cNvSpPr txBox="1"/>
          <p:nvPr/>
        </p:nvSpPr>
        <p:spPr>
          <a:xfrm>
            <a:off x="285480" y="178596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rebuchet MS"/>
              </a:rPr>
              <a:t>A tartomány számadatokkal kitöltött celláinak átlagát számolja ki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0" name="Picture 12" descr="Happy Boy With Pencil-watercol"/>
          <p:cNvPicPr/>
          <p:nvPr/>
        </p:nvPicPr>
        <p:blipFill>
          <a:blip r:embed="rId2"/>
          <a:stretch/>
        </p:blipFill>
        <p:spPr>
          <a:xfrm>
            <a:off x="5334120" y="0"/>
            <a:ext cx="3809880" cy="3838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8T11:30:10Z</dcterms:created>
  <dc:creator>Elev</dc:creator>
  <dc:description/>
  <dc:language>en-US</dc:language>
  <cp:lastModifiedBy>Bela</cp:lastModifiedBy>
  <dcterms:modified xsi:type="dcterms:W3CDTF">2010-10-10T11:47:23Z</dcterms:modified>
  <cp:revision>15</cp:revision>
  <dc:subject/>
  <dc:title>Slide 1</dc:title>
</cp:coreProperties>
</file>