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4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1.png" ContentType="image/png"/>
  <Override PartName="/ppt/media/image12.jpeg" ContentType="image/jpeg"/>
  <Override PartName="/ppt/media/image37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30.jpeg" ContentType="image/jpeg"/>
  <Override PartName="/ppt/media/image31.png" ContentType="image/png"/>
  <Override PartName="/ppt/media/image36.jpeg" ContentType="image/jpeg"/>
  <Override PartName="/ppt/media/image39.png" ContentType="image/png"/>
  <Override PartName="/ppt/media/image41.png" ContentType="image/png"/>
  <Override PartName="/ppt/media/image9.gif" ContentType="image/gif"/>
  <Override PartName="/ppt/media/image34.jpeg" ContentType="image/jpeg"/>
  <Override PartName="/ppt/media/image7.png" ContentType="image/png"/>
  <Override PartName="/ppt/media/image38.png" ContentType="image/png"/>
  <Override PartName="/ppt/media/image8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F637-BD2C-4110-9546-7D4B8EEA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A720-E4A7-4903-A078-36E0C74FE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0933-49E5-49B1-AA48-230BCF10B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BB62-5190-48A9-BBC3-FF6805C7A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81132-1D39-4204-A90C-D1FE5C5E0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AC487-5082-475C-9E6F-BA94E7413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B8D19-AFA2-4506-B8A4-DEC598DD0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838F2-0FDA-4C07-9961-46FDD024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8D31-FF11-49DB-9857-0144CB3CC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D2A28-049D-4D0C-A2D3-BD74C252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AD9E6-13C9-45FB-9028-55FB135C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625E-3200-423F-9841-7BA99081D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9015-C160-457E-90C8-B7C5A68C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1BDF9-CF37-41F3-AB8E-8C19B426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E1132-B3AD-41FF-B647-6D2A0B99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7EAE-CB0A-4E9C-9C5F-912252503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C4B34-4695-4328-8418-DBB0AFF12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B6C2D-92E2-4634-8011-D31D469CC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03B9B-C13E-49FD-9918-F720489E2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2C11E-FA0E-4D19-89F0-0F736663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E7989-5FDC-4368-ADD2-B11CF441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B5A9B9-558B-4146-87F0-819960C01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A7C9-3C10-4ED6-A607-132BF5F6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AE2BC-7C27-446D-BBB7-FBBD75C9A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976FE-B296-43C3-AF4B-D293F8DF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D397B-150D-49FA-8673-4ADC1467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33AD37-E979-48EF-B38B-552A6EFD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B6520-F678-46A1-AEAB-E9FF41299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3441F-00E0-4CA5-9F45-889CE6CDF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1A0A2-C62C-48D5-950C-6794326F9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37A92-2362-4A00-8F27-360E775AA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0177E-FD43-4461-81F4-DF450653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C983D-EFC4-44B2-A635-8BD29F229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DBD7-5E16-4A7C-8BA7-A91A0596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5E197-9F01-4BEC-9752-D3036C31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81A8F6-3EF5-4722-8ADE-B1ED5758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4312D-9A31-451A-8CD9-B144EB98C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00091-38A6-48B9-8C26-1A4119E43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8E6EA-F4F5-41EA-93F3-604BB637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8FB62-16A0-4AD4-8C7D-B0096238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BDD68-2EE3-4B5D-A5C7-84593836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3B110-3DC3-4A25-8E14-441DE94E8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97008-5549-45D1-992E-D2CEC5BDA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A46C99-00DE-4506-B914-040DCBCC6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8CEA-D794-4944-B212-C66B4E422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E2855-0EB0-4A92-8365-DD22658F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A56FB-3742-47F0-9894-8C6CF3F0C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C7BD06-5591-4832-A440-A8E90A62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68FA06-9AA2-4B02-AAA2-AB796E9ED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AEB4C0-FFA7-449C-84B2-BE7B5CDD2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34C79-CCA6-4046-B14C-837916BF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1F88E-C69A-4AF3-ADB2-6D291C4CC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9017E8-BFE1-4E03-A0B2-A0AA46854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E14B6B-E9AF-43AF-B110-0F2A0FD3E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F3EACE-6D5A-4198-9282-9853C8141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14D6-B7EB-419F-9FB4-3A698B70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EDE2A-1349-4C2B-B770-EEDBDE0E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DC1F7F-4479-47ED-A1C4-FFADC1993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E0737A-28AD-43BF-8686-2A9262E9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58A6BA-9D38-4FF8-BB45-1271DA848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88187-433E-436B-859F-89468408D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7178A-AF4D-4584-9892-39A766FC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7794A-2355-4C91-9048-F04304F2D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0F7ED-39D2-4D2B-8160-B1A2AAA5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15A5FD-C484-4513-A1F5-B4955289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9650A-2DCD-4897-8881-40E27FDDC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DF30-7A31-45F8-B0F3-5574A0BB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D2191-4734-4503-B91D-AC9B37D7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546C0-2DED-4ACC-89AD-44FB98526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F1C7E-6A63-40E0-813C-06C1746A0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8595-D708-41B2-8884-56354B492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9403-8CD0-4A38-A519-60A90647E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D4E7-0A67-47B6-ADA2-B6651850071E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9C97-9C7F-4FC0-BBE5-B9C17F951DB8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D3683-BBAB-40AF-BE33-4C222D0D9E7D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A41B-101A-4B2C-BBC5-D271E1B1CB8D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E2AF-065F-490F-97BB-6B3B47C22A77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F9046-DC9B-456E-ACCD-75B043A3E14C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2352600" cy="1943280"/>
          </a:xfrm>
          <a:prstGeom prst="rect">
            <a:avLst/>
          </a:prstGeom>
          <a:ln w="0">
            <a:noFill/>
          </a:ln>
        </p:spPr>
      </p:pic>
      <p:pic>
        <p:nvPicPr>
          <p:cNvPr id="265" name="Rectangle 3" descr=""/>
          <p:cNvPicPr/>
          <p:nvPr/>
        </p:nvPicPr>
        <p:blipFill>
          <a:blip r:embed="rId2"/>
          <a:stretch/>
        </p:blipFill>
        <p:spPr>
          <a:xfrm>
            <a:off x="858960" y="182520"/>
            <a:ext cx="8613720" cy="47070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4"/>
          <p:cNvSpPr/>
          <p:nvPr/>
        </p:nvSpPr>
        <p:spPr>
          <a:xfrm>
            <a:off x="2195640" y="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0" y="4429080"/>
            <a:ext cx="4714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X. B. os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. Csoport: Boda Timea Kl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i Em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yom Balaz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h P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ncze Adina M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SANY5403.JPG"/>
          <p:cNvPicPr/>
          <p:nvPr/>
        </p:nvPicPr>
        <p:blipFill>
          <a:blip r:embed="rId3"/>
          <a:stretch/>
        </p:blipFill>
        <p:spPr>
          <a:xfrm>
            <a:off x="3714840" y="2714760"/>
            <a:ext cx="5143320" cy="2857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A HA függvénnyel feltételes vizsgálatok hajthatók végre értékeken és képleteken.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rebuchet MS"/>
              </a:rPr>
              <a:t>=HA(feltétel; ha igaz; ha hamis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3" name="Picture 5" descr="Happy Pencil"/>
          <p:cNvPicPr/>
          <p:nvPr/>
        </p:nvPicPr>
        <p:blipFill>
          <a:blip r:embed="rId2"/>
          <a:stretch/>
        </p:blipFill>
        <p:spPr>
          <a:xfrm>
            <a:off x="7429680" y="0"/>
            <a:ext cx="171432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5" descr="Smiling Pencil"/>
          <p:cNvPicPr/>
          <p:nvPr/>
        </p:nvPicPr>
        <p:blipFill>
          <a:blip r:embed="rId1"/>
          <a:stretch/>
        </p:blipFill>
        <p:spPr>
          <a:xfrm>
            <a:off x="6215040" y="3286080"/>
            <a:ext cx="2928960" cy="3571920"/>
          </a:xfrm>
          <a:prstGeom prst="rect">
            <a:avLst/>
          </a:prstGeom>
          <a:ln w="0">
            <a:noFill/>
          </a:ln>
        </p:spPr>
      </p:pic>
      <p:pic>
        <p:nvPicPr>
          <p:cNvPr id="305" name="Rectangle 2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Az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ÉS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függvény egyik leggyakoribb szerepe más, logikai vizsgálatokat végrehajtó függvények hasznosságának kiterjesztése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Logikai1, logikai2...:</a:t>
            </a: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     1-30 vizsgálandó feltétel, amelyek IGAZ vagy HAMIS értéket vehetnek fel.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9" name="Picture 5" descr="Smiling Pencil"/>
          <p:cNvPicPr/>
          <p:nvPr/>
        </p:nvPicPr>
        <p:blipFill>
          <a:blip r:embed="rId2"/>
          <a:stretch/>
        </p:blipFill>
        <p:spPr>
          <a:xfrm>
            <a:off x="6072120" y="0"/>
            <a:ext cx="3071880" cy="3535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ZUMHA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függvénnyel összeadhatja azokat az értékeket egy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artományba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, amelyek megfelelnek a megadott feltételeknek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2" name="Picture 5" descr="Smiling Pencil"/>
          <p:cNvPicPr/>
          <p:nvPr/>
        </p:nvPicPr>
        <p:blipFill>
          <a:blip r:embed="rId2"/>
          <a:stretch/>
        </p:blipFill>
        <p:spPr>
          <a:xfrm>
            <a:off x="6111720" y="3500280"/>
            <a:ext cx="3032280" cy="3357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kifejezés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helyőrző egy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karakterlánc-kifejezés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jelöl, amely azonosítja a megszámlálni kívánt értékeket tartalmazó mezőt, vagy pedig olyan kifejezés helyett áll, amely a mezőben szereplő adatokkal végez számításokat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5" name="Picture 7" descr="Pencil Smiling"/>
          <p:cNvPicPr/>
          <p:nvPr/>
        </p:nvPicPr>
        <p:blipFill>
          <a:blip r:embed="rId2"/>
          <a:stretch/>
        </p:blipFill>
        <p:spPr>
          <a:xfrm>
            <a:off x="7215120" y="1222200"/>
            <a:ext cx="1928880" cy="5635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Egy szám pozitív négyzetgyökét adja meg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8" name="Picture 5" descr="Smiling Red Pencil Isolated On A White Background"/>
          <p:cNvPicPr/>
          <p:nvPr/>
        </p:nvPicPr>
        <p:blipFill>
          <a:blip r:embed="rId2"/>
          <a:stretch/>
        </p:blipFill>
        <p:spPr>
          <a:xfrm>
            <a:off x="3071880" y="2571840"/>
            <a:ext cx="6072120" cy="42861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5" descr="http://www.dreamstime.com/smiling-pencil-thumb3319008.jpg"/>
          <p:cNvPicPr/>
          <p:nvPr/>
        </p:nvPicPr>
        <p:blipFill>
          <a:blip r:embed="rId1"/>
          <a:stretch/>
        </p:blipFill>
        <p:spPr>
          <a:xfrm>
            <a:off x="6537240" y="0"/>
            <a:ext cx="2606760" cy="3000240"/>
          </a:xfrm>
          <a:prstGeom prst="rect">
            <a:avLst/>
          </a:prstGeom>
          <a:ln w="0">
            <a:noFill/>
          </a:ln>
        </p:spPr>
      </p:pic>
      <p:pic>
        <p:nvPicPr>
          <p:cNvPr id="320" name="Rectangle 2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 két függvény becslést ad egy, a lekérdezés megadott mezőjében található értékhalmazzal jelölt sokaság vagy mintasokaság varianciájára (szórásnégyzetére)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rebuchet MS"/>
              </a:rPr>
              <a:t>A „szám” négyzetgyökét számítja ki. A szám tetszőleges nem negatív érték lehet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4" name="Picture 2" descr="http://t1.gstatic.com/images?q=tbn:7JdVikQmok9eZM:s"/>
          <p:cNvPicPr/>
          <p:nvPr/>
        </p:nvPicPr>
        <p:blipFill>
          <a:blip r:embed="rId2"/>
          <a:stretch/>
        </p:blipFill>
        <p:spPr>
          <a:xfrm>
            <a:off x="0" y="4227480"/>
            <a:ext cx="1876320" cy="26305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2" descr=""/>
          <p:cNvPicPr/>
          <p:nvPr/>
        </p:nvPicPr>
        <p:blipFill>
          <a:blip r:embed="rId1"/>
          <a:stretch/>
        </p:blipFill>
        <p:spPr>
          <a:xfrm>
            <a:off x="-49320" y="85680"/>
            <a:ext cx="7755120" cy="13827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ttp://informatika.gtportal.eu/index.php?f0=tablaz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ttp://clasa10-gasparedit.wikispaces.com/Material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K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épek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: http://www.dreamstime.com/stock-photography-happy-boy-with-pencil-watercol-image515610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Titlu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Az Exel 2007 programot arra fejlesztették ki, hogy számitásokat készitsünk benn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A számitasok létrehozása két  formája létezik: képlet és függvény használatáva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Képlettet akkor kell használnunk, ha a feladathoz nincs beépitett fügvény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 a programba épitett számoló egységek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1" name="Picture 2" descr="http://www.frontiernet.net/~mblow/images/writerworkshop/pencil%20funny.gif"/>
          <p:cNvPicPr/>
          <p:nvPr/>
        </p:nvPicPr>
        <p:blipFill>
          <a:blip r:embed="rId2"/>
          <a:stretch/>
        </p:blipFill>
        <p:spPr>
          <a:xfrm>
            <a:off x="7572240" y="3071880"/>
            <a:ext cx="1571760" cy="3786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http://cdn.mgsrvr.com/funnies/pencil_draw_lg_nwm.gif"/>
          <p:cNvPicPr/>
          <p:nvPr/>
        </p:nvPicPr>
        <p:blipFill>
          <a:blip r:embed="rId1"/>
          <a:stretch/>
        </p:blipFill>
        <p:spPr>
          <a:xfrm>
            <a:off x="5421240" y="0"/>
            <a:ext cx="3722760" cy="6858000"/>
          </a:xfrm>
          <a:prstGeom prst="rect">
            <a:avLst/>
          </a:prstGeom>
          <a:ln w="0">
            <a:noFill/>
          </a:ln>
        </p:spPr>
      </p:pic>
      <p:pic>
        <p:nvPicPr>
          <p:cNvPr id="273" name="Titlu 1" descr=""/>
          <p:cNvPicPr/>
          <p:nvPr/>
        </p:nvPicPr>
        <p:blipFill>
          <a:blip r:embed="rId2"/>
          <a:stretch/>
        </p:blipFill>
        <p:spPr>
          <a:xfrm>
            <a:off x="285840" y="506520"/>
            <a:ext cx="7462800" cy="22129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500040" y="29998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Nem szükséges külön elvégezni minden számolást hanem meg lehet sokszorozni az eredményt a képletek másolásáva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5" name="Picture 2" descr="http://www.frontiernet.net/~mblow/images/writerworkshop/bookguy.gif"/>
          <p:cNvPicPr/>
          <p:nvPr/>
        </p:nvPicPr>
        <p:blipFill>
          <a:blip r:embed="rId3"/>
          <a:stretch/>
        </p:blipFill>
        <p:spPr>
          <a:xfrm>
            <a:off x="0" y="478620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rebuchet MS"/>
              </a:rPr>
              <a:t>Három tipusú cellahivatkozás ismert: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rebuchet MS"/>
              </a:rPr>
              <a:t>- Abszolút hivatkozá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rebuchet MS"/>
              </a:rPr>
              <a:t>- Relativív hivatkozá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rebuchet MS"/>
              </a:rPr>
              <a:t>- Vegyes hivatkoá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7" name="Picture 2" descr="http://www.frontiernet.net/~mblow/images/homepage/PencilEraser.jpg"/>
          <p:cNvPicPr/>
          <p:nvPr/>
        </p:nvPicPr>
        <p:blipFill>
          <a:blip r:embed="rId1"/>
          <a:stretch/>
        </p:blipFill>
        <p:spPr>
          <a:xfrm>
            <a:off x="0" y="4143240"/>
            <a:ext cx="2502000" cy="2714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http://image.shutterstock.com/display_pic_with_logo/484729/484729,1255252969,2/stock-vector-book-with-pencil-38627632.jpg"/>
          <p:cNvPicPr/>
          <p:nvPr/>
        </p:nvPicPr>
        <p:blipFill>
          <a:blip r:embed="rId2"/>
          <a:stretch/>
        </p:blipFill>
        <p:spPr>
          <a:xfrm>
            <a:off x="7286760" y="3143160"/>
            <a:ext cx="2000160" cy="3714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A leggyakrabban használt függvények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Matematikai függvények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Statisztika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Logika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Dátum és idő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Trigonometria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Informatika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Pénzügy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1" name="Picture 5" descr="http://images.clipartof.com/thumbnails/223883-Royalty-Free-RF-Clipart-Illustration-Of-A-Funny-Moodie-Character-Holding-A-Pencil-By-Note-Paper.jpg"/>
          <p:cNvPicPr/>
          <p:nvPr/>
        </p:nvPicPr>
        <p:blipFill>
          <a:blip r:embed="rId2"/>
          <a:stretch/>
        </p:blipFill>
        <p:spPr>
          <a:xfrm>
            <a:off x="7000920" y="3286080"/>
            <a:ext cx="2143080" cy="3571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68200" y="-225360"/>
            <a:ext cx="8467920" cy="288288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571680" y="3143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rebuchet MS"/>
              </a:rPr>
              <a:t>A tartomány számadatokkal kitöltött celláinak összegét számolja ki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9"/>
              <p:cNvSpPr txBox="1"/>
              <p:nvPr/>
            </p:nvSpPr>
            <p:spPr>
              <a:xfrm>
                <a:off x="4929120" y="4929120"/>
                <a:ext cx="403380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zum=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85" name="Picture 5" descr=""/>
          <p:cNvPicPr/>
          <p:nvPr/>
        </p:nvPicPr>
        <p:blipFill>
          <a:blip r:embed="rId2"/>
          <a:stretch/>
        </p:blipFill>
        <p:spPr>
          <a:xfrm>
            <a:off x="214200" y="2357280"/>
            <a:ext cx="8686800" cy="14925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Rectangle 5" descr=""/>
          <p:cNvPicPr/>
          <p:nvPr/>
        </p:nvPicPr>
        <p:blipFill>
          <a:blip r:embed="rId1"/>
          <a:stretch/>
        </p:blipFill>
        <p:spPr>
          <a:xfrm>
            <a:off x="85680" y="317520"/>
            <a:ext cx="762012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7" name="Object 8"/>
          <p:cNvGraphicFramePr/>
          <p:nvPr/>
        </p:nvGraphicFramePr>
        <p:xfrm>
          <a:off x="1258920" y="1628640"/>
          <a:ext cx="7883640" cy="153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1628640"/>
                    <a:ext cx="788364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0" y="37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A tartományban szereplő legnagyobb értéket adja eredményü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1" name="Picture 13" descr=""/>
          <p:cNvPicPr/>
          <p:nvPr/>
        </p:nvPicPr>
        <p:blipFill>
          <a:blip r:embed="rId4"/>
          <a:stretch/>
        </p:blipFill>
        <p:spPr>
          <a:xfrm>
            <a:off x="5715000" y="3533760"/>
            <a:ext cx="3429000" cy="3324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Rectangle 5" descr=""/>
          <p:cNvPicPr/>
          <p:nvPr/>
        </p:nvPicPr>
        <p:blipFill>
          <a:blip r:embed="rId1"/>
          <a:stretch/>
        </p:blipFill>
        <p:spPr>
          <a:xfrm>
            <a:off x="255600" y="-648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684360" y="32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rebuchet MS"/>
              </a:rPr>
              <a:t>A tartományban szereplő legkisebb értéket adja eredményül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5" name="Picture 8" descr=""/>
          <p:cNvPicPr/>
          <p:nvPr/>
        </p:nvPicPr>
        <p:blipFill>
          <a:blip r:embed="rId2"/>
          <a:stretch/>
        </p:blipFill>
        <p:spPr>
          <a:xfrm>
            <a:off x="0" y="1341360"/>
            <a:ext cx="8893080" cy="18874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1" descr=""/>
          <p:cNvPicPr/>
          <p:nvPr/>
        </p:nvPicPr>
        <p:blipFill>
          <a:blip r:embed="rId3"/>
          <a:stretch/>
        </p:blipFill>
        <p:spPr>
          <a:xfrm>
            <a:off x="4857840" y="3317760"/>
            <a:ext cx="4286160" cy="3540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5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8" name="Object 7"/>
              <p:cNvSpPr txBox="1"/>
              <p:nvPr/>
            </p:nvSpPr>
            <p:spPr>
              <a:xfrm>
                <a:off x="928800" y="4429080"/>
                <a:ext cx="4037040" cy="14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átlag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 txBox="1"/>
          <p:nvPr/>
        </p:nvSpPr>
        <p:spPr>
          <a:xfrm>
            <a:off x="285480" y="178596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rebuchet MS"/>
              </a:rPr>
              <a:t>A tartomány számadatokkal kitöltött celláinak átlagát számolja ki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0" name="Picture 12" descr="Happy Boy With Pencil-watercol"/>
          <p:cNvPicPr/>
          <p:nvPr/>
        </p:nvPicPr>
        <p:blipFill>
          <a:blip r:embed="rId2"/>
          <a:stretch/>
        </p:blipFill>
        <p:spPr>
          <a:xfrm>
            <a:off x="5334120" y="0"/>
            <a:ext cx="3809880" cy="3838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1:30:10Z</dcterms:created>
  <dc:creator>Elev</dc:creator>
  <dc:description/>
  <dc:language>en-US</dc:language>
  <cp:lastModifiedBy>Bela</cp:lastModifiedBy>
  <dcterms:modified xsi:type="dcterms:W3CDTF">2010-10-10T11:47:23Z</dcterms:modified>
  <cp:revision>15</cp:revision>
  <dc:subject/>
  <dc:title>Slide 1</dc:title>
</cp:coreProperties>
</file>