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C75-141F-4C57-BC65-D3F12D1D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7D2-0BB4-4D3D-B243-4CBFC3BF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24A-B437-4DB1-9937-0100468C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1E5-24BB-4010-88CE-52351DB5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87CC-B37C-4D99-B50A-44D55077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8A0E-D0DF-4E8A-ACA5-3CEC2FB1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5567-A2A8-45F2-84DC-2F59B8B6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A08D-924B-42B6-AF52-CCD7D44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B984-790C-4B29-AD80-A7BED8CE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7485-A2C9-40D6-B6C4-42032BE1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566D-D629-4FE0-B3F3-33873AA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891-716F-409C-99FA-839F361B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BEA5-A510-4D63-928A-217900E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841-F006-4C3D-93A1-E430E3F9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084E-33ED-4991-8622-D0B0024B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FC8D-F53A-40B4-8138-77D74174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F945-73FC-4B51-82A7-0D9E666F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CEA53-AC8D-411A-AAA1-EE485806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A8D0-7797-410D-9FF8-68B76CC9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D3C6-206D-44B0-96F6-65261F1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BCFE-F77D-48D3-9AAC-16888152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D727-21E8-44C5-89CE-9E3E0CEC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947-1E1A-4106-A3FF-E9E16D68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F9DF-4020-44FC-9637-69CAE9F5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6615-EFAB-4E29-B221-9DE4B62F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0B2E-77B6-4737-B891-9F8C1E42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735F-3194-46B7-B3BF-28135DC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3EF7-C61C-48FD-89C5-EFF9B8BC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78F4-15D7-4A32-AECE-EFE066C9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47AB-58AA-4352-8AD5-B1B48DF0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7D96-8F6F-4CDD-933D-B699CFFB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2448-DF51-428E-BB8F-A8FF856E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DB14-0CE1-41EC-A725-AFA309FF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6B3-CB86-400C-960D-B28AD2C4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1770-6DF2-4878-A0EA-04CE9FC7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9D0D3-F358-4DF7-9C4C-4418269B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7EE7F-DAFB-4BD4-85DE-682B6B1F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EC77-F549-47FB-995D-DDD43420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4EE5-9124-4DE0-9DB2-158B865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51AB-CDF0-474C-AB38-2151755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9280-429C-492D-84EA-CCA6F44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7EC9-D0A0-47A3-98E5-B54D4EBB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E86B-5CC4-435A-A214-0AD01133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55C6F-1E70-4745-98E4-520FD9D6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B19-F7A8-4595-9E38-378BAE1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5B5E-F906-4EBF-B452-CDC1A896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37C0A-0797-4212-AA3B-4D1088C9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BEC5-825C-40A5-BAEA-344AC967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381FB-B083-4E0F-B7AE-F7E6609D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1D402-B17D-4688-A3C1-5B633FC1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A48D-9F7F-4A58-A62A-6578C99C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EF4FE-0453-40E2-93D3-75E2C70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4B26B-8E47-4BA4-8192-3770826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6B930-B87A-4D3A-8AF8-CA209EC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8E9D-05F1-493C-AEAB-2DD62BD1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C48-FF18-4DA0-823F-53CC31AF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5900B-BE0E-4942-AA46-73CCCDD7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B5D6-1D77-4E60-96A4-26CD8139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4E58-5A96-4C64-A650-A517ACE0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5C9EC-94CE-4647-985A-85A810C2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4D0B-5BE4-47AA-AA47-6AD0CEC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30E15-F74E-4ECA-991D-7823FE2A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980F-B163-4473-B487-EB27A507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6A16C-90FA-413E-B086-F216D8DC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D160-BA7B-4D64-BDB5-4E291DEC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55A6E-2C9A-410F-8745-42B863C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3FA-36F4-463A-A6C6-2ED2647A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9E834-B8C4-4CA9-81EA-FD1970B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4216F-4D0A-46B8-8695-A40E99CA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B507-C2C4-4367-91E3-C4A16A4F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675-CCCC-4CA6-BC0C-5A40BBC4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A1A-3408-4C72-A072-F4B8C5A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7A6C-AB4A-47CB-BAA8-2B2317748BF2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D196-FBCD-4720-A23F-48B5EF3D2CE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F244-C0C1-44CE-8F94-ADE0DDC87D6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7A40-D9C7-4C4F-A183-97F9047535CE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B26B-8338-4748-ADD3-43E794D12931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F44-BE67-43A9-9CCF-85335AB73283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Bela</cp:lastModifiedBy>
  <dcterms:modified xsi:type="dcterms:W3CDTF">2010-10-10T11:47:23Z</dcterms:modified>
  <cp:revision>15</cp:revision>
  <dc:subject/>
  <dc:title>Slide 1</dc:title>
</cp:coreProperties>
</file>