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6.jpeg" ContentType="image/jpeg"/>
  <Override PartName="/ppt/media/image39.png" ContentType="image/png"/>
  <Override PartName="/ppt/media/image41.png" ContentType="image/png"/>
  <Override PartName="/ppt/media/image9.gif" ContentType="image/gif"/>
  <Override PartName="/ppt/media/image34.jpeg" ContentType="image/jpeg"/>
  <Override PartName="/ppt/media/image7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549-219D-42CB-A0F7-3B808935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F48A-026A-4822-ADDE-5E237672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1D99-1564-49F6-9D44-1E13E51A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43B-36DE-44B8-9AEA-F0B3DAC0D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30CF-B66B-4879-BA30-15BD6BCB3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D25D-A64C-4A81-AFCE-5E0E63F7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2D74E-04A7-417B-82A6-5F7EBE57B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3932-9C02-409E-B5C1-3D91F6140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95E3-4C7B-457A-8EA6-418CB69D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35F2D-5D19-4A18-8761-D5C3E9D3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2EDF0-CD66-410B-BE8A-A8EB1768B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EFE3-9ABC-4890-82B9-245EC097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CFEFB-3167-43E9-B35C-9E84B51B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79CAD-CBBB-40AB-A413-65BA132F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A480-DEC4-48A1-982E-2532AE69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F18F-8F6C-4446-BD09-DE7C3BE43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4CD52-90E1-4D3F-A86F-687498E5F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26289-0B00-4D66-8237-0795B9322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F922C-1735-48EB-9B03-3710C708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1C747-B11B-4B45-B243-D362B072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DF2ADE-AE30-4C56-A8C7-8A21A5814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E46D2-B6B2-4425-82A2-B173C721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B73E-8946-4A8F-B1F5-A7AE6538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D0045-4173-47FC-80FD-782FAB329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7CDCA0-5BEE-44F9-A5F3-46F08E37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95B495-DF6C-4D0F-A96E-864B0848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9D856-8D3A-43F8-9B05-289AADD8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6CF5F-8D19-456B-BA12-B82148C9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7A718-7CCE-44F4-8136-9F2055E0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2A19D-EC5B-4E39-89C0-51CC3839F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31DF-256C-4AA7-88F2-4035D3BA6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83CCE-C1E1-41BC-8CE3-589FEA3B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47174-3C05-4827-9BCD-3CC18995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F709-44F8-4131-AAAD-9493F168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D7533-8397-4B8A-99D5-86507D87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29BC0-8D02-473B-988E-1355533B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1EA77-84C0-4449-AEE3-5A46BDA38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09612-C07A-462D-9A24-94416841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832A6C-E3C5-4BA5-9BC4-798AD104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F0615-C396-48ED-B449-77B759C4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2AABE-5D9A-4269-B453-1BC75C0C1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3CB73-85DA-4450-B891-D9426E38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EABC83-38CD-4287-A20F-48C0E905D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0B7F92-50F2-40A6-8217-2D8E356AD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4EE5-E696-4640-9680-3B46C101E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4CC87-F2A1-45E1-B8BD-C450543F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AEB59-8A52-47B9-9E08-96AF5F7A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ADCBB-07A9-47F1-9F3C-CE2D919CA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4E1C02-647F-44B6-B194-B6E27029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B7B63-887B-4BB5-92F5-090E73391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4253B-7622-4AA0-966B-277E6FFE0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1BEBA-4CA0-4667-8579-72782008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0906D-23E7-4947-92E1-29573A0A7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541B2-647A-4480-B260-99D9B911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B1A65-9EF1-4B2C-BD9A-7377DD7F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B8DB-C72C-44D2-9A0D-39DA3CA5B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D1089-0655-4E63-9075-B72E38B3D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FE8B0-11F1-427D-BF91-2EA92B1A8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CF82C8-F132-4C79-B534-8815946E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5A2B4-FC64-40E1-A2B0-B4D44BDE8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1DDA0-BAD1-4555-9B0B-AFEE9F7F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90509-3DEA-4B8F-B60F-30C1D652D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5028DB-2309-471C-9CF4-7701EF0CA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AA14F-4958-498F-BC45-46EF79EC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9E865-5C86-4BE9-9B7B-304EE765A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945747-4C4A-4BCE-BA35-22D6A914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5EAF-E574-4F29-A1D2-E19DFE49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638421-2C29-4A04-AF76-45166B044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D08308-F7D7-47E6-8C25-379EE648C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704007-22B6-49F2-8B87-DCEF08258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5B8-8F47-40D7-A506-FD38F90B9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BEBB-AD89-44B0-B196-131249668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1272A-03D8-4026-BB90-1BD26DD8E7D2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3BAC-99AF-423B-8267-02CCD3720B7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06685-59AC-47BB-84B7-AA7627619C6E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F2C37-0039-488D-AC67-88308E92FB5A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7C79-D260-425C-9F34-7DCC3ADEC209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A607-CAD5-49D2-AE0A-DEE88FFF9B50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" descr=""/>
          <p:cNvPicPr/>
          <p:nvPr/>
        </p:nvPicPr>
        <p:blipFill>
          <a:blip r:embed="rId2"/>
          <a:stretch/>
        </p:blipFill>
        <p:spPr>
          <a:xfrm>
            <a:off x="858960" y="182520"/>
            <a:ext cx="8613720" cy="4707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219564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4429080"/>
            <a:ext cx="471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. B. os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. Csoport: Boda Timea Kl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i E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yom Balaz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h P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ncze Ad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SANY5403.JPG"/>
          <p:cNvPicPr/>
          <p:nvPr/>
        </p:nvPicPr>
        <p:blipFill>
          <a:blip r:embed="rId3"/>
          <a:stretch/>
        </p:blipFill>
        <p:spPr>
          <a:xfrm>
            <a:off x="3714840" y="2714760"/>
            <a:ext cx="5143320" cy="2857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 HA függvénnyel feltételes vizsgálatok hajthatók végre értékeken és képleteken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rebuchet MS"/>
              </a:rPr>
              <a:t>=HA(feltétel; ha igaz; ha hamis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3" name="Picture 5" descr="Happy Pencil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Smiling Pencil"/>
          <p:cNvPicPr/>
          <p:nvPr/>
        </p:nvPicPr>
        <p:blipFill>
          <a:blip r:embed="rId1"/>
          <a:stretch/>
        </p:blipFill>
        <p:spPr>
          <a:xfrm>
            <a:off x="6215040" y="328608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z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ÉS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függvény egyik leggyakoribb szerepe más, logikai vizsgálatokat végrehajtó függvények hasznosságának kiterjesztése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gikai1, logikai2...: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     1-30 vizsgálandó feltétel, amelyek IGAZ vagy HAMIS értéket vehetnek fel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5" descr="Smiling Pencil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3535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ZUMHA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üggvénnyel összeadhatja azokat az értékeket eg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artományba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 amelyek megfelelnek a megadott feltételeknek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Picture 5" descr="Smiling Pencil"/>
          <p:cNvPicPr/>
          <p:nvPr/>
        </p:nvPicPr>
        <p:blipFill>
          <a:blip r:embed="rId2"/>
          <a:stretch/>
        </p:blipFill>
        <p:spPr>
          <a:xfrm>
            <a:off x="6111720" y="3500280"/>
            <a:ext cx="303228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ifejezé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helyőrző egy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karakterlánc-kifejezés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jelöl, amely azonosítja a megszámlálni kívánt értékeket tartalmazó mezőt, vagy pedig olyan kifejezés helyett áll, amely a mezőben szereplő adatokkal végez számításoka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7" descr="Pencil Smiling"/>
          <p:cNvPicPr/>
          <p:nvPr/>
        </p:nvPicPr>
        <p:blipFill>
          <a:blip r:embed="rId2"/>
          <a:stretch/>
        </p:blipFill>
        <p:spPr>
          <a:xfrm>
            <a:off x="7215120" y="1222200"/>
            <a:ext cx="1928880" cy="563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gy szám pozitív négyzetgyökét adja meg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5" descr="Smiling Red Pencil Isolated On A White Background"/>
          <p:cNvPicPr/>
          <p:nvPr/>
        </p:nvPicPr>
        <p:blipFill>
          <a:blip r:embed="rId2"/>
          <a:stretch/>
        </p:blipFill>
        <p:spPr>
          <a:xfrm>
            <a:off x="3071880" y="257184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" descr="http://www.dreamstime.com/smiling-pencil-thumb3319008.jpg"/>
          <p:cNvPicPr/>
          <p:nvPr/>
        </p:nvPicPr>
        <p:blipFill>
          <a:blip r:embed="rId1"/>
          <a:stretch/>
        </p:blipFill>
        <p:spPr>
          <a:xfrm>
            <a:off x="6537240" y="0"/>
            <a:ext cx="2606760" cy="30002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két függvény becslést ad egy, a lekérdezés megadott mezőjében található értékhalmazzal jelölt sokaság vagy mintasokaság varianciájára (szórásnégyzetére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„szám” négyzetgyökét számítja ki. A szám tetszőleges nem negatív érték lehe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4" name="Picture 2" descr="http://t1.gstatic.com/images?q=tbn:7JdVikQmok9eZM:s"/>
          <p:cNvPicPr/>
          <p:nvPr/>
        </p:nvPicPr>
        <p:blipFill>
          <a:blip r:embed="rId2"/>
          <a:stretch/>
        </p:blipFill>
        <p:spPr>
          <a:xfrm>
            <a:off x="0" y="4227480"/>
            <a:ext cx="1876320" cy="2630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informatika.gtportal.eu/index.php?f0=tablaz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clasa10-gasparedit.wikispaces.com/Materia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ép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http://www.dreamstime.com/stock-photography-happy-boy-with-pencil-watercol-image51561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u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z Exel 2007 programot arra fejlesztették ki, hogy számitásokat készitsünk ben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számitasok létrehozása két  formája létezik: képlet és függvény használat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Képlettet akkor kell használnunk, ha a feladathoz nincs beépitett fügvén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 a programba épitett számoló egysége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http://www.frontiernet.net/~mblow/images/writerworkshop/pencil%20funny.gif"/>
          <p:cNvPicPr/>
          <p:nvPr/>
        </p:nvPicPr>
        <p:blipFill>
          <a:blip r:embed="rId2"/>
          <a:stretch/>
        </p:blipFill>
        <p:spPr>
          <a:xfrm>
            <a:off x="7572240" y="3071880"/>
            <a:ext cx="1571760" cy="3786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ttp://cdn.mgsrvr.com/funnies/pencil_draw_lg_nwm.gif"/>
          <p:cNvPicPr/>
          <p:nvPr/>
        </p:nvPicPr>
        <p:blipFill>
          <a:blip r:embed="rId1"/>
          <a:stretch/>
        </p:blipFill>
        <p:spPr>
          <a:xfrm>
            <a:off x="5421240" y="0"/>
            <a:ext cx="372276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Titlu 1" descr=""/>
          <p:cNvPicPr/>
          <p:nvPr/>
        </p:nvPicPr>
        <p:blipFill>
          <a:blip r:embed="rId2"/>
          <a:stretch/>
        </p:blipFill>
        <p:spPr>
          <a:xfrm>
            <a:off x="285840" y="506520"/>
            <a:ext cx="7462800" cy="2212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00040" y="2999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Nem szükséges külön elvégezni minden számolást hanem meg lehet sokszorozni az eredményt a képletek másolás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http://www.frontiernet.net/~mblow/images/writerworkshop/bookguy.gif"/>
          <p:cNvPicPr/>
          <p:nvPr/>
        </p:nvPicPr>
        <p:blipFill>
          <a:blip r:embed="rId3"/>
          <a:stretch/>
        </p:blipFill>
        <p:spPr>
          <a:xfrm>
            <a:off x="0" y="4786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Három tipusú cellahivatkozás ismert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Abszolút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Relativív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Vegyes hivatko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http://www.frontiernet.net/~mblow/images/homepage/PencilEraser.jpg"/>
          <p:cNvPicPr/>
          <p:nvPr/>
        </p:nvPicPr>
        <p:blipFill>
          <a:blip r:embed="rId1"/>
          <a:stretch/>
        </p:blipFill>
        <p:spPr>
          <a:xfrm>
            <a:off x="0" y="4143240"/>
            <a:ext cx="250200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image.shutterstock.com/display_pic_with_logo/484729/484729,1255252969,2/stock-vector-book-with-pencil-38627632.jpg"/>
          <p:cNvPicPr/>
          <p:nvPr/>
        </p:nvPicPr>
        <p:blipFill>
          <a:blip r:embed="rId2"/>
          <a:stretch/>
        </p:blipFill>
        <p:spPr>
          <a:xfrm>
            <a:off x="7286760" y="3143160"/>
            <a:ext cx="200016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leggyakrabban használt függvénye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Matematikai függvény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Statisz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Log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Dátum és idő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Trigonometri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Informa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Pénzügy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5" descr="http://images.clipartof.com/thumbnails/223883-Royalty-Free-RF-Clipart-Illustration-Of-A-Funny-Moodie-Character-Holding-A-Pencil-By-Note-Paper.jpg"/>
          <p:cNvPicPr/>
          <p:nvPr/>
        </p:nvPicPr>
        <p:blipFill>
          <a:blip r:embed="rId2"/>
          <a:stretch/>
        </p:blipFill>
        <p:spPr>
          <a:xfrm>
            <a:off x="7000920" y="328608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68200" y="-225360"/>
            <a:ext cx="8467920" cy="28828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71680" y="3143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összegé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4929120" y="4929120"/>
                <a:ext cx="40338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zum=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8686800" cy="1492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5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Object 8"/>
          <p:cNvGraphicFramePr/>
          <p:nvPr/>
        </p:nvGraphicFramePr>
        <p:xfrm>
          <a:off x="1258920" y="1628640"/>
          <a:ext cx="7883640" cy="15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628640"/>
                    <a:ext cx="78836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tartományban szereplő legnagyobb értéket adja eredményü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5715000" y="3533760"/>
            <a:ext cx="3429000" cy="332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5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684360" y="32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ban szereplő legkisebb értéket adja eredményü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Picture 8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3080" cy="1887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3"/>
          <a:stretch/>
        </p:blipFill>
        <p:spPr>
          <a:xfrm>
            <a:off x="4857840" y="3317760"/>
            <a:ext cx="4286160" cy="354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5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928800" y="4429080"/>
                <a:ext cx="403704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átlag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 txBox="1"/>
          <p:nvPr/>
        </p:nvSpPr>
        <p:spPr>
          <a:xfrm>
            <a:off x="285480" y="17859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átlagá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12" descr="Happy Boy With Pencil-watercol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1:30:10Z</dcterms:created>
  <dc:creator>Elev</dc:creator>
  <dc:description/>
  <dc:language>en-US</dc:language>
  <cp:lastModifiedBy>Bela</cp:lastModifiedBy>
  <dcterms:modified xsi:type="dcterms:W3CDTF">2010-10-10T11:47:23Z</dcterms:modified>
  <cp:revision>15</cp:revision>
  <dc:subject/>
  <dc:title>Slide 1</dc:title>
</cp:coreProperties>
</file>