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11.png" ContentType="image/png"/>
  <Override PartName="/ppt/media/image9.png" ContentType="image/png"/>
  <Override PartName="/ppt/media/image44.jpeg" ContentType="image/jpeg"/>
  <Override PartName="/ppt/media/image12.png" ContentType="image/png"/>
  <Override PartName="/ppt/media/image32.wmf" ContentType="image/x-wmf"/>
  <Override PartName="/ppt/media/image10.png" ContentType="image/png"/>
  <Override PartName="/ppt/media/image33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0.png" ContentType="image/png"/>
  <Override PartName="/ppt/media/image36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5E1C-0144-4EA9-BFB0-C9D9495E5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BA1A-CFAD-4D5F-BF77-47FA4042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E72-E98B-4505-BA34-7B55C1D6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CCE-A9C8-4635-82DE-6DC3AAB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D9F-D5C7-49FE-8EB2-9BB13AB02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0964-AB87-402B-AFA7-3FA412B10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C13-DCA2-4400-A214-2BF226E2F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81E1-DAFA-4396-A1C0-B6E191E4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A9EC-7317-41AC-9058-D5ADECB4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BE37-B65D-4032-B6AC-4A3F6F24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04F8-74ED-44D2-A548-DD37333B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5916-33D5-4625-BC36-AE0B38C2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F2DE1-9DFB-47FB-B098-675C1BF90638}" type="slidenum"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hu.ecdlweb.org/" TargetMode="External"/><Relationship Id="rId2" Type="http://schemas.openxmlformats.org/officeDocument/2006/relationships/hyperlink" Target="http://www.ipszilon.niif.hu/OO/l4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3280" y="5940360"/>
            <a:ext cx="435600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Összeállította: Sallai Andrá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79640" y="1800360"/>
            <a:ext cx="504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56343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áblázatkezelé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20000" y="6905520"/>
            <a:ext cx="83844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240" y="166680"/>
            <a:ext cx="907092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MS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00" y="828720"/>
            <a:ext cx="975348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6668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10078920" cy="656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van egy 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a elkezdünk gépelni az aktív cellában jelenik me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vastag fekete ker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névmezőben látsz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ozg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kurzor mozgató nyila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gér kattintá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UP – Egy oldalnyit felfelé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Down – Egy oldanyit lefelél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ome – A sor első celláj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Home – Az A1-es cel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Up – Oldalanként bal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Down – Oldalanként jobb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balra nyíl – A munkalap bal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jobbra nyíl – A munkalap jobb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lefelé nyíl – A munkalap első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felfelé nyíl – A munkalap utolsó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00720" y="6119640"/>
            <a:ext cx="3959280" cy="1079640"/>
          </a:xfrm>
          <a:prstGeom prst="cloudCallout">
            <a:avLst>
              <a:gd name="adj1" fmla="val -79458"/>
              <a:gd name="adj2" fmla="val -5249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8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DejaVu Sans"/>
              </a:rPr>
              <a:t>Ha tőle jobbra és lefele üres cellák vannak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i mód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kor elkezdünk gépelni az aktív cellába, adatbeviteli módba kerül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t gépelünk a szerkesztőlécben is megjele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 akkor fog valójában bekerülni a cellába amikor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 léc mellett pipára kattint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nter, Tab, Kurzormozgató billentyűt nyom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ortör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3600360"/>
            <a:ext cx="90709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n belül sortör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lt + Enter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eredeti tartalmának visszaáll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3060360"/>
            <a:ext cx="907092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erkesztő léc mellett kattintunk az X ikonr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cap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 és szöve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kezelő másként kezeli 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ámoka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számolhatunk vel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jobb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nem számolhatunk velü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bal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nál szóköz gépel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 pont vagy tizedes vessző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,5     3.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z egyik értelmezett csak számké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ált. a tizedes vessző v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pont dátumot szokott meghatározni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.5 általában: </a:t>
            </a:r>
            <a:r>
              <a:rPr b="0" lang="hu-HU" sz="2800" spc="-1" strike="noStrike">
                <a:solidFill>
                  <a:srgbClr val="000080"/>
                </a:solidFill>
                <a:latin typeface="DejaVu Sans"/>
              </a:rPr>
              <a:t>március 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Ez a mű Creative Commons Nevezd meg!-Ne add el!-Így add tovább! 2.5 Magyarország Licenc alatt van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A licenc szövegének megtekintéséhez látogasd meg a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http://creativecommons.org/licenses/by-nc-sa/2.5/hu/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webcímet vagy küldj egy levelet a következő címre: Creative Commons, 171 Second Street, Suite 300, San Francisco, California, 94105, USA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ok mellé mértékegység kiír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pl. 6 db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ként van kezel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egoldás: formátum beállítás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elválasztó helyes használ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tartalmának átír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19280" y="3240000"/>
            <a:ext cx="306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módos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upla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avíto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elláb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léce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szerkesz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7596000" cy="1651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2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kurzor a tartalom végére kerü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3780000"/>
            <a:ext cx="5759640" cy="1079280"/>
          </a:xfrm>
          <a:prstGeom prst="wedgeRoundRectCallout">
            <a:avLst>
              <a:gd name="adj1" fmla="val -37592"/>
              <a:gd name="adj2" fmla="val -88486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ben, Calcban egyaránt működ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tör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000" y="3389400"/>
            <a:ext cx="7775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elet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zás megmarad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 régi verzió alapértelmezetten rákérdez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sak téglalap alapú terül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bal felső és jobb alsó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 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5:A1 vagy A5:C1 átrendeződik auto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30520" y="4502160"/>
            <a:ext cx="36702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cella –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 – egyik sarokból a szemköztibe húzom az egeret (bal egér gomb lenyomva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 A1-ből húzom C5-b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5041800"/>
            <a:ext cx="36702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sor, oszlop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sor vagy oszlop azonosítóra kattint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gy az a rész is kijelölésre kerül ami nem látszik a képernyőn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sor vagy oszlop kijelölése esetén végig húzom a több azonosítón keresztü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8080" y="4554360"/>
            <a:ext cx="429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oszlopra, sorra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3780000"/>
            <a:ext cx="79549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: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: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3: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 billentyűv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Kurzormozgató – aktuális cellától a mozgatás irányába szomszédos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zóköz – teljes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szóköz – teljes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hift + szóköz – teljes 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219640"/>
            <a:ext cx="4859280" cy="1079640"/>
          </a:xfrm>
          <a:prstGeom prst="wedgeRoundRectCallout">
            <a:avLst>
              <a:gd name="adj1" fmla="val -45819"/>
              <a:gd name="adj2" fmla="val -93782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trl + Shift + szóköz csak Exc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e megszünte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060720"/>
            <a:ext cx="9036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attintok egy celláb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kkor csak egy aktuális cella les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erületek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287964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lső kijelölt tartomány után folyamatosan nyomva tartom a </a:t>
            </a:r>
            <a:r>
              <a:rPr b="0" lang="hu-HU" sz="3200" spc="-1" strike="noStrike">
                <a:solidFill>
                  <a:srgbClr val="000080"/>
                </a:solidFill>
                <a:latin typeface="DejaVu Sans"/>
              </a:rPr>
              <a:t>Ctrl</a:t>
            </a: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 billentyűt, majd kijelölöm a többi tartomány részt i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artományok hivatkoz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gyes tartományok pontosvesszővel vannak elválasztv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; E4; C7:E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indig van egy aktív cella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5560" y="4140360"/>
            <a:ext cx="51944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másolása, mozga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899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ák mozgatása,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79640" y="5945040"/>
            <a:ext cx="520056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580000" cy="16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 flipV="1">
            <a:off x="2157480" y="3238200"/>
            <a:ext cx="270360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40360" y="3238200"/>
            <a:ext cx="180036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on belül egérrel vonszol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5040" y="2519280"/>
            <a:ext cx="6296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813040"/>
            <a:ext cx="972036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formátu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 menü -&gt;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(Excel, Calc és Gnumericban is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agy jobb egér gomb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: Cellaformázás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al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Gnumeri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1320" y="216072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 legelemibb egység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oszlop és sor címekk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1120" y="1440000"/>
            <a:ext cx="6519960" cy="58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ok megjelen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jegy pontossá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zres csoportosí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negatív számok megjelen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énznem megjelenjen-e a szám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és idő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zalékos 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értékegység vagy szöveg jelenjen meg a számok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6300720" cy="594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20000" y="1979640"/>
            <a:ext cx="2519280" cy="19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539640"/>
            <a:ext cx="2519280" cy="1440000"/>
          </a:xfrm>
          <a:prstGeom prst="roundRect">
            <a:avLst>
              <a:gd name="adj" fmla="val 16667"/>
            </a:avLst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9360" y="2340000"/>
            <a:ext cx="7101000" cy="485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0360" y="539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3236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 és mintázat (háttér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5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60360" y="1890720"/>
            <a:ext cx="71992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9640" y="2093760"/>
            <a:ext cx="540036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munkalap egy rész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a tartomány bal felső és jobb alsó sarkának megjelölésév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7380360" cy="4929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0360" y="301680"/>
            <a:ext cx="651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09880" y="2200320"/>
            <a:ext cx="6451560" cy="4278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301680"/>
            <a:ext cx="687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2043000"/>
            <a:ext cx="987264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kitölt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2273400"/>
            <a:ext cx="1019160" cy="1866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3003480"/>
            <a:ext cx="10000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List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00040" y="1765440"/>
          <a:ext cx="1839960" cy="30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65440"/>
                    <a:ext cx="183996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863720"/>
          <a:ext cx="1839960" cy="49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63720"/>
                    <a:ext cx="18399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21440" y="1940040"/>
          <a:ext cx="63648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1440" y="1940040"/>
                    <a:ext cx="636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tani műveleteket végezhet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adhatjuk, kivonhatjuk, szorozhassuk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hasonlíthatjuk, stb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formáj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egyenlőségjellel kezdőd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alma állandók, cellahivatkozások, operátorok, függvények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redmény mindig a cellában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elenik meg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ritmetikai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73200" y="1941480"/>
          <a:ext cx="688644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0" y="1941480"/>
                    <a:ext cx="688644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hasonlító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1940040"/>
          <a:ext cx="688644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40040"/>
                    <a:ext cx="68864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19280" y="1979640"/>
          <a:ext cx="596592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79640"/>
                    <a:ext cx="596592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lyan tartomány amelyben egymással összetartozó adatok vanna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szerűbb számít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239640" y="1814040"/>
            <a:ext cx="6335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3+5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A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00720" y="4319640"/>
            <a:ext cx="4500360" cy="306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1503360"/>
            <a:ext cx="3780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19640" y="1619280"/>
            <a:ext cx="2519280" cy="270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7840" y="3598560"/>
            <a:ext cx="4683240" cy="10825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5580000" cy="377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80000" y="3060720"/>
            <a:ext cx="3240360" cy="2519280"/>
          </a:xfrm>
          <a:prstGeom prst="rect">
            <a:avLst/>
          </a:prstGeom>
          <a:solidFill>
            <a:srgbClr val="e6ff0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2:d2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3:d3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4:d4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5:d5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6:d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78200" y="3238200"/>
            <a:ext cx="1803600" cy="1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678200" y="359712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78200" y="395748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78200" y="431748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678200" y="467784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relatív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bszolú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egye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7360" y="3060720"/>
            <a:ext cx="5103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 2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67160" y="3176640"/>
            <a:ext cx="5084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1733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=B2*A2+B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Diagram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360" y="6246720"/>
            <a:ext cx="66960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ok grafikus ábrázol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3007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öbb 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1640" y="2160720"/>
            <a:ext cx="6858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ulajdonképpeni számolótáb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256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65536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 egy munkalapr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339640" y="3060360"/>
            <a:ext cx="651492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ZUM(Munkalap2.c1:c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Oldalbeáll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19280" y="17985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Nyomta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51492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üggvény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3080" y="1722600"/>
            <a:ext cx="8026560" cy="51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Átla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640" y="1814040"/>
            <a:ext cx="759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ÁTLAG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VERAGE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ax, mi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700360" y="1814040"/>
            <a:ext cx="687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AX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IN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elyesírás-ellenőrz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4680000"/>
            <a:ext cx="8999640" cy="107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zközök → Helyesírás ellenőrzés 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959280" y="2519280"/>
            <a:ext cx="197964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baüzenet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42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ÁNYZIK  - nincs ad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V – érvénytelen cellára hivatkoz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NULLA – olyan tartomány metszetét adtuk meg amelyek nem metszik egymá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SZÁM – számokkal kapcsolatos hibára uta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ZÉRÓOSZTÓ – osztás nullával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ÉRTÉK – hibás argumentum v. operand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örkörös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00360" y="3060360"/>
            <a:ext cx="6300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képlet közvetlenül vagy közvetve saját cellájára hivatkoz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1"/>
              </a:rPr>
              <a:t>http://hu.ecdlweb.or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2"/>
              </a:rPr>
              <a:t>http://www.ipszilon.niif.hu/OO/l4.htm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munkalapból álló fáj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OO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828720"/>
            <a:ext cx="97538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6:30:14Z</dcterms:created>
  <dc:creator/>
  <dc:description/>
  <dc:language>en-US</dc:language>
  <cp:lastModifiedBy/>
  <dcterms:modified xsi:type="dcterms:W3CDTF">2010-03-21T19:19:27Z</dcterms:modified>
  <cp:revision>92</cp:revision>
  <dc:subject/>
  <dc:title/>
</cp:coreProperties>
</file>