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15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11.png" ContentType="image/png"/>
  <Override PartName="/ppt/media/image9.png" ContentType="image/png"/>
  <Override PartName="/ppt/media/image44.jpeg" ContentType="image/jpeg"/>
  <Override PartName="/ppt/media/image12.png" ContentType="image/png"/>
  <Override PartName="/ppt/media/image32.wmf" ContentType="image/x-wmf"/>
  <Override PartName="/ppt/media/image10.png" ContentType="image/png"/>
  <Override PartName="/ppt/media/image33.wmf" ContentType="image/x-wmf"/>
  <Override PartName="/ppt/media/image31.wmf" ContentType="image/x-wmf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40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0.png" ContentType="image/png"/>
  <Override PartName="/ppt/media/image36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811-91C6-47B8-B98D-4D790550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959-8C7E-4BF5-B305-D4EA80A9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A39-817D-41F2-BF95-3ECF620B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F4D-FE38-41FE-99F5-EE27580C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3DD-2952-48C5-B93E-3A45F58E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FA1-C405-48B3-B9D2-7CB95FB3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690-7CF1-4EDA-BE79-F6F93490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9AB-84AA-485B-B93E-15C15D05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E77-005D-45CE-979A-A7B341C1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9BE-F23F-40AB-8F70-9BF84FD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2A6-CB13-4135-9C9A-448B6CD1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1A9-8249-4D62-AFE2-42CE29C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2736D-2062-4DEF-8659-AA5702809351}" type="slidenum"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hu.ecdlweb.org/" TargetMode="External"/><Relationship Id="rId2" Type="http://schemas.openxmlformats.org/officeDocument/2006/relationships/hyperlink" Target="http://www.ipszilon.niif.hu/OO/l4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3280" y="5940360"/>
            <a:ext cx="435600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Összeállította: Sallai Andrá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79640" y="1800360"/>
            <a:ext cx="504000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56343"/>
              </a:avLst>
            </a:prstTxWarp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áblázatkezelé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20000" y="6905520"/>
            <a:ext cx="83844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240" y="166680"/>
            <a:ext cx="907092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MS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00" y="828720"/>
            <a:ext cx="975348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6668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Gnumeri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10078920" cy="656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datbevit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indig van egy aktív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Ha elkezdünk gépelni az aktív cellában jelenik me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ktív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vastag fekete kere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névmezőben látszi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ozg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kurzor mozgató nyila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gér kattintá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Billentyű kombináció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age UP – Egy oldalnyit felfelé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age Down – Egy oldanyit lefelél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Home – A sor első celláj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Home – Az A1-es cel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lt + Page Up – Oldalanként balra lapoz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lt + Page Down – Oldalanként jobbra lapoz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Billentyű kombinációk 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balra nyíl – A munkalap balolda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jobbra nyíl – A munkalap jobbolda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lefelé nyíl – A munkalap első soráb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felfelé nyíl – A munkalap utolsó soráb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5400720" y="6119640"/>
            <a:ext cx="3959280" cy="1079640"/>
          </a:xfrm>
          <a:prstGeom prst="cloudCallout">
            <a:avLst>
              <a:gd name="adj1" fmla="val -79458"/>
              <a:gd name="adj2" fmla="val -5249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8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DejaVu Sans"/>
              </a:rPr>
              <a:t>Ha tőle jobbra és lefele üres cellák vannak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datbeviteli mód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mikor elkezdünk gépelni az aktív cellába, adatbeviteli módba kerülü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mit gépelünk a szerkesztőlécben is megjele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adat akkor fog valójában bekerülni a cellába amikor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erkesztő léc mellett pipára kattintun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nter, Tab, Kurzormozgató billentyűt nyomun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ortör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3600360"/>
            <a:ext cx="90709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n belül sortöré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lt + Enter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eredeti tartalmának visszaállí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3060360"/>
            <a:ext cx="907092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erkesztő léc mellett kattintunk az X ikonr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scape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 és szöveg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áblázatkezelő másként kezeli a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ámoka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számolhatunk vel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jobbra igazítj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övege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nem számolhatunk velük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balra igazítj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yakori hibá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nál szóköz gépelés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izedes pont vagy tizedes vessző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3,5     3.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z egyik értelmezett csak számké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ált. a tizedes vessző va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 pont dátumot szokott meghatározni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3.5 általában: </a:t>
            </a:r>
            <a:r>
              <a:rPr b="0" lang="hu-HU" sz="2800" spc="-1" strike="noStrike">
                <a:solidFill>
                  <a:srgbClr val="000080"/>
                </a:solidFill>
                <a:latin typeface="DejaVu Sans"/>
              </a:rPr>
              <a:t>március 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marL="343080" indent="-343080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Ez a mű Creative Commons Nevezd meg!-Ne add el!-Így add tovább! 2.5 Magyarország Licenc alatt van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A licenc szövegének megtekintéséhez látogasd meg a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http://creativecommons.org/licenses/by-nc-sa/2.5/hu/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webcímet vagy küldj egy levelet a következő címre: Creative Commons, 171 Second Street, Suite 300, San Francisco, California, 94105, USA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yakori hibák 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ok mellé mértékegység kiírás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pl. 6 db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övegként van kezelve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megoldás: formátum beállítás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átum elválasztó helyes használ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tartalmának átír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19280" y="3240000"/>
            <a:ext cx="306036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kijelölé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ír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alom módosí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upla kattin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javíto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ellába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erkesztőléce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szerkeszt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7596000" cy="1651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2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 kurzor a tartalom végére kerü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2879640" y="3780000"/>
            <a:ext cx="5759640" cy="1079280"/>
          </a:xfrm>
          <a:prstGeom prst="wedgeRoundRectCallout">
            <a:avLst>
              <a:gd name="adj1" fmla="val -37592"/>
              <a:gd name="adj2" fmla="val -88486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xcelben, Calcban egyaránt működi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alom tör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000" y="3389400"/>
            <a:ext cx="7775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elete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zás megmarad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Oo régi verzió alapértelmezetten rákérdez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sak téglalap alapú terüle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bal felső és jobb alsó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: A1:C5 tartom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5:A1 vagy A5:C1 átrendeződik auto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30520" y="4502160"/>
            <a:ext cx="367020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gy cella – kattin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omány – egyik sarokból a szemköztibe húzom az egeret (bal egér gomb lenyomva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 A1-ből húzom C5-b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90880" y="5041800"/>
            <a:ext cx="36702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ész sor, oszlop kijelö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sor vagy oszlop azonosítóra kattintu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Így az a rész is kijelölésre kerül ami nem látszik a képernyőn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öbb sor vagy oszlop kijelölése esetén végig húzom a több azonosítón keresztü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08080" y="4554360"/>
            <a:ext cx="42926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ész oszlopra, sorra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3780000"/>
            <a:ext cx="795492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: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: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3: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 billentyűv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hift + Kurzormozgató – aktuális cellától a mozgatás irányába szomszédos cel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szóköz – teljes oszlo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hift + szóköz – teljes so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Shift + szóköz – teljes munkala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5219640"/>
            <a:ext cx="4859280" cy="1079640"/>
          </a:xfrm>
          <a:prstGeom prst="wedgeRoundRectCallout">
            <a:avLst>
              <a:gd name="adj1" fmla="val -45819"/>
              <a:gd name="adj2" fmla="val -93782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trl + Shift + szóköz csak Exce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ábláz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unkala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unkafüze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e megszüntet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060720"/>
            <a:ext cx="90360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Kattintok egy celláb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kkor csak egy aktuális cella lesz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 nem függő területek kijelö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2879640"/>
            <a:ext cx="90709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lső kijelölt tartomány után folyamatosan nyomva tartom a </a:t>
            </a:r>
            <a:r>
              <a:rPr b="0" lang="hu-HU" sz="3200" spc="-1" strike="noStrike">
                <a:solidFill>
                  <a:srgbClr val="000080"/>
                </a:solidFill>
                <a:latin typeface="DejaVu Sans"/>
              </a:rPr>
              <a:t>Ctrl</a:t>
            </a: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 billentyűt, majd kijelölöm a többi tartomány részt i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 nem függő tartományok hivatkoz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gyes tartományok pontosvesszővel vannak elválasztv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: A1:C5; E4; C7:E8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mindig van egy aktív cella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5560" y="4140360"/>
            <a:ext cx="519444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másolása, mozga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89996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ák mozgatása,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79640" y="5945040"/>
            <a:ext cx="5200560" cy="89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60720" y="1619280"/>
            <a:ext cx="5580000" cy="161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 flipV="1">
            <a:off x="2157480" y="3238200"/>
            <a:ext cx="2703600" cy="30639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940360" y="3238200"/>
            <a:ext cx="1800360" cy="30639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lapon belül egérrel vonszol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5040" y="2519280"/>
            <a:ext cx="62960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2813040"/>
            <a:ext cx="972036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formátum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 menü -&gt; Cel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(Excel, Calc és Gnumericban is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vagy jobb egér gomb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xcel: Cellaformázás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alc: Cellák formázása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Gnumeric: Cellák formázása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92280" y="1800360"/>
            <a:ext cx="50673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41320" y="216072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áblázat legelemibb egység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onosítása oszlop és sor címekkel törté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Numeri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81120" y="1440000"/>
            <a:ext cx="6519960" cy="58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ok megjelen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izedesjegy pontossá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zres csoportosí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negatív számok megjelenés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énznem megjelenjen-e a szám utá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átum és idő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zalékos 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értékegység vagy szöveg jelenjen meg a számok utá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éni formátum - Exc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92280" y="1800360"/>
            <a:ext cx="50673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éni formátum - Cal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19280" y="197964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gaz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6300720" cy="594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20000" y="1979640"/>
            <a:ext cx="2519280" cy="19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k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gaz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7199280" y="539640"/>
            <a:ext cx="2519280" cy="1440000"/>
          </a:xfrm>
          <a:prstGeom prst="roundRect">
            <a:avLst>
              <a:gd name="adj" fmla="val 16667"/>
            </a:avLst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k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9360" y="2340000"/>
            <a:ext cx="7101000" cy="485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0360" y="539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O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32367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 és mintázat (háttér)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360" y="301680"/>
            <a:ext cx="273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72072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60720" y="2160720"/>
            <a:ext cx="558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360" y="301680"/>
            <a:ext cx="273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72072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60360" y="1890720"/>
            <a:ext cx="719928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9640" y="345600"/>
            <a:ext cx="633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intázat, azaz háttér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720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79640" y="2093760"/>
            <a:ext cx="540036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munkalap egy rész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onosítása a tartomány bal felső és jobb alsó sarkának megjelölésével törté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9640" y="345600"/>
            <a:ext cx="633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intázat, azaz háttér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2270160"/>
            <a:ext cx="7380360" cy="4929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720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60360" y="301680"/>
            <a:ext cx="651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09880" y="2200320"/>
            <a:ext cx="6451560" cy="4278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72072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0360" y="301680"/>
            <a:ext cx="687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40" y="2043000"/>
            <a:ext cx="9872640" cy="335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60360" y="72072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kitölt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2273400"/>
            <a:ext cx="1019160" cy="1866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3003480"/>
            <a:ext cx="100008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Listá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00040" y="1765440"/>
          <a:ext cx="1839960" cy="309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765440"/>
                    <a:ext cx="183996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863720"/>
          <a:ext cx="1839960" cy="497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863720"/>
                    <a:ext cx="183996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121440" y="1940040"/>
          <a:ext cx="63648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1440" y="1940040"/>
                    <a:ext cx="636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tani műveleteket végezhetü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Összeadhatjuk, kivonhatjuk, szorozhassuk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összehasonlíthatjuk, stb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formáj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indig egyenlőségjellel kezdőd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alma állandók, cellahivatkozások, operátorok, függvények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redmény mindig a cellában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jelenik meg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ritmetikai operátor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73200" y="1941480"/>
          <a:ext cx="6886440" cy="45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0" y="1941480"/>
                    <a:ext cx="688644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hasonlító operátor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19280" y="1940040"/>
          <a:ext cx="6886440" cy="45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40040"/>
                    <a:ext cx="688644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619280" y="1979640"/>
          <a:ext cx="5965920" cy="399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79640"/>
                    <a:ext cx="596592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ábláz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lyan tartomány amelyben egymással összetartozó adatok vanna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szerűbb számít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239640" y="1814040"/>
            <a:ext cx="6335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3+5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1+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1+A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00720" y="4319640"/>
            <a:ext cx="4500360" cy="306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9640" y="1503360"/>
            <a:ext cx="3780000" cy="2276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19640" y="1619280"/>
            <a:ext cx="2519280" cy="27003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7840" y="3598560"/>
            <a:ext cx="4683240" cy="10825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5580000" cy="377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80000" y="3060720"/>
            <a:ext cx="3240360" cy="2519280"/>
          </a:xfrm>
          <a:prstGeom prst="rect">
            <a:avLst/>
          </a:prstGeom>
          <a:solidFill>
            <a:srgbClr val="e6ff00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2:d2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3:d3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4:d4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5:d5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6:d6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678200" y="3238200"/>
            <a:ext cx="1803600" cy="1825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678200" y="3597120"/>
            <a:ext cx="1803600" cy="3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678200" y="3957480"/>
            <a:ext cx="1803600" cy="3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78200" y="4317480"/>
            <a:ext cx="1803600" cy="543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678200" y="4677840"/>
            <a:ext cx="1803600" cy="543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relatív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bszolú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vegye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57360" y="3060720"/>
            <a:ext cx="510372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 2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67160" y="3176640"/>
            <a:ext cx="5084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17334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=B2*A2+B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216072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Diagram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360" y="6246720"/>
            <a:ext cx="66960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adatok grafikus ábrázolás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19280" y="1495440"/>
            <a:ext cx="6300720" cy="44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öbb munkalap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01640" y="2160720"/>
            <a:ext cx="6858000" cy="43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lap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ulajdonképpeni számolótáb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256 oszlo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65536 so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 egy munkalapr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339640" y="3060360"/>
            <a:ext cx="651492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ZUM(Munkalap2.c1:c6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Oldalbeáll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19280" y="179856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Nyomta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651492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üggvénye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3080" y="1722600"/>
            <a:ext cx="8026560" cy="51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Átlag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979640" y="1814040"/>
            <a:ext cx="759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ÁTLAG(tartomány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VERAGE(tartomány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ax, mi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700360" y="1814040"/>
            <a:ext cx="6875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MAX(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MIN(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elyesírás-ellenőrz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4680000"/>
            <a:ext cx="8999640" cy="107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szközök → Helyesírás ellenőrzés 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0" name=""/>
          <p:cNvSpPr/>
          <p:nvPr/>
        </p:nvSpPr>
        <p:spPr>
          <a:xfrm>
            <a:off x="3959280" y="2519280"/>
            <a:ext cx="197964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7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baüzenete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42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HIÁNYZIK  - nincs ad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HIV – érvénytelen cellára hivatkozu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NULLA – olyan tartomány metszetét adtuk meg amelyek nem metszik egymás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SZÁM – számokkal kapcsolatos hibára uta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ZÉRÓOSZTÓ – osztás nullával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ÉRTÉK – hibás argumentum v. operandu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örkörös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00360" y="3060360"/>
            <a:ext cx="6300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gy képlet közvetlenül vagy közvetve saját cellájára hivatkoz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rodalom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 u="sng">
                <a:solidFill>
                  <a:srgbClr val="ccccff"/>
                </a:solidFill>
                <a:uFillTx/>
                <a:latin typeface="DejaVu Sans"/>
                <a:hlinkClick r:id="rId1"/>
              </a:rPr>
              <a:t>http://hu.ecdlweb.or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 u="sng">
                <a:solidFill>
                  <a:srgbClr val="ccccff"/>
                </a:solidFill>
                <a:uFillTx/>
                <a:latin typeface="DejaVu Sans"/>
                <a:hlinkClick r:id="rId2"/>
              </a:rPr>
              <a:t>http://www.ipszilon.niif.hu/OO/l4.htm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füze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öbb munkalapból álló fáj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20240"/>
            <a:ext cx="90709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OO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828720"/>
            <a:ext cx="9753840" cy="67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6:30:14Z</dcterms:created>
  <dc:creator/>
  <dc:description/>
  <dc:language>en-US</dc:language>
  <cp:lastModifiedBy/>
  <dcterms:modified xsi:type="dcterms:W3CDTF">2010-03-21T19:19:27Z</dcterms:modified>
  <cp:revision>92</cp:revision>
  <dc:subject/>
  <dc:title/>
</cp:coreProperties>
</file>