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24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8.wmf" ContentType="image/x-wmf"/>
  <Override PartName="/ppt/media/image37.jpeg" ContentType="image/jpeg"/>
  <Override PartName="/ppt/media/image11.png" ContentType="image/png"/>
  <Override PartName="/ppt/media/image9.png" ContentType="image/png"/>
  <Override PartName="/ppt/media/image44.jpeg" ContentType="image/jpeg"/>
  <Override PartName="/ppt/media/image12.png" ContentType="image/png"/>
  <Override PartName="/ppt/media/image32.wmf" ContentType="image/x-wmf"/>
  <Override PartName="/ppt/media/image10.png" ContentType="image/png"/>
  <Override PartName="/ppt/media/image33.wmf" ContentType="image/x-wmf"/>
  <Override PartName="/ppt/media/image31.wmf" ContentType="image/x-wmf"/>
  <Override PartName="/ppt/media/image3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5.jpeg" ContentType="image/jpeg"/>
  <Override PartName="/ppt/media/image35.png" ContentType="image/png"/>
  <Override PartName="/ppt/media/image43.jpeg" ContentType="image/jpeg"/>
  <Override PartName="/ppt/media/image40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13.jpeg" ContentType="image/jpeg"/>
  <Override PartName="/ppt/media/image23.png" ContentType="image/png"/>
  <Override PartName="/ppt/media/image34.png" ContentType="image/png"/>
  <Override PartName="/ppt/media/image4.png" ContentType="image/png"/>
  <Override PartName="/ppt/media/image30.wmf" ContentType="image/x-wmf"/>
  <Override PartName="/ppt/media/image27.png" ContentType="image/png"/>
  <Override PartName="/ppt/media/image20.png" ContentType="image/png"/>
  <Override PartName="/ppt/media/image36.jpeg" ContentType="image/jpeg"/>
  <Override PartName="/ppt/media/image2.jpeg" ContentType="image/jpe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5502-AB4F-4EA9-BB5A-F1A7156E3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1FF9-FD98-4367-B861-FDCEDC1AB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DC49-4A51-4F34-A762-63B0C8DE3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48D-0F0F-4314-9365-88F7839F0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14C7-65A4-422E-AD29-740FDFAAE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E66-ABDA-407A-96D7-C5AE9FD2D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55B0-DBF9-4743-8D5F-60BD4319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E80C-9414-40E7-9774-A380F664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0284-EEE0-42B7-B85B-A8F295FA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F746-977E-45BC-A72E-4D4AD662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667-73D7-46B6-89D4-634A671F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0274-0B86-4C07-82FE-085701B6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DejaVu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343080" indent="0">
              <a:lnSpc>
                <a:spcPct val="97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2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3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4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5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6" marL="343080" indent="-34308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DejaVu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DejaVu Sans"/>
              </a:defRPr>
            </a:lvl1pPr>
          </a:lstStyle>
          <a:p>
            <a:pPr indent="0" algn="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464C92-BB10-4964-891E-A422B0C86A82}" type="slidenum">
              <a:rPr b="0" lang="hu-HU" sz="1400" spc="-1" strike="noStrike">
                <a:solidFill>
                  <a:srgbClr val="000000"/>
                </a:solidFill>
                <a:latin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hyperlink" Target="http://hu.ecdlweb.org/" TargetMode="External"/><Relationship Id="rId2" Type="http://schemas.openxmlformats.org/officeDocument/2006/relationships/hyperlink" Target="http://www.ipszilon.niif.hu/OO/l4.html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03280" y="5940360"/>
            <a:ext cx="4356000" cy="77328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Összeállította: Sallai András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79640" y="1800360"/>
            <a:ext cx="5040000" cy="1800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Down">
              <a:avLst>
                <a:gd name="adj" fmla="val 56343"/>
              </a:avLst>
            </a:prstTxWarp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2700000"/>
                </a:gradFill>
                <a:effectLst>
                  <a:outerShdw dist="152735" dir="2700000" blurRad="0" rotWithShape="0">
                    <a:srgbClr val="868686"/>
                  </a:outerShdw>
                </a:effectLst>
                <a:latin typeface="Arial Black"/>
              </a:rPr>
              <a:t>Táblázatkezelés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000080"/>
                  </a:gs>
                </a:gsLst>
                <a:lin ang="2700000"/>
              </a:gradFill>
              <a:effectLst>
                <a:outerShdw dist="152735" dir="2700000" blurRad="0" rotWithShape="0">
                  <a:srgbClr val="868686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20000" y="6905520"/>
            <a:ext cx="838440" cy="295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25240" y="166680"/>
            <a:ext cx="9070920" cy="65232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MS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7600" y="828720"/>
            <a:ext cx="9753480" cy="673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66680"/>
            <a:ext cx="907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996840"/>
            <a:ext cx="10078920" cy="656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51753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van egy 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a elkezdünk gépelni az aktív cellában jelenik me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ktív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vastag fekete ker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névmezőben látsz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ozg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kurzor mozgató nyila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gér kattintás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UP – Egy oldalnyit felfelé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age Down – Egy oldanyit lefelél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Home – A sor első celláj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Home – Az A1-es cel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Up – Oldalanként bal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lt + Page Down – Oldalanként jobbra lapoz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Billentyű kombináció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balra nyíl – A munkalap bal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jobbra nyíl – A munkalap jobboldalár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lefelé nyíl – A munkalap első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felfelé nyíl – A munkalap utolsó sorába ugr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69" name=""/>
          <p:cNvSpPr/>
          <p:nvPr/>
        </p:nvSpPr>
        <p:spPr>
          <a:xfrm>
            <a:off x="5400720" y="6119640"/>
            <a:ext cx="3959280" cy="1079640"/>
          </a:xfrm>
          <a:prstGeom prst="cloudCallout">
            <a:avLst>
              <a:gd name="adj1" fmla="val -79458"/>
              <a:gd name="adj2" fmla="val -5249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18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DejaVu Sans"/>
              </a:rPr>
              <a:t>Ha tőle jobbra és lefele üres cellák vannak</a:t>
            </a: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datbeviteli mód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kor elkezdünk gépelni az aktív cellába, adatbeviteli módba kerül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mit gépelünk a szerkesztőlécben is megjele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 akkor fog valójában bekerülni a cellába amikor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 léc mellett pipára kattint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nter, Tab, Kurzormozgató billentyűt nyomun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ortör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3600360"/>
            <a:ext cx="9070920" cy="3068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n belül sortör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lt + Enter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eredeti tartalmának visszaáll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2920" y="3060360"/>
            <a:ext cx="9070920" cy="3608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erkesztő léc mellett kattintunk az X ikonr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cap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 és szöve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kezelő másként kezeli a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ámoka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számolhatunk vele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jobb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e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nem számolhatunk velük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  <a:p>
            <a:pPr lvl="2" marL="1295280" indent="-215640">
              <a:lnSpc>
                <a:spcPct val="97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DejaVu Sans"/>
              </a:rPr>
              <a:t>balra igazítja</a:t>
            </a:r>
            <a:endParaRPr b="0" lang="en-US" sz="2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nál szóköz gépel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 pont vagy tizedes vessző  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,5     3.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z egyik értelmezett csak számként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ált. a tizedes vessző v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pont dátumot szokott meghatározni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3.5 általában: </a:t>
            </a:r>
            <a:r>
              <a:rPr b="0" lang="hu-HU" sz="2800" spc="-1" strike="noStrike">
                <a:solidFill>
                  <a:srgbClr val="000080"/>
                </a:solidFill>
                <a:latin typeface="DejaVu Sans"/>
              </a:rPr>
              <a:t>március 5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7560" bIns="0" anchor="ctr">
            <a:noAutofit/>
          </a:bodyPr>
          <a:p>
            <a:pPr marL="343080" indent="-343080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Ez a mű Creative Commons Nevezd meg!-Ne add el!-Így add tovább! 2.5 Magyarország Licenc alatt van.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A licenc szövegének megtekintéséhez látogasd meg a 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http://creativecommons.org/licenses/by-nc-sa/2.5/hu/ 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-343080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DejaVu Sans"/>
              </a:rPr>
              <a:t>webcímet vagy küldj egy levelet a következő címre: Creative Commons, 171 Second Street, Suite 300, San Francisco, California, 94105, USA.</a:t>
            </a:r>
            <a:endParaRPr b="0" lang="en-US" sz="20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yakori hibák 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ok mellé mértékegység kiír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pl. 6 db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övegként van kezelve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egoldás: formátum beállítása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elválasztó helyes használat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tartalmának átír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19280" y="3240000"/>
            <a:ext cx="306036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r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módosí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upla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avíto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ellába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szerkesztőlécen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szerkesz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7596000" cy="16513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2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A kurzor a tartalom végére kerü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88" name=""/>
          <p:cNvSpPr/>
          <p:nvPr/>
        </p:nvSpPr>
        <p:spPr>
          <a:xfrm>
            <a:off x="2879640" y="3780000"/>
            <a:ext cx="5759640" cy="1079280"/>
          </a:xfrm>
          <a:prstGeom prst="wedgeRoundRectCallout">
            <a:avLst>
              <a:gd name="adj1" fmla="val -37592"/>
              <a:gd name="adj2" fmla="val -88486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ben, Calcban egyaránt működik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alom tör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0000" y="3389400"/>
            <a:ext cx="7775640" cy="23716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elete billentyű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zás megmarad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 régi verzió alapértelmezetten rákérdez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sak téglalap alapú terül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bal felső és jobb alsó 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 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5:A1 vagy A5:C1 átrendeződik auto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630520" y="4502160"/>
            <a:ext cx="3670200" cy="21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7306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cella – kattin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 – egyik sarokból a szemköztibe húzom az egeret (bal egér gomb lenyomva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 A1-ből húzom C5-b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990880" y="5041800"/>
            <a:ext cx="3670200" cy="21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sor, oszlop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3270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sor vagy oszlop azonosítóra kattint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Így az a rész is kijelölésre kerül ami nem látszik a képernyőn!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sor vagy oszlop kijelölése esetén végig húzom a több azonosítón keresztü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008080" y="4554360"/>
            <a:ext cx="429264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ész oszlopra, sorra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618920" y="3780000"/>
            <a:ext cx="7954920" cy="180000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: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: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3: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 billentyűv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Kurzormozgató – aktuális cellától a mozgatás irányába szomszédos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zóköz – teljes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hift + szóköz – teljes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trl + Shift + szóköz – teljes 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4" name=""/>
          <p:cNvSpPr/>
          <p:nvPr/>
        </p:nvSpPr>
        <p:spPr>
          <a:xfrm>
            <a:off x="2700360" y="5219640"/>
            <a:ext cx="4859280" cy="1079640"/>
          </a:xfrm>
          <a:prstGeom prst="wedgeRoundRectCallout">
            <a:avLst>
              <a:gd name="adj1" fmla="val -45819"/>
              <a:gd name="adj2" fmla="val -93782"/>
              <a:gd name="adj3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554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trl + Shift + szóköz csak Excel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galma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ijelölése megszüntet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3060720"/>
            <a:ext cx="9036000" cy="16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Kattintok egy celláb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kkor csak egy aktuális cella lesz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erületek kijelöl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2920" y="2879640"/>
            <a:ext cx="9070920" cy="2519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lső kijelölt tartomány után folyamatosan nyomva tartom a </a:t>
            </a:r>
            <a:r>
              <a:rPr b="0" lang="hu-HU" sz="3200" spc="-1" strike="noStrike">
                <a:solidFill>
                  <a:srgbClr val="000080"/>
                </a:solidFill>
                <a:latin typeface="DejaVu Sans"/>
              </a:rPr>
              <a:t>Ctrl</a:t>
            </a: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 billentyűt, majd kijelölöm a többi tartomány részt i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 nem függő tartományok hivatkoz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2195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gyes tartományok pontosvesszővel vannak elválasztv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l.: A1:C5; E4; C7:E8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55000" indent="-28440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mindig van egy aktív cella!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825560" y="4140360"/>
            <a:ext cx="5194440" cy="28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 másolása, mozgat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8999640" cy="23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ák mozgatása,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079640" y="5945040"/>
            <a:ext cx="5200560" cy="895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160720" y="1619280"/>
            <a:ext cx="5580000" cy="16192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 flipH="1" flipV="1">
            <a:off x="2157480" y="3238200"/>
            <a:ext cx="270360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940360" y="3238200"/>
            <a:ext cx="1800360" cy="30639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2920" y="279000"/>
            <a:ext cx="9070920" cy="13050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on belül egérrel vonszol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05040" y="2519280"/>
            <a:ext cx="6296040" cy="25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9280" y="2813040"/>
            <a:ext cx="9720360" cy="60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formátu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 menü -&gt; Cel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(Excel, Calc és Gnumericban is)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0">
              <a:lnSpc>
                <a:spcPct val="97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agy jobb egér gomb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Excel: Cellaformázás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Cal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  <a:p>
            <a:pPr lvl="1" marL="863640" indent="-287280">
              <a:lnSpc>
                <a:spcPct val="9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DejaVu Sans"/>
              </a:rPr>
              <a:t>Gnumeric: Cellák formázása...</a:t>
            </a:r>
            <a:endParaRPr b="0" lang="en-US" sz="2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741320" y="216072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Cell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áblázat legelemibb egység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oszlop és sor címekk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GNumeri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581120" y="1440000"/>
            <a:ext cx="6519960" cy="58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ámok megjelenése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izedesjegy pontossá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zres csoportosítá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negatív számok megjelenés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pénznem megjelenjen-e a szám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dátum és idő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zalékos 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értékegység vagy szöveg jelenjen meg a számok után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Excel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492280" y="1800360"/>
            <a:ext cx="5067360" cy="488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éni formátum - Calc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19280" y="197964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79280" y="1260360"/>
            <a:ext cx="6300720" cy="5940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020000" y="1979640"/>
            <a:ext cx="2519280" cy="19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gaz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1" name=""/>
          <p:cNvSpPr/>
          <p:nvPr/>
        </p:nvSpPr>
        <p:spPr>
          <a:xfrm>
            <a:off x="7199280" y="539640"/>
            <a:ext cx="2519280" cy="1440000"/>
          </a:xfrm>
          <a:prstGeom prst="roundRect">
            <a:avLst>
              <a:gd name="adj" fmla="val 16667"/>
            </a:avLst>
          </a:prstGeom>
          <a:solidFill>
            <a:srgbClr val="e6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ormátum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algn="ctr"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ellák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79360" y="2340000"/>
            <a:ext cx="7101000" cy="4859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60360" y="53964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Oo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60000" y="323676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 és mintázat (háttér)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160720" y="2160720"/>
            <a:ext cx="558000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0360" y="301680"/>
            <a:ext cx="273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Szegél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720720"/>
            <a:ext cx="216072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60360" y="1890720"/>
            <a:ext cx="7199280" cy="512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52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079640" y="2093760"/>
            <a:ext cx="540036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artomány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munkalap egy része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onosítása a tartomány bal felső és jobb alsó sarkának megjelölésével történ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239640" y="345600"/>
            <a:ext cx="633564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intázat, azaz háttér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2270160"/>
            <a:ext cx="7380360" cy="492912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39640" y="720720"/>
            <a:ext cx="180036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Calc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60360" y="301680"/>
            <a:ext cx="6514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009880" y="2200320"/>
            <a:ext cx="6451560" cy="42782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360" y="301680"/>
            <a:ext cx="687528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formá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8440" y="2043000"/>
            <a:ext cx="9872640" cy="3357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60360" y="720720"/>
            <a:ext cx="1979640" cy="720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8000" rIns="108000" tIns="75240" bIns="63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xce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utomatikus kitölt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340000" y="2273400"/>
            <a:ext cx="1019160" cy="1866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219640" y="3003480"/>
            <a:ext cx="1000080" cy="18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Listá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500040" y="1765440"/>
          <a:ext cx="1839960" cy="309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765440"/>
                    <a:ext cx="1839960" cy="30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"/>
          <p:cNvGraphicFramePr/>
          <p:nvPr/>
        </p:nvGraphicFramePr>
        <p:xfrm>
          <a:off x="3200400" y="1863720"/>
          <a:ext cx="1839960" cy="4975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00400" y="1863720"/>
                    <a:ext cx="1839960" cy="49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6121440" y="1940040"/>
          <a:ext cx="636480" cy="309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21440" y="1940040"/>
                    <a:ext cx="636480" cy="30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Számtani műveleteket végezhetü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adhatjuk, kivonhatjuk, szorozhassuk,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összehasonlíthatjuk, stb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formáj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Mindig egyenlőségjellel kezdőd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artalma állandók, cellahivatkozások, operátorok, függvények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eredmény mindig a cellában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 algn="ctr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jelenik meg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Aritmetikai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573200" y="1941480"/>
          <a:ext cx="6886440" cy="4538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0" y="1941480"/>
                    <a:ext cx="688644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Összehasonlító operátor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19280" y="1940040"/>
          <a:ext cx="6886440" cy="4539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40040"/>
                    <a:ext cx="688644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1619280" y="1979640"/>
          <a:ext cx="5965920" cy="399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979640"/>
                    <a:ext cx="596592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ábláza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Olyan tartomány amelyben egymással összetartozó adatok vanna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Egyszerűbb számít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239640" y="1814040"/>
            <a:ext cx="633564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3+5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3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1+A2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400720" y="4319640"/>
            <a:ext cx="4500360" cy="30607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39640" y="1503360"/>
            <a:ext cx="3780000" cy="2276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319640" y="1619280"/>
            <a:ext cx="2519280" cy="270036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537840" y="3598560"/>
            <a:ext cx="4683240" cy="1082520"/>
          </a:xfrm>
          <a:prstGeom prst="line">
            <a:avLst/>
          </a:prstGeom>
          <a:ln w="36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éplet másolás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60360" y="1440000"/>
            <a:ext cx="5580000" cy="377964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480000" y="3060720"/>
            <a:ext cx="3240360" cy="2519280"/>
          </a:xfrm>
          <a:prstGeom prst="rect">
            <a:avLst/>
          </a:prstGeom>
          <a:solidFill>
            <a:srgbClr val="e6ff00"/>
          </a:solidFill>
          <a:ln w="0">
            <a:noFill/>
          </a:ln>
          <a:effectLst>
            <a:outerShdw dist="15273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2:d2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3:d3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4:d4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5:d5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>
              <a:lnSpc>
                <a:spcPct val="97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um(c6:d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678200" y="3238200"/>
            <a:ext cx="1803600" cy="1825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678200" y="359712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678200" y="3957480"/>
            <a:ext cx="1803600" cy="36360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678200" y="431748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678200" y="4677840"/>
            <a:ext cx="1803600" cy="54324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relatív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bszolú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vegye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57360" y="3060720"/>
            <a:ext cx="5103720" cy="127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 2.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67160" y="3176640"/>
            <a:ext cx="5084640" cy="129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Relatív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419640" y="2519280"/>
            <a:ext cx="1733400" cy="22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=B2*A2+B2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619280" y="2160720"/>
            <a:ext cx="59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Diagramo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4360" y="6246720"/>
            <a:ext cx="6696000" cy="95256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z adatok grafikus ábrázolása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300720" cy="44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Több 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01640" y="2160720"/>
            <a:ext cx="6858000" cy="433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lap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A tulajdonképpeni számolótáblá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256 oszlop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65536 sor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vatkozás egy munkalapra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339640" y="3060360"/>
            <a:ext cx="6514920" cy="131292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SZUM(Munkalap2.c1:c6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Oldalbeállí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19280" y="1798560"/>
            <a:ext cx="6718320" cy="50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Nyomtat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800360" y="1979640"/>
            <a:ext cx="6514920" cy="473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üggvény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973080" y="1722600"/>
            <a:ext cx="8026560" cy="511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Átlag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979640" y="1814040"/>
            <a:ext cx="759600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ÁTLAG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AVERAGE(tartomány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ax, min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700360" y="1814040"/>
            <a:ext cx="687528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AX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343080" indent="0">
              <a:lnSpc>
                <a:spcPct val="97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=MIN()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elyesírás-ellenőrzé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29" name=""/>
          <p:cNvSpPr/>
          <p:nvPr/>
        </p:nvSpPr>
        <p:spPr>
          <a:xfrm>
            <a:off x="539640" y="4680000"/>
            <a:ext cx="8999640" cy="10792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szközök → Helyesírás ellenőrzés ...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0" name=""/>
          <p:cNvSpPr/>
          <p:nvPr/>
        </p:nvSpPr>
        <p:spPr>
          <a:xfrm>
            <a:off x="3959280" y="2519280"/>
            <a:ext cx="1979640" cy="10796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240" bIns="45000" anchor="ctr">
            <a:noAutofit/>
          </a:bodyPr>
          <a:p>
            <a:pPr algn="ctr">
              <a:lnSpc>
                <a:spcPct val="98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F7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Hibaüzenetek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564228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 fontScale="99000"/>
          </a:bodyPr>
          <a:p>
            <a:pPr marL="427320" indent="-32040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ÁNYZIK  - nincs ada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HIV – érvénytelen cellára hivatkozun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NULLA – olyan tartomány metszetét adtuk meg amelyek nem metszik egymást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SZÁM – számokkal kapcsolatos hibára uta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ZÉRÓOSZTÓ – osztás nullával 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27320" indent="-32040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#ÉRTÉK – hibás argumentum v. operandus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Körkörös hivatkozás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800360" y="3060360"/>
            <a:ext cx="6300720" cy="19796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ctr">
            <a:noAutofit/>
          </a:bodyPr>
          <a:p>
            <a:pPr marL="343080"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Egy képlet közvetlenül vagy közvetve saját cellájára hivatkozik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Irodalom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1"/>
              </a:rPr>
              <a:t>http://hu.ecdlweb.org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-323640">
              <a:lnSpc>
                <a:spcPct val="9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 u="sng">
                <a:solidFill>
                  <a:srgbClr val="ccccff"/>
                </a:solidFill>
                <a:uFillTx/>
                <a:latin typeface="DejaVu Sans"/>
                <a:hlinkClick r:id="rId2"/>
              </a:rPr>
              <a:t>http://www.ipszilon.niif.hu/OO/l4.htm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  <a:p>
            <a:pPr marL="431640" indent="0">
              <a:lnSpc>
                <a:spcPct val="97000"/>
              </a:lnSpc>
              <a:spcAft>
                <a:spcPts val="1426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Munkafüzet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2240" bIns="0" anchor="t">
            <a:normAutofit/>
          </a:bodyPr>
          <a:p>
            <a:pPr marL="431640" indent="-323640">
              <a:lnSpc>
                <a:spcPct val="9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DejaVu Sans"/>
              </a:rPr>
              <a:t>Több munkalapból álló fájl</a:t>
            </a:r>
            <a:endParaRPr b="0" lang="en-US" sz="3200" spc="-1" strike="noStrike">
              <a:solidFill>
                <a:srgbClr val="000000"/>
              </a:solidFill>
              <a:latin typeface="DejaVu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996633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000" y="120240"/>
            <a:ext cx="907092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DejaVu Sans"/>
              </a:rPr>
              <a:t>Felhasználói felület -- OOo</a:t>
            </a:r>
            <a:endParaRPr b="0" lang="en-US" sz="4400" spc="-1" strike="noStrike">
              <a:solidFill>
                <a:srgbClr val="000000"/>
              </a:solidFill>
              <a:latin typeface="DejaVu Sans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79280" y="828720"/>
            <a:ext cx="9753840" cy="6730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9T16:30:14Z</dcterms:created>
  <dc:creator/>
  <dc:description/>
  <dc:language>en-US</dc:language>
  <cp:lastModifiedBy/>
  <dcterms:modified xsi:type="dcterms:W3CDTF">2010-03-21T19:19:27Z</dcterms:modified>
  <cp:revision>92</cp:revision>
  <dc:subject/>
  <dc:title/>
</cp:coreProperties>
</file>