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F85B-A976-4ED7-A5C2-46544831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409-F727-4A32-9A16-585F971C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0B11-B6C7-4D1D-B3C4-77607B63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35A-AC6E-47DE-8C25-77162A362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7242F-3F38-4C37-9181-943931D31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9553-CEE3-4AFB-8DFB-66FFFF57E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BE6CC-9781-4BD2-8486-806FC642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4E8E5-515A-4745-A6B1-875B256F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9395-3862-41F9-A4EA-375AFAD5E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A24B-C63A-4C17-AC27-EF42E6FAB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766F7-87F3-44A8-8154-1C31854F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E5A-C0DF-4983-B25C-F5C3639C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C3FA0-29FE-4A92-9623-D2557186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E60A-4544-4F6F-8762-6BCE2E34B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73E1-93B7-4BEF-A2B2-FF4BCC4DA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FCAD-3294-42EA-9B51-3CF96918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32D8E-AFD5-409F-8C1A-B6A31EC86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AC208-D707-437C-9FA0-AB41B7B3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9D964-48E0-48AE-8021-8274C805A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B9616-ED27-4997-8F15-B3D80EA5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F5CBD6-BE65-45D3-ABD0-D3C192B52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4069-D1D4-4AB7-9EFF-AEA935D0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9174-356A-4AEF-834F-C413D8A07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7320-1B0B-4686-91EA-4077D2BAB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9128-52AB-49EC-928C-6A6A066A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960BA-14E7-40D9-94F4-0C820032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CA53-0A64-444B-8F18-BBA926B3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C0177-55B4-421D-A6A8-F468FA96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96F17-8EC5-48A8-B456-5D63BF57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3D605-8A2E-43C5-8351-D726EB0A9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11806B-5343-4852-86C7-041E8A41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F0444-289D-4C57-81DB-259237E0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85D62-7481-4FFE-BBD0-AD3830CCD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1E4C-8677-49D3-8181-27C9CEAA3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ABC2C-9270-4E23-93E9-8F8E34CBE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EEC86-7C19-41FF-AF82-AC89D4135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8E579-49AC-4878-AA76-E4DC8416D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F121F-689A-4C6A-BEA9-B7A845C1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B4C85-A70D-4AFB-AE27-2329E055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62F21-873C-454B-9ECC-514CC903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5932E9-C3E7-4A4D-B41F-E9912DC84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A0DA4-522D-4D51-94F5-82062713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5A834-A873-4C4B-B840-CE8F8A74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4CFA5-FDF0-4C4A-9225-4D8CC45E9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341F-EA4E-47EB-91F4-5CD1629C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F83B2-002D-49F2-9FB0-7E3DA0E8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53215-5F5D-4655-B405-EB1EEDC16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B08037-6A94-4E5C-95C9-FD51DB27F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BE9D62-0582-4028-88F6-ABA42F47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30DDCF-B045-47A9-A540-B49F129FE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041443-7586-4778-89F6-70B09C64F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C0423-9D50-4A83-8C6F-2964584C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69875-EA32-417D-B9EB-4C47AB235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E1380-F09E-45CA-9D5F-2E59453E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51E3C-CAF8-476B-9EE1-B3C5F8815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DBF1-B699-44FD-A006-08E766E5C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C63A4-88B8-4F2D-A6AF-6BCD0A80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579A19-E68F-45E1-A417-3D21978E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C5E70D-C002-40EA-A0ED-8F006CB7C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CB544-3C1E-4A59-A421-CEF3B355E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DCFAC-02AB-4D56-A14B-E1373B30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95D96-B0C3-4D55-A2F3-84800FA9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150817-0F58-4A52-B6C9-0EA52096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0737A-4D46-42DE-B84A-311B8971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5DB7CB-3001-4EFB-89B8-948D31780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AAAA5-9FE6-453E-A636-6F20AB1D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0CE-5100-4553-B9E6-43D4BA174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418380-7C7F-4A0E-9822-3ED7842C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4D2FC-4215-42CA-BFAE-38A4AA44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D15EFB-2E6E-4B72-8C35-797C3E550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AD7-9868-4A1E-B42E-BC7920AD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23AB-4381-4CE0-89A2-B616BC0E6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FE3F0-CC5C-46B6-8430-8546C94028AB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25953-A53C-4F8C-AD41-935082F4C44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EB7A8-AE8F-4F04-A3F4-EC806D4ED589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FC36-BB1D-4EF1-B90C-DC18DFED59B5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BF11-CAC3-4ADF-8E05-EA7F26CBEE19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2932-F9B1-44C9-A901-91885ECA55ED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Francisc</cp:lastModifiedBy>
  <dcterms:modified xsi:type="dcterms:W3CDTF">2010-10-08T14:22:46Z</dcterms:modified>
  <cp:revision>14</cp:revision>
  <dc:subject/>
  <dc:title>Slide 1</dc:title>
</cp:coreProperties>
</file>