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7EC-2E0B-4140-B796-41D18B92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B94-ECFE-4D10-AC70-75131D54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371-C560-483A-AD5C-94D190D2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668-5F33-46E6-85B0-47914D86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0FB7-251A-4EE9-92B0-536B12D3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BED6-DF4C-4922-8667-EA9DA6E6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F68D-B84C-4073-9476-86032340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690B-1F6C-410E-BCE9-2EB15169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986C-5D64-424C-84E8-4B2C7A1D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C730-EFE8-4731-856E-AA232B6D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3B7E-6074-4E99-9FCF-903F622F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16C-C42B-475E-852E-6D36C79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887C-E2C7-4233-874F-500DCCB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179D-5925-4DF6-83E1-C3D7E94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3881-80F0-4C22-8C47-7E8867CD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4463-FB3E-40F7-8263-E57A0042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FE9E-1410-46EC-8BDE-189C67B3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7A74-7249-40DA-848E-F7E60A7F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5308-46A6-4949-B502-908C8258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ED74-AA61-412F-933D-7BBC570C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1D8C-09D7-429A-A471-55B54419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CDC1-A6AD-4F93-96B7-820AD144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8A2-DAD5-4321-AECC-9DE017CD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30EF-0DFC-43FB-BF7E-D9C63D98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B9B44-AC89-436A-AA72-463B4A6B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B597-C49E-4AFA-8A0D-346F106C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9984-D164-4AF4-96B0-BAB13FBE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D414-C40A-4D20-A043-184B5309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0453B-EC4D-4208-BCE1-14A37DFC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E8FF-C388-4B80-B51B-0333961C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5C84-06EE-407F-9387-45E17DC2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978D-102C-482E-8412-66593571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10927-0405-48D0-969F-26EA0B06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65C-5B1B-48BF-A123-38C5C9E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8050-BF04-409C-8093-DB57A81F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1FAE-4CDE-430C-93D5-9FEE8779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1A41-671F-4E81-B40D-0FE64076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695A8-915C-448C-97ED-70ABA66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470C5-D73B-4C41-B3AA-389195CC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8D18-38D1-4887-8592-75A9DAE1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BF8A-218E-4368-840C-A007B168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FD9C-CE12-4567-BD56-BF6B5018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245E-A265-4667-8585-CFE0108E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307DF-B9AB-497E-86B1-FB347311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D75-02FB-4215-9C80-D977CDBF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B9BB-5314-4658-9372-46A0DE6C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30C55-C6AF-42C8-BD0E-80873708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10B81-88E7-494C-ADF2-C5BBEE4D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32CB9-1489-44D0-B4CA-1A8E9A13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1F803-0324-410F-9DF2-D7450F76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645B2-935D-4C11-9EB8-A4169184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1513-71D4-4A28-9CEE-A026E165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94799-ACEA-4C22-B00E-125CEB1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66BD-1215-4F83-BCB5-363134C9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D1BD0-474B-4DB9-82BC-2FC96F83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99D-8B2A-4B66-8AE4-78AC6473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C622-18AF-411C-BEFE-82F40B30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8544B-B262-4EDA-AA04-6E36D799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C374-E758-45D9-9CE8-141EDD87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A3447-4C6A-41FF-92E8-0E9F9441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96784-1C9D-46BE-9C1B-DB28912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29C43-335A-4500-A57B-E97AE68E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EC7DC-3902-45D6-B67D-99F7130E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01A6B-C4D7-4116-B66E-81E2ABA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8D847-E458-4013-909F-E750DA6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0F59B-56C5-4106-A251-C055719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414-2AD8-48F1-B6BC-6C4DC0C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C0A85-B772-4219-B211-3C81D04B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B4DF1-D88A-4545-8553-4B023E2D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53C7-AFE3-4032-96B6-20A917A3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43E-4806-4E93-9D37-7DF25F94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FB6-7BDA-42DC-A017-DB4037E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4B92-41F5-4161-8027-E6016C89558A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BD72-6103-479B-93FA-7CEC3863D6C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B903-0899-435B-8730-DA6AC8AEAF95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6037-9662-415B-8F4E-527D338C0F2A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89C0-EF15-4465-ADBD-7A1988D2C610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7CBB-F9EF-4E43-BEC9-72995FDC054D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Francisc</cp:lastModifiedBy>
  <dcterms:modified xsi:type="dcterms:W3CDTF">2010-10-08T14:22:46Z</dcterms:modified>
  <cp:revision>14</cp:revision>
  <dc:subject/>
  <dc:title>Slide 1</dc:title>
</cp:coreProperties>
</file>