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67F-7CEC-4812-B8EE-5F0B5A30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E92-0746-48EE-AAFE-7B82B6DE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D74-B7C8-4183-B3D2-C4E8757A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B96-18F9-4F68-90B5-C8F0A57D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CDCD-B000-475C-ABCA-AED75A05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567A-8525-433D-82E1-C6842FD6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FC78-8918-45FC-A3B0-5A5AF2B6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B7FE-6E4E-4FC0-BEE5-E445C307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6187-F95C-46BF-A7A8-256C6D02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D0C6-3C7D-4021-8254-75ABF70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B2B0-632E-402F-8BD3-DB8E2E7D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694-4A6C-4C7C-B2AF-954E2F75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8EE1-F861-4CF7-8A9B-960376E3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2968-0B79-4A38-8B26-97D78B5E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C96D-8849-4B3C-B12F-52AF80DD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E9E7-A1FE-4BE5-9258-7C913D3C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F2F4-E924-4A6A-B679-BD41117A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6349-D0EA-4E46-AB99-D2C207AE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E439-32C8-43B1-ADA4-381FE950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DC6B-A6DC-4684-B61C-F17F598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7A0C-D3ED-4235-87C5-23072D80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1FDC-343A-4B03-9461-6DB6D999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372-ABB8-4715-A747-0DFB2D0A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1B75-FBCC-438C-B7C9-98BED8CC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F5B9-6E9E-48DA-B6FA-17FD92E7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E935-DF93-42AF-86B2-7208775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4780-5D60-447E-AF07-6D7B237D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A9E2-EB8A-4BFA-9DA2-29C8BCE6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7BDB-D8E9-4312-A64B-252C01D3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E42E-1D86-40D0-B8BF-F3B632E8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79B2-AFFC-4A71-BC0A-9C2E6973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E27EE-3B74-4A6E-A7F2-C3CAE0F9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470EF-4420-42CD-87E0-3B9E2137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8A4-36EB-4668-B750-3A9361CD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387F-4407-45AC-96E8-2B96026C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2C8D2-4174-4F6D-8B2A-431BDE12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DF2C-1212-4E11-83A1-7EAD19CA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E7A9-A2FA-4E14-94A8-3968FCC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83DAE-EEF6-46C0-B3F9-97E9296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8BA1-9A7E-429C-8FF6-6C447533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6ECAD-4E20-453A-94A2-C6DF4B24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E456-0D90-44FC-9C50-9B56626B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4620-F098-48BD-A7D6-3B12FE4D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FA23-52ED-4207-9484-4B9562C4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3FB-2FDB-41FC-8CCB-486B4139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F3F0-5488-4FA9-B54A-07B9BED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31A9E-F502-4A96-ADF9-BB5DE0B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191AC-4FB5-44C6-B215-F3BDCF23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4F23-C61D-40C6-9A1F-BF5ADDB2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20388-C201-497D-8592-3CAF0A66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DC928-80C3-45B0-81BB-E264459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953B0-4479-4EC3-BD66-1FF176EB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B1D67-F597-49DA-AA3D-73171A32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92EA-5FDE-4E1E-A672-187C180A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DE17C-8F98-4129-BA2E-9FE02BA6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175-3A73-409F-B4E5-C369EF5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4045D-15BF-48D0-AF9F-AB8494D3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3DBA-EEC9-47E6-B298-9ED3A624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C6FB1-8B67-4692-B803-F14D2C1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200B6-9444-4313-8BAE-49C35B45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CB87C-BBE4-45EF-A927-42629B39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30E7D-97D7-411C-A8B7-3D602855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55FA1-A1B6-4CD1-B57C-19F84C39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5A239-6A37-4585-B77A-294B317C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4D7B-CEF1-460A-A3F7-E7E00F4E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22AED-810F-428C-B931-5E7E047F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99A-0FBE-4BE2-B8CC-B62C5695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E1CC-09B2-4C95-A616-28E8F16E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9425F-D35F-4768-B326-95B94E0B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02BBD-EB25-4892-8687-8888B12A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961-0C73-4C9E-BC1D-A740699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74F-CDEA-4DC3-88A1-4540B93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2D5-2B31-4688-B85C-3A2FF1AE480D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87D0-C033-4154-9F27-6027374C726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9DA4-FFB4-4CD6-8061-BE70ABBF75F6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E75E-1B3F-45C8-B6AE-4BD2149AB366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0359-5F1D-45BD-B5B9-52F7CB1E2E07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E951-4964-40AD-9C76-6983311467F4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Francisc</cp:lastModifiedBy>
  <dcterms:modified xsi:type="dcterms:W3CDTF">2010-10-08T14:22:46Z</dcterms:modified>
  <cp:revision>14</cp:revision>
  <dc:subject/>
  <dc:title>Slide 1</dc:title>
</cp:coreProperties>
</file>