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4.jpeg" ContentType="image/jpeg"/>
  <Override PartName="/ppt/media/image22.png" ContentType="image/png"/>
  <Override PartName="/ppt/media/image20.jpeg" ContentType="image/jpeg"/>
  <Override PartName="/ppt/media/image19.png" ContentType="image/png"/>
  <Override PartName="/ppt/media/image21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1.png" ContentType="image/png"/>
  <Override PartName="/ppt/media/image12.jpeg" ContentType="image/jpeg"/>
  <Override PartName="/ppt/media/image37.jpeg" ContentType="image/jpeg"/>
  <Override PartName="/ppt/media/image23.png" ContentType="image/png"/>
  <Override PartName="/ppt/media/image13.jpeg" ContentType="image/jpeg"/>
  <Override PartName="/ppt/media/image40.jpeg" ContentType="image/jpeg"/>
  <Override PartName="/ppt/media/image30.jpeg" ContentType="image/jpeg"/>
  <Override PartName="/ppt/media/image31.png" ContentType="image/png"/>
  <Override PartName="/ppt/media/image36.jpeg" ContentType="image/jpeg"/>
  <Override PartName="/ppt/media/image39.png" ContentType="image/png"/>
  <Override PartName="/ppt/media/image41.png" ContentType="image/png"/>
  <Override PartName="/ppt/media/image9.gif" ContentType="image/gif"/>
  <Override PartName="/ppt/media/image34.jpeg" ContentType="image/jpeg"/>
  <Override PartName="/ppt/media/image7.png" ContentType="image/png"/>
  <Override PartName="/ppt/media/image38.png" ContentType="image/png"/>
  <Override PartName="/ppt/media/image8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14.png" ContentType="image/png"/>
  <Override PartName="/ppt/media/image15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7E16-7736-44A5-BB1E-509F66D8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F8BB-836F-4211-B1F1-F9E055C99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6175-8D9F-4552-BDDF-E6BAC77A8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AFE-3EFC-49AF-BDB1-F3E7492E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DF41-57CC-454D-BD48-0B02EC6E3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8D4C8-A453-4BE4-88B5-9732AC916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85B4-6819-4C02-9F0B-F3D553BEE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19AD6-25AF-42A1-AA79-5FAFA16D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039A-914E-4542-8C7F-1A9F70804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25EE4-5A36-4E05-A899-A63B020A4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59419-B95B-4412-8DC2-42E30B672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A718-8331-480C-8727-44C7F7BC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F612-4147-44F7-80DF-5A909F60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60941-C6FB-449B-A169-1C7ECA55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9737-D4D6-4595-80B5-1E3090D6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177D-0531-4F7A-95D6-AF23AF55B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4346-52D2-4D52-B556-46378197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43C8F-2AB3-4280-90FC-93C0BF75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E0036-CD52-42F4-B17B-ED0FD7C2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88B11-5A62-40D1-AAB9-975BAABD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991E10-0BC2-4A01-AA74-DA9FDDC4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1D54C-B730-49D7-BA5A-022ABD49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4D23-3447-4D58-9FA1-88593B13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0EADB9-9380-4386-B4B2-36DC33CD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0BCF6-BF2E-488F-B828-9836B48D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31BF94-3CF7-4202-9412-E218F3F1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C57BC-976A-456E-9147-D741F446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2505D-4135-4312-A836-94A17042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F6E63-7B40-4A22-91EB-D725A6F5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BFA8D-53E1-4A70-BD9C-AADCB77A2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AA621-CF38-477E-81EE-33FEEC59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AEF69-2FDA-45B2-9787-CC23759B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0AF38-A46D-4494-B6D6-6046E476A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7A09-2DEB-4801-9FBC-E0DDEA74A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82FBF-2338-48B3-8D77-B27F0007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CAA62-66B2-42F1-8A21-858A7757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B62FE-7A11-4337-A82E-9FEC123FE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7313B-EB45-4838-8BD3-628431AB2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BDE33-BD54-4DE4-94FA-CD3522DE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AAF68-BF10-4711-95F7-ED1EF20D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0A47B-2DA5-4DEC-A794-1B3EA643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D679B-BC66-4C17-A047-38EAD1561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FF7B4-0D0B-461D-BD31-BD18DA4D9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E0E680-0B7B-44EF-8162-58D260801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38BE-5EC8-4581-A9E9-99FF83842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84B1D-FED9-41DA-8C8E-20D3AEF25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A5956-2209-4745-9F9B-7193E66F4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47798A-BB49-4FA9-B5F4-30AFD32D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54B94-CE8C-4770-97C4-2E1687D6E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87C790-B9F5-4FA6-9E82-75D1FC9D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6BE3D-50BC-4307-BEB4-243857A5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465D3-A577-4A9F-AE1A-798C1604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CAC42-ECB0-41B1-9346-EBC27FD1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F85BE5-58C8-4F6D-8BD2-3595B3C9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690F1-6A9F-478A-99C6-000D0457E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C74A-B59F-4C99-B8BB-C3FC2368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63B9F-1FA1-418F-8925-408DDE4FF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F08D1-9CAD-47A4-97FB-186613622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2A37E-9C36-4881-9B20-F5FACE8A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97197-AAA0-4644-81A0-85CDFDDA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36C15A-584C-436F-AADA-EFB4B7F1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562A6-FD26-421A-8F57-C2A67901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F4504-60E1-4734-8F1E-B05D006F6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C7DD6-5107-4D8E-9376-D315DAFA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DC92D-4DFA-45D9-B19B-79B09220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1D2DA-1E36-4AA3-A87F-A339D985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ED41-274D-43CE-83CA-59C4524D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FEFA52-3FFF-499B-AAF2-A5B2DF8D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F66B0D-F0C3-4252-AE31-6D8E0DBD7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208A2-3A84-41B0-AAEC-418A3A05E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347B-89FF-49CB-AA4C-A42C6A07D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457-8C78-440F-8FC7-61BA39693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FAC4A-5BA9-48C6-8384-649408254234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BC107-FF28-459B-ADB6-A21C747341AC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D5472-958C-49BA-8D4D-8CA1152146E1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2DBF-D8F8-4C19-821D-99170941A20F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A1CE-0435-4CAA-B05E-F38D53AF0037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221" name="Rectangle 8" descr=""/>
            <p:cNvPicPr/>
            <p:nvPr/>
          </p:nvPicPr>
          <p:blipFill>
            <a:blip r:embed="rId3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68007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68007f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68007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6666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8201-6A0A-45C6-B43F-9657DD4FDF3C}" type="slidenum">
              <a:rPr b="0" lang="en-US" sz="1100" spc="-1" strike="noStrike">
                <a:solidFill>
                  <a:srgbClr val="666666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2352600" cy="1943280"/>
          </a:xfrm>
          <a:prstGeom prst="rect">
            <a:avLst/>
          </a:prstGeom>
          <a:ln w="0">
            <a:noFill/>
          </a:ln>
        </p:spPr>
      </p:pic>
      <p:pic>
        <p:nvPicPr>
          <p:cNvPr id="265" name="Rectangle 3" descr=""/>
          <p:cNvPicPr/>
          <p:nvPr/>
        </p:nvPicPr>
        <p:blipFill>
          <a:blip r:embed="rId2"/>
          <a:stretch/>
        </p:blipFill>
        <p:spPr>
          <a:xfrm>
            <a:off x="858960" y="182520"/>
            <a:ext cx="8613720" cy="470700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4"/>
          <p:cNvSpPr/>
          <p:nvPr/>
        </p:nvSpPr>
        <p:spPr>
          <a:xfrm>
            <a:off x="2195640" y="0"/>
            <a:ext cx="4572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0" y="4429080"/>
            <a:ext cx="4714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X. B. os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. Csoport: Boda Timea Kl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di Em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yom Balaz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th P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ncze Adina M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6" descr="SANY5403.JPG"/>
          <p:cNvPicPr/>
          <p:nvPr/>
        </p:nvPicPr>
        <p:blipFill>
          <a:blip r:embed="rId3"/>
          <a:stretch/>
        </p:blipFill>
        <p:spPr>
          <a:xfrm>
            <a:off x="3714840" y="2714760"/>
            <a:ext cx="5143320" cy="2857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A HA függvénnyel feltételes vizsgálatok hajthatók végre értékeken és képleteken.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000" spc="-1" strike="noStrike">
                <a:solidFill>
                  <a:srgbClr val="000000"/>
                </a:solidFill>
                <a:latin typeface="Trebuchet MS"/>
              </a:rPr>
              <a:t>=HA(feltétel; ha igaz; ha hamis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3" name="Picture 5" descr="Happy Pencil"/>
          <p:cNvPicPr/>
          <p:nvPr/>
        </p:nvPicPr>
        <p:blipFill>
          <a:blip r:embed="rId2"/>
          <a:stretch/>
        </p:blipFill>
        <p:spPr>
          <a:xfrm>
            <a:off x="7429680" y="0"/>
            <a:ext cx="171432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5" descr="Smiling Pencil"/>
          <p:cNvPicPr/>
          <p:nvPr/>
        </p:nvPicPr>
        <p:blipFill>
          <a:blip r:embed="rId1"/>
          <a:stretch/>
        </p:blipFill>
        <p:spPr>
          <a:xfrm>
            <a:off x="6215040" y="3286080"/>
            <a:ext cx="2928960" cy="3571920"/>
          </a:xfrm>
          <a:prstGeom prst="rect">
            <a:avLst/>
          </a:prstGeom>
          <a:ln w="0">
            <a:noFill/>
          </a:ln>
        </p:spPr>
      </p:pic>
      <p:pic>
        <p:nvPicPr>
          <p:cNvPr id="305" name="Rectangle 2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Az </a:t>
            </a: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ÉS</a:t>
            </a: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 függvény egyik leggyakoribb szerepe más, logikai vizsgálatokat végrehajtó függvények hasznosságának kiterjesztése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Logikai1, logikai2...:</a:t>
            </a: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     1-30 vizsgálandó feltétel, amelyek IGAZ vagy HAMIS értéket vehetnek fel.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9" name="Picture 5" descr="Smiling Pencil"/>
          <p:cNvPicPr/>
          <p:nvPr/>
        </p:nvPicPr>
        <p:blipFill>
          <a:blip r:embed="rId2"/>
          <a:stretch/>
        </p:blipFill>
        <p:spPr>
          <a:xfrm>
            <a:off x="6072120" y="0"/>
            <a:ext cx="3071880" cy="35352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SZUMHA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függvénnyel összeadhatja azokat az értékeket egy </a:t>
            </a: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tartományban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, amelyek megfelelnek a megadott feltételeknek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2" name="Picture 5" descr="Smiling Pencil"/>
          <p:cNvPicPr/>
          <p:nvPr/>
        </p:nvPicPr>
        <p:blipFill>
          <a:blip r:embed="rId2"/>
          <a:stretch/>
        </p:blipFill>
        <p:spPr>
          <a:xfrm>
            <a:off x="6111720" y="3500280"/>
            <a:ext cx="3032280" cy="33577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 </a:t>
            </a:r>
            <a:r>
              <a:rPr b="0" i="1" lang="en-US" sz="2600" spc="-1" strike="noStrike">
                <a:solidFill>
                  <a:srgbClr val="000000"/>
                </a:solidFill>
                <a:latin typeface="Trebuchet MS"/>
              </a:rPr>
              <a:t>kifejezés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helyőrző egy </a:t>
            </a:r>
            <a:r>
              <a:rPr b="1" lang="en-US" sz="2600" spc="-1" strike="noStrike">
                <a:solidFill>
                  <a:srgbClr val="000000"/>
                </a:solidFill>
                <a:latin typeface="Trebuchet MS"/>
              </a:rPr>
              <a:t>karakterlánc-kifejezést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jelöl, amely azonosítja a megszámlálni kívánt értékeket tartalmazó mezőt, vagy pedig olyan kifejezés helyett áll, amely a mezőben szereplő adatokkal végez számításokat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5" name="Picture 7" descr="Pencil Smiling"/>
          <p:cNvPicPr/>
          <p:nvPr/>
        </p:nvPicPr>
        <p:blipFill>
          <a:blip r:embed="rId2"/>
          <a:stretch/>
        </p:blipFill>
        <p:spPr>
          <a:xfrm>
            <a:off x="7215120" y="1222200"/>
            <a:ext cx="1928880" cy="56358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Rectangle 2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gy szám pozitív négyzetgyökét adja meg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8" name="Picture 5" descr="Smiling Red Pencil Isolated On A White Background"/>
          <p:cNvPicPr/>
          <p:nvPr/>
        </p:nvPicPr>
        <p:blipFill>
          <a:blip r:embed="rId2"/>
          <a:stretch/>
        </p:blipFill>
        <p:spPr>
          <a:xfrm>
            <a:off x="3071880" y="2571840"/>
            <a:ext cx="6072120" cy="4286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5" descr="http://www.dreamstime.com/smiling-pencil-thumb3319008.jpg"/>
          <p:cNvPicPr/>
          <p:nvPr/>
        </p:nvPicPr>
        <p:blipFill>
          <a:blip r:embed="rId1"/>
          <a:stretch/>
        </p:blipFill>
        <p:spPr>
          <a:xfrm>
            <a:off x="6537240" y="0"/>
            <a:ext cx="2606760" cy="3000240"/>
          </a:xfrm>
          <a:prstGeom prst="rect">
            <a:avLst/>
          </a:prstGeom>
          <a:ln w="0">
            <a:noFill/>
          </a:ln>
        </p:spPr>
      </p:pic>
      <p:pic>
        <p:nvPicPr>
          <p:cNvPr id="320" name="Rectangle 2" descr=""/>
          <p:cNvPicPr/>
          <p:nvPr/>
        </p:nvPicPr>
        <p:blipFill>
          <a:blip r:embed="rId2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 két függvény becslést ad egy, a lekérdezés megadott mezőjében található értékhalmazzal jelölt sokaság vagy mintasokaság varianciájára (szórásnégyzetére)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„szám” négyzetgyökét számítja ki. A szám tetszőleges nem negatív érték lehet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4" name="Picture 2" descr="http://t1.gstatic.com/images?q=tbn:7JdVikQmok9eZM:s"/>
          <p:cNvPicPr/>
          <p:nvPr/>
        </p:nvPicPr>
        <p:blipFill>
          <a:blip r:embed="rId2"/>
          <a:stretch/>
        </p:blipFill>
        <p:spPr>
          <a:xfrm>
            <a:off x="0" y="4227480"/>
            <a:ext cx="1876320" cy="263052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Rectangle 2" descr=""/>
          <p:cNvPicPr/>
          <p:nvPr/>
        </p:nvPicPr>
        <p:blipFill>
          <a:blip r:embed="rId1"/>
          <a:stretch/>
        </p:blipFill>
        <p:spPr>
          <a:xfrm>
            <a:off x="-49320" y="85680"/>
            <a:ext cx="7755120" cy="13827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informatika.gtportal.eu/index.php?f0=tablaz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ttp://clasa10-gasparedit.wikispaces.com/Material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K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épe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: http://www.dreamstime.com/stock-photography-happy-boy-with-pencil-watercol-image5156102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Titlu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z Exel 2007 programot arra fejlesztették ki, hogy számitásokat készitsünk benne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számitasok létrehozása két  formája létezik: képlet és függvény használatá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Képlettet akkor kell használnunk, ha a feladathoz nincs beépitett fügvény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 a programba épitett számoló egységek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1" name="Picture 2" descr="http://www.frontiernet.net/~mblow/images/writerworkshop/pencil%20funny.gif"/>
          <p:cNvPicPr/>
          <p:nvPr/>
        </p:nvPicPr>
        <p:blipFill>
          <a:blip r:embed="rId2"/>
          <a:stretch/>
        </p:blipFill>
        <p:spPr>
          <a:xfrm>
            <a:off x="7572240" y="3071880"/>
            <a:ext cx="1571760" cy="3786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http://cdn.mgsrvr.com/funnies/pencil_draw_lg_nwm.gif"/>
          <p:cNvPicPr/>
          <p:nvPr/>
        </p:nvPicPr>
        <p:blipFill>
          <a:blip r:embed="rId1"/>
          <a:stretch/>
        </p:blipFill>
        <p:spPr>
          <a:xfrm>
            <a:off x="5421240" y="0"/>
            <a:ext cx="3722760" cy="6858000"/>
          </a:xfrm>
          <a:prstGeom prst="rect">
            <a:avLst/>
          </a:prstGeom>
          <a:ln w="0">
            <a:noFill/>
          </a:ln>
        </p:spPr>
      </p:pic>
      <p:pic>
        <p:nvPicPr>
          <p:cNvPr id="273" name="Titlu 1" descr=""/>
          <p:cNvPicPr/>
          <p:nvPr/>
        </p:nvPicPr>
        <p:blipFill>
          <a:blip r:embed="rId2"/>
          <a:stretch/>
        </p:blipFill>
        <p:spPr>
          <a:xfrm>
            <a:off x="285840" y="506520"/>
            <a:ext cx="7462800" cy="22129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500040" y="299988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Nem szükséges külön elvégezni minden számolást hanem meg lehet sokszorozni az eredményt a képletek másolásával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2" descr="http://www.frontiernet.net/~mblow/images/writerworkshop/bookguy.gif"/>
          <p:cNvPicPr/>
          <p:nvPr/>
        </p:nvPicPr>
        <p:blipFill>
          <a:blip r:embed="rId3"/>
          <a:stretch/>
        </p:blipFill>
        <p:spPr>
          <a:xfrm>
            <a:off x="0" y="4786200"/>
            <a:ext cx="2071800" cy="20718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Három tipusú cellahivatkozás ismert: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Abszolút hivatkoz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Relativív hivatkoz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000000"/>
                </a:solidFill>
                <a:latin typeface="Trebuchet MS"/>
              </a:rPr>
              <a:t>- Vegyes hivatkoás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Picture 2" descr="http://www.frontiernet.net/~mblow/images/homepage/PencilEraser.jpg"/>
          <p:cNvPicPr/>
          <p:nvPr/>
        </p:nvPicPr>
        <p:blipFill>
          <a:blip r:embed="rId1"/>
          <a:stretch/>
        </p:blipFill>
        <p:spPr>
          <a:xfrm>
            <a:off x="0" y="4143240"/>
            <a:ext cx="2502000" cy="271476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4" descr="http://image.shutterstock.com/display_pic_with_logo/484729/484729,1255252969,2/stock-vector-book-with-pencil-38627632.jpg"/>
          <p:cNvPicPr/>
          <p:nvPr/>
        </p:nvPicPr>
        <p:blipFill>
          <a:blip r:embed="rId2"/>
          <a:stretch/>
        </p:blipFill>
        <p:spPr>
          <a:xfrm>
            <a:off x="7286760" y="3143160"/>
            <a:ext cx="2000160" cy="3714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Rectangle 2" descr=""/>
          <p:cNvPicPr/>
          <p:nvPr/>
        </p:nvPicPr>
        <p:blipFill>
          <a:blip r:embed="rId1"/>
          <a:stretch/>
        </p:blipFill>
        <p:spPr>
          <a:xfrm>
            <a:off x="225360" y="231840"/>
            <a:ext cx="7480440" cy="1236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leggyakrabban használt függvények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Matematikai függvények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Statiszt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Log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Dátum és idő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Trigonometri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Informatika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Pénzügyi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függvénye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1" name="Picture 5" descr="http://images.clipartof.com/thumbnails/223883-Royalty-Free-RF-Clipart-Illustration-Of-A-Funny-Moodie-Character-Holding-A-Pencil-By-Note-Paper.jpg"/>
          <p:cNvPicPr/>
          <p:nvPr/>
        </p:nvPicPr>
        <p:blipFill>
          <a:blip r:embed="rId2"/>
          <a:stretch/>
        </p:blipFill>
        <p:spPr>
          <a:xfrm>
            <a:off x="7000920" y="3286080"/>
            <a:ext cx="2143080" cy="357192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268200" y="-225360"/>
            <a:ext cx="8467920" cy="288288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71680" y="3143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 számadatokkal kitöltött celláinak összegét számolja ki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9"/>
              <p:cNvSpPr txBox="1"/>
              <p:nvPr/>
            </p:nvSpPr>
            <p:spPr>
              <a:xfrm>
                <a:off x="4929120" y="4929120"/>
                <a:ext cx="403380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szum=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+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214200" y="2357280"/>
            <a:ext cx="8686800" cy="14925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Rectangle 5" descr=""/>
          <p:cNvPicPr/>
          <p:nvPr/>
        </p:nvPicPr>
        <p:blipFill>
          <a:blip r:embed="rId1"/>
          <a:stretch/>
        </p:blipFill>
        <p:spPr>
          <a:xfrm>
            <a:off x="85680" y="317520"/>
            <a:ext cx="7620120" cy="115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7" name="Object 8"/>
          <p:cNvGraphicFramePr/>
          <p:nvPr/>
        </p:nvGraphicFramePr>
        <p:xfrm>
          <a:off x="1258920" y="1628640"/>
          <a:ext cx="7883640" cy="153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8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628640"/>
                    <a:ext cx="788364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/>
          </p:nvPr>
        </p:nvSpPr>
        <p:spPr>
          <a:xfrm>
            <a:off x="0" y="37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Trebuchet MS"/>
              </a:rPr>
              <a:t>A tartományban szereplő legnagyobb értéket adja eredményü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1" name="Picture 13" descr=""/>
          <p:cNvPicPr/>
          <p:nvPr/>
        </p:nvPicPr>
        <p:blipFill>
          <a:blip r:embed="rId4"/>
          <a:stretch/>
        </p:blipFill>
        <p:spPr>
          <a:xfrm>
            <a:off x="5715000" y="3533760"/>
            <a:ext cx="3429000" cy="332424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5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 txBox="1"/>
          <p:nvPr/>
        </p:nvSpPr>
        <p:spPr>
          <a:xfrm>
            <a:off x="684360" y="321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ban szereplő legkisebb értéket adja eredményül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5" name="Picture 8" descr=""/>
          <p:cNvPicPr/>
          <p:nvPr/>
        </p:nvPicPr>
        <p:blipFill>
          <a:blip r:embed="rId2"/>
          <a:stretch/>
        </p:blipFill>
        <p:spPr>
          <a:xfrm>
            <a:off x="0" y="1341360"/>
            <a:ext cx="8893080" cy="18874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1" descr=""/>
          <p:cNvPicPr/>
          <p:nvPr/>
        </p:nvPicPr>
        <p:blipFill>
          <a:blip r:embed="rId3"/>
          <a:stretch/>
        </p:blipFill>
        <p:spPr>
          <a:xfrm>
            <a:off x="4857840" y="3317760"/>
            <a:ext cx="4286160" cy="354024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Rectangle 5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8" name="Object 7"/>
              <p:cNvSpPr txBox="1"/>
              <p:nvPr/>
            </p:nvSpPr>
            <p:spPr>
              <a:xfrm>
                <a:off x="928800" y="4429080"/>
                <a:ext cx="4037040" cy="14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átlag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 txBox="1"/>
          <p:nvPr/>
        </p:nvSpPr>
        <p:spPr>
          <a:xfrm>
            <a:off x="285480" y="178596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666666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rebuchet MS"/>
              </a:rPr>
              <a:t>A tartomány számadatokkal kitöltött celláinak átlagát számolja ki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0" name="Picture 12" descr="Happy Boy With Pencil-watercol"/>
          <p:cNvPicPr/>
          <p:nvPr/>
        </p:nvPicPr>
        <p:blipFill>
          <a:blip r:embed="rId2"/>
          <a:stretch/>
        </p:blipFill>
        <p:spPr>
          <a:xfrm>
            <a:off x="5334120" y="0"/>
            <a:ext cx="3809880" cy="38386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8T11:30:10Z</dcterms:created>
  <dc:creator>Elev</dc:creator>
  <dc:description/>
  <dc:language>en-US</dc:language>
  <cp:lastModifiedBy>Francisc</cp:lastModifiedBy>
  <dcterms:modified xsi:type="dcterms:W3CDTF">2010-10-08T14:22:46Z</dcterms:modified>
  <cp:revision>14</cp:revision>
  <dc:subject/>
  <dc:title>Slide 1</dc:title>
</cp:coreProperties>
</file>