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gif" ContentType="image/gif"/>
  <Override PartName="/ppt/media/image2.wmf" ContentType="image/x-wmf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D20B8-EDA3-4E7E-B7CD-6AF5C54AD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8123-610A-47AF-B160-22782288E7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96D07-6215-48FB-9203-F4ED6C2CE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BC6F-7C37-4466-9CCB-A879C1BF6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537DC-F577-45FC-9D85-9C617EB564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91F9-40A9-4084-BDCE-D07D199464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95DD5-1CCE-4080-8954-073ED3A90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B14A-F34D-45CF-A4CB-C2C6B8BA41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325A-3E2C-4FFC-BD1F-47F054AD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E1B25-8E09-4728-AF49-5931359CB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EFB52-5BEF-4E26-A938-A88A2D20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BB2-65C4-4B55-A8D5-1E011C44D5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o-RO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6840-BA93-4F87-B5F4-3E56CCE4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727-B263-4CF4-A046-F3853C3A9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CBF8-EB2E-479A-B7DF-DC2BB3156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5D0F-6826-4EC7-BCA3-7020144B9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C7384-8139-47BD-96AF-17B06C210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F60D-AEC4-419D-A41B-A7D58DA5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3E2D-A3A3-4B3F-829C-E75E2475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55DD-7D84-4157-9D5F-BFAD8E27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E99E8-2F84-40B4-86B6-2974F5AC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10F4-4456-46DE-B58B-FA4973FC8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F5C7-046A-402A-B817-79BF9A91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73A7-18D5-409C-BB21-4BCC9B4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20626-DA99-44C7-AD0D-D3786938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27AA-CA6A-48BB-926E-9B67EA3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51028-212D-4DBF-A5BA-333EFE82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9FE1C-81A3-458F-9A08-1EE0C5AA5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DBC62-5C13-4016-9A30-FD3369688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6A40A0-736D-41CE-82EF-478188112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8FB5AF-20EE-48DB-BDB1-BA151267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4AAD0A-8BA3-4546-9A2C-23E1CA7DC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7DAC35-E071-43EA-81F7-111C4E08A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2161D1-9254-42CF-8D3A-B6778410B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27D6-C013-4A8A-A262-C5E68F482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1B3503-B6D0-42F4-9942-B8166512C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F9509B-B855-4B5E-B2D9-90F51B145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751834-3EA9-4A4C-B701-D99DC93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506168-924D-4D91-BF40-46F2BD27D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31D811-271E-4B83-B2FE-5D6EF4FA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BA1F76-1EA6-4901-B8CF-1343BECF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2F7D4E-BC8A-4BD6-96CC-D05E6244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608C7-3F21-47F1-BF61-B1A4118FF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C71D86-5DE0-457E-A753-5FC8A3E8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25F1-DFAC-4B7B-A40F-4B44E72CC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A568-CDDD-4647-A2B7-FF09D756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AA846-D961-4BF7-8688-6A2C2C4DB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EE566-91C1-4945-ACD3-9E393F6E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FAD15-DD9A-4433-92ED-6BA5909FF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D382E-06AC-4BB3-B95D-3A7456CD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A6997-AFDE-4106-A3D5-E416D302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CDC5F5-7CED-4636-848E-57AEC287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69E36F-F784-4492-AF10-633AE4C27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8DF28F-3FEF-423C-A612-825AAF01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1F50F-5CA5-4EE6-A6DB-0E236167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BEE109-6286-4EB1-BC39-9C5F84F58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6728-9205-4830-84D9-9AED4141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3DBCB5-1CED-4AC0-A8C1-0CA791378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E1F984-DAAE-42A4-9DBF-6C0C98CF8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205B9-FFA1-440C-8AF4-E311C5E63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4CDCB5-DC2F-4EFC-93DC-49F6C6FBE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598CED-8949-422B-9912-A284C1D8B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7EA540-8158-4005-A8F7-CA9BF3F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6A91E3-2B5E-451F-B968-F1ABE8D1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124CCD-E6C0-4CF4-B18D-4EA07815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75F31A-8CC1-4D2D-9EF0-91E778786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C376B-40DF-4B03-A66B-FF363BCF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E61D-4A56-45DE-B607-4B549F960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19297C-9E91-4D84-8B3A-122449F31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5C6D1D-4E73-4C10-A83B-EF1EA090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42F52D-7E46-445B-BC3D-B2F8F2F6D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DF44D9A-B767-490A-9CCC-BE7BEA6B2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57A72FB-FD8C-4A02-812C-7F8FBEDD7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8105E4-0168-4C56-B198-6A646028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E291BA-7DB5-4F29-ACEF-D8E5073AC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0B86A7-3F8C-4F17-A490-EC49CC68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E1DB9FC-6E33-495A-BBFC-BBB7AFEA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9FAF6-8CF2-48E7-889A-701ADF3F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C81F-D594-4FAE-AA9B-D12432BA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4AD4C-6D25-455B-85E4-35FF38870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075AC1-B82F-47F3-B61A-239360CF1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DBFF43-A2D2-4040-B735-50F394C4E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09EAC7-2D71-4D5D-A951-DA2A290FB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8762DC-C978-4859-881B-8F740819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C217F2-5390-4D12-B7A8-81E52984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C4D7EB0-E226-45EB-8DE1-63DAF4C61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68961B-CE69-4543-A521-F1CF3026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F74800-D636-4F70-92F1-D23C3D3FF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DFD3B8-43F5-4772-9114-A30B227E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19CD-2D9E-4621-8D40-12C89AFCF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3A27E74-1242-4E5C-931A-F2D01DA9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69CCAA6-B1F7-4540-9699-F7A283B1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91D5BB8-11E2-4A03-AEF3-9EABC3C80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926BAB-CBE1-49C1-A99F-51740D3AF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DA07C5D-73BA-477C-A7ED-4EA7C996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D9A2-BC89-46ED-A4DF-40B57C03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E2BC-5B8A-4C5E-925A-7B031D5E4AD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Conector drept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Dreptunghi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DB9E-A757-4D1C-B542-0EE6EBF5D9D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9D7CC-FD63-4601-B557-63FF5AA9010F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Dreptunghi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reptunghi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Dreptunghi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Dreptunghi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Conector drept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onector drept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onector drept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onector drept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onector drept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Dreptunghi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onector drept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1604-CC69-4062-8ABE-4C28AC5EB7D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drept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onector drept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onector drept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Dreptunghi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onector drept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72DB-B469-45C4-B20F-3A8DFEE2100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Conector drept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Conector drept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Conector drept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reptunghi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Conector drept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82573-23A0-4530-9B77-17D70042637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drept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Conector drept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reptunghi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Conector drept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onector drept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onector drept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B8F8-C543-4B1B-A522-A88127644F6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-scoala.ro/informatica/index.html" TargetMode="External"/><Relationship Id="rId3" Type="http://schemas.openxmlformats.org/officeDocument/2006/relationships/hyperlink" Target="http://office.microsoft.com/ro-ro/excel-help/" TargetMode="External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9144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“</a:t>
            </a: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CUM REZOLV RAPID </a:t>
            </a:r>
            <a:br>
              <a:rPr sz="3000"/>
            </a:br>
            <a:r>
              <a:rPr b="1" lang="it-IT" sz="3000" spc="-1" strike="noStrike">
                <a:solidFill>
                  <a:srgbClr val="575f6d"/>
                </a:solidFill>
                <a:latin typeface="Century Schoolbook"/>
              </a:rPr>
              <a:t>O GRAMADA DE CALCULE?”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600" spc="-1" strike="noStrike">
                <a:solidFill>
                  <a:srgbClr val="575f6d"/>
                </a:solidFill>
                <a:latin typeface="Century Schoolbook"/>
              </a:rPr>
              <a:t>CARE SUNT FUNCŢIILE STATISTICE?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EDIAN – intoarce numarul din mijlocul unui set de numer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E – intoarce valoarea cea mai frecventa dintr-o zona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TDEV – intoarce deviatia standard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VAR – estimeaza variati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rotunjeste un numar la cel mai apropiat intreg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4" descr="j0424792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237280" y="2540160"/>
            <a:ext cx="3754440" cy="40892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LOGIC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AND verifica daca toate argumentele functiei sunt adevar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OR verifica daca cel putin un argument al functiei este adevarat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NOT modifica argumentul intr-o valoare opus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TRUE returneaza valoarea logica TRU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2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FALSE returneaza valoarea logica FALS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RESURSE: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2"/>
              </a:rPr>
              <a:t>http://www.e-scoala.ro/informatica/index.html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 u="sng">
                <a:solidFill>
                  <a:srgbClr val="d2611c"/>
                </a:solidFill>
                <a:uFillTx/>
                <a:latin typeface="Century Schoolbook"/>
                <a:hlinkClick r:id="rId3"/>
              </a:rPr>
              <a:t>http://office.microsoft.com/ro-ro/excel-help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http://informatika.gtportal.eu/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GRUP ȘCOLAR </a:t>
            </a:r>
            <a:r>
              <a:rPr b="0" lang="hu-HU" sz="3200" spc="-1" strike="noStrike">
                <a:solidFill>
                  <a:srgbClr val="575f6d"/>
                </a:solidFill>
                <a:latin typeface="Century Schoolbook"/>
              </a:rPr>
              <a:t>„CSEREY-GOGA” CRASNA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838080" y="1600200"/>
            <a:ext cx="7661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Clas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Grupa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Numele </a:t>
            </a: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şi prenumele</a:t>
            </a: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 membrilor grupei: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rofesor 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îndrumător: Gaspar Edi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45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000" spc="-1" strike="noStrike">
                <a:solidFill>
                  <a:srgbClr val="575f6d"/>
                </a:solidFill>
                <a:latin typeface="Century Schoolbook"/>
              </a:rPr>
              <a:t>CUM SE POT OPTIMIZA CALC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În programul Excel, sunt multe posibilităţi de optimizare a calculelor: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formulelor şi funcţii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Copierea formul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lnSpc>
                <a:spcPct val="15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1800" spc="-1" strike="noStrike">
                <a:solidFill>
                  <a:srgbClr val="000000"/>
                </a:solidFill>
                <a:latin typeface="Century Schoolbook"/>
              </a:rPr>
              <a:t>Utilizarea seriilor de dat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5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100" spc="-1" strike="noStrike">
                <a:solidFill>
                  <a:srgbClr val="000000"/>
                </a:solidFill>
                <a:latin typeface="Century Schoolbook"/>
              </a:rPr>
              <a:t>Programul Excel poate fi considerat un calculator automat, ce poate utiliza o mulţime de funcţii!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3" name="Picture 5" descr="j039573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7635960" y="5105520"/>
            <a:ext cx="1112760" cy="123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j0410587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429000" y="2467080"/>
            <a:ext cx="5181480" cy="436248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2800" spc="-1" strike="noStrike">
                <a:solidFill>
                  <a:srgbClr val="575f6d"/>
                </a:solidFill>
                <a:latin typeface="Century Schoolbook"/>
              </a:rPr>
              <a:t>CUM REZOLV O PROBLEMA CARE PRESUPUNE CALCULE REPETATE ÎN EXCEL ?</a:t>
            </a:r>
            <a:r>
              <a:rPr b="0" lang="en-US" sz="2800" spc="-1" strike="noStrike">
                <a:solidFill>
                  <a:srgbClr val="575f6d"/>
                </a:solidFill>
                <a:latin typeface="Century Schoolbook"/>
              </a:rPr>
              <a:t> ?</a:t>
            </a:r>
            <a:endParaRPr b="0" lang="en-US" sz="28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o-RO" sz="3200" spc="-1" strike="noStrike">
                <a:solidFill>
                  <a:srgbClr val="000000"/>
                </a:solidFill>
                <a:latin typeface="Century Schoolbook"/>
              </a:rPr>
              <a:t>Nu este necesară efectuarea repetată a calculelor, pentru că se pot “multiplica” rezultatele, prin copierea formulelor</a:t>
            </a:r>
            <a:r>
              <a:rPr b="0" i="1" lang="ro-RO" sz="24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POT REFERI CELULE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entury Schoolbook"/>
              </a:rPr>
              <a:t>Exist</a:t>
            </a: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ă trei tipuri de referințe: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absolu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relativ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200000"/>
              </a:lnSpc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100" spc="-1" strike="noStrike">
                <a:solidFill>
                  <a:srgbClr val="000000"/>
                </a:solidFill>
                <a:latin typeface="Century Schoolbook"/>
              </a:rPr>
              <a:t>Referința mixtă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UM SE SCRIE O FORMULĂ ÎN -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Schoolbook"/>
              </a:rPr>
              <a:t>=nume_functie(argument)</a:t>
            </a:r>
            <a:endParaRPr b="0" lang="en-US" sz="3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rgument: o valoare, adresa celulelor sau a zonei de celule care contin datele care vor fi prelucrate de functi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CATEGORIILE DE FUNCŢII DISPONIBILE ÎN EXCEL?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matema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statist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logic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dată și timp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căut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de informa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Century Schoolbook"/>
              </a:rPr>
              <a:t>Funcții pentru baze de 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575f6d"/>
                </a:solidFill>
                <a:latin typeface="Century Schoolbook"/>
              </a:rPr>
              <a:t>CARE SUNT FUNCŢIILE MATEMATICE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MOD – intoarce restul la o impartir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EXP – ridica numarul “e” la puterea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OWER – ridica un numar la o putere data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I – valoarea lui pi=3,1415926535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QRT – returneaza radacina patra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MIF – aduna argumentele daca este indeplinit un criteriu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ABS – intoarce valoarea absoluta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FACT – intoarce factorialul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INT – </a:t>
            </a: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eturneaza intregul dintr-un numar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ROUND – rotunjeste un numar la un anumit nr de zecimal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entury Schoolbook"/>
              </a:rPr>
              <a:t>LOG10 – intoarce logaritmul in baza 10 a unui numar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IGN – returneaza semnul argumentulu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575f6d"/>
                </a:solidFill>
                <a:latin typeface="Century Schoolbook"/>
              </a:rPr>
              <a:t>CARE SUNT FUNCŢIILE UZUALE?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 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SUM – returneaza suma</a:t>
            </a: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SUM(zona de celule referita 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PRODUCT – returneaza produsul argumentelor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PROD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entury Schoolbook"/>
              </a:rPr>
              <a:t>AVERAGE – media aritmetic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Average(zona de celule referita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TODAY returneaza data curenta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  verifica indeplinirea unei conditii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Schoolbook"/>
              </a:rPr>
              <a:t>IF(conditie;valoare pentru conditie=True; valoare pentru conditie = FALSE)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0-09-29T05:58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