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4281-2B51-4CDC-8CDF-D3E37DB0F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EABF-508B-4698-B515-2DC7630CE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5C5A-60B3-44FB-8A4C-AA1AE264C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7525-BB6D-4030-ADD9-228A20602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D721-D829-46B6-9785-CA584EF86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AF11-1B9F-43FE-9B0E-67D19EECA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8339-9A0D-4CFB-A830-4FC6C6215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7569-0B84-4A8E-B8A3-81D71095B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1664-F150-4CB6-A289-687189134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38DA-A41E-4070-B333-656956D27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1999-646A-4F61-8CD5-77FEC12CA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946D-C82D-4D3D-AEBD-C83EC5500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6E4C-0200-4FD9-B204-1E670BA2D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350F-4129-4A38-B37E-BFB2E88B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438E-417C-4386-AAD3-F24F0FBF1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3EC6-47E1-4A7F-8587-1C269B054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C688-D775-4B27-8791-5C2FF7E7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4BD6-064E-4F06-B353-6340FBEB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E24F-4E0C-4E46-A8CA-75E94A7A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FC5A-44F7-4447-8CC6-99D0DFB9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511A-639B-43D7-B97C-F64DE733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277A-06E8-4E2D-8860-E59EB105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C761-1C5D-4791-A66D-55494717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058D-0647-4A49-B8CD-08BB3E32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4E8F-C1C7-45AF-88E6-0CC0C1E0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8BBC-87E9-4D8A-8A88-486A55C6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CB28-8340-4E64-B671-EAC87188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017D-B5EC-45D3-8892-9D58CD1DA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F43D-D286-40FD-A492-2C07BEF23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3CD38F-5D1A-460E-9EF6-04E23A24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7F0B1F-722F-4E92-8A38-54F98257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5651A1-3F8D-4DA9-9DB9-7B7824F8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C81DF6-ADDE-4076-9AB7-2D8C88EB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ADB852-29E4-4104-86F2-91A8ECD8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9483-DA65-4951-B453-7B6B8532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59EF60-FC7D-4B7D-A1CC-6954AA30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B30FE4-73DC-452E-B781-74150EE6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9E5EFD-3E5F-40B1-B588-922AC98B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795C29-E40A-49EC-A492-7E42DDE5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E07C89-CDC0-48F1-A0AD-9B283D4A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16F489-EB4A-4A17-89D3-48BE9183F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A9A3E3-CB93-4E80-BA07-CFC8E6F6E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E6288-9CE3-4033-A72C-738E12671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E43CB-466F-4738-A811-6049B759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522AE-8960-42ED-B052-53A2439E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49AA-1877-4B8B-B308-9548D789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2CCF3-1787-42B7-8CDC-5C3237CB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C9483-4240-460C-B1B8-6A9A628D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3DFD9-A4BC-4321-956C-609620D8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41796-9F4D-4EDF-9306-3EE57A93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A0561-16EE-411D-8F66-51EB13C5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FA332-329F-4707-B2D6-C32C458D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D1A67-A664-4089-87DD-F0244158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FAB56-4E17-4555-999B-D8C84D84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125A3-9DD9-43AD-9270-B7457415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B08D31-281B-467C-B2B4-9738329BD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C3CD-C639-4547-850F-3C8ECE70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2BDAD9-A8A7-4537-A359-A17B7079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848650-7EDD-4FA8-868A-25888F66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A99A7C-202F-4129-8EC9-5CCE982E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617E1A-2A67-44C8-89F0-5881A185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20AF1D-BEB7-4832-BDF3-0E21D1D5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53FD00-AEF5-44D9-9FC5-F0BC96C8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148DB6-D33B-4AAD-BC1C-2338E9E2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534E78-9742-4232-AEDE-3CA15BEB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10C17B-0B79-4158-9510-B7CC1403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64A3AF-35A5-4A0C-973D-D27156BA6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78F9-309F-440A-8E1F-CB265EA0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DF85DA-141E-4B00-9631-1430F1B8C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913E7C-7DED-44EC-A410-C0F5B68BC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513DB2-3B94-4663-A255-5D5CDD4A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C2479A-F308-4293-BF41-AB085028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A61146-364E-4F73-B7EF-81CBF4DA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897218-41FB-4869-AAF3-48C5C587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D7CB22-C259-457B-82E9-A91ACF44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B74D95-ADDA-43DA-8646-22F241FB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233C1A-E50B-494F-AAF3-9451771E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7392E3-0E87-4965-9A0E-74FD2FE3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4784-543F-4887-B975-654856FE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DB215B-25F9-4C14-A836-2E3F073C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0DB9E4-32A6-43B0-86E3-0C9707FB7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489A93-21B7-4EB4-9B30-51FC59C98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A80545-38B2-4C74-8B28-264E01408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B60226-85B1-4BB2-80C3-7AC51E98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053ADD-8D24-4E9E-8315-C026A6DE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5B0873-8769-42A9-80AD-84C9C4D7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5AF7C6-316D-476A-902A-65EC2150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87EE8C-96FF-4D4B-8C25-4EB9CAB5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AE9E08-9AE2-483E-9041-6E273F57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8679-6D53-4E03-81B8-DA3A8F35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566B3C-E9E8-4B03-98AC-D5228068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93FB38-F898-4377-9483-CEF52CE9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C885A7-35FF-4148-A16C-FD4F18AC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3637F5-2441-4E3A-AAD5-0A9844D35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3C7A5A-B0A2-4B1A-90F2-29A922DA0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9EF7-E133-4B8B-BB98-6ECEB083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drep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Conector drep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onector drep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Dreptunghi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Conector drep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9B4B-EC9F-4E38-9E2E-9BFC79FAD18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reptunghi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Dreptunghi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reptunghi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Dreptunghi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ector drept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ector drept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ector drept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onector drept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ector drept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nector drept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reptunghi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DB0A-F5D3-43A9-AC5A-4090F5F7C0C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ector drep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onector drep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ector drep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reptunghi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ector drep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DE2E-89DC-4931-A3A6-F6F1C7F8220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reptunghi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reptunghi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reptunghi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Dreptunghi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ector drept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onector drept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onector drept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onector drept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ector drept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reptunghi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onector drept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EF4E-4F18-4477-888C-0E65088B1ED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drep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onector drep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onector drep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Dreptunghi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onector drep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7745-BE9B-4097-8B2B-863248B8D09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drept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onector drept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onector drept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Conector drept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Dreptunghi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onector drept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EDF7-36D5-42A3-84E7-E2F16195C62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ector drept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Conector drept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Dreptunghi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Conector drept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onector drept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onector drept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7135-4881-4212-9379-2EC1C6FBE35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-scoala.ro/informatica/index.html" TargetMode="External"/><Relationship Id="rId3" Type="http://schemas.openxmlformats.org/officeDocument/2006/relationships/hyperlink" Target="http://office.microsoft.com/ro-ro/excel-help/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2280" y="2362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575f6d"/>
                </a:solidFill>
                <a:latin typeface="Century Schoolbook"/>
              </a:rPr>
              <a:t>“</a:t>
            </a:r>
            <a:r>
              <a:rPr b="1" lang="it-IT" sz="3000" spc="-1" strike="noStrike">
                <a:solidFill>
                  <a:srgbClr val="575f6d"/>
                </a:solidFill>
                <a:latin typeface="Century Schoolbook"/>
              </a:rPr>
              <a:t>CUM REZOLV RAPID </a:t>
            </a:r>
            <a:br>
              <a:rPr sz="3000"/>
            </a:br>
            <a:r>
              <a:rPr b="1" lang="it-IT" sz="3000" spc="-1" strike="noStrike">
                <a:solidFill>
                  <a:srgbClr val="575f6d"/>
                </a:solidFill>
                <a:latin typeface="Century Schoolbook"/>
              </a:rPr>
              <a:t>O GRAMADA DE CALCULE?”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575f6d"/>
                </a:solidFill>
                <a:latin typeface="Century Schoolbook"/>
              </a:rPr>
              <a:t>CARE SUNT FUNCŢIILE STATISTICE?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AVERAGE – media aritmetic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MEDIAN – intoarce numarul din mijlocul unui set de numere dat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MODE – intoarce valoarea cea mai frecventa dintr-o zona de dat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STDEV – intoarce deviatia standard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VAR – estimeaza variati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ABS – intoarce valoarea absoluta a unui numa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FACT – intoarce factorialul unui numa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INT – rotunjeste un numar la cel mai apropiat intreg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LOG10 – intoarce logaritmul in baza 10 a unui numa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4" descr="j0424792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237280" y="2540160"/>
            <a:ext cx="3754440" cy="408924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575f6d"/>
                </a:solidFill>
                <a:latin typeface="Century Schoolbook"/>
              </a:rPr>
              <a:t>CARE SUNT FUNCŢIILE LOGICE?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F  verifica indeplinirea unei conditi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ND verifica daca toate argumentele functiei sunt adevarat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R verifica daca cel putin un argument al functiei este adevar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NOT modifica argumentul intr-o valoare opus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RUE returneaza valoarea logica TRU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ALSE returneaza valoarea logica FALS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ESURSE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ttp://www.e-scoala.ro/informatica/index.html</a:t>
            </a: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http://office.microsoft.com/ro-ro/excel-help/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http://informatika.gtportal.eu/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575f6d"/>
                </a:solidFill>
                <a:latin typeface="Century Schoolbook"/>
              </a:rPr>
              <a:t>GRUP ȘCOLAR </a:t>
            </a:r>
            <a:r>
              <a:rPr b="0" lang="hu-HU" sz="3200" spc="-1" strike="noStrike">
                <a:solidFill>
                  <a:srgbClr val="575f6d"/>
                </a:solidFill>
                <a:latin typeface="Century Schoolbook"/>
              </a:rPr>
              <a:t>„CSEREY-GOGA” CRASNA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38080" y="1600200"/>
            <a:ext cx="766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entury Schoolbook"/>
              </a:rPr>
              <a:t>Clas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rup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Numele </a:t>
            </a:r>
            <a:r>
              <a:rPr b="0" lang="ro-RO" sz="2100" spc="-1" strike="noStrike">
                <a:solidFill>
                  <a:srgbClr val="000000"/>
                </a:solidFill>
                <a:latin typeface="Century Schoolbook"/>
              </a:rPr>
              <a:t>şi prenumele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membrilor grupei: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fesor </a:t>
            </a: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îndrumător: Gaspar Edi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000" spc="-1" strike="noStrike">
                <a:solidFill>
                  <a:srgbClr val="575f6d"/>
                </a:solidFill>
                <a:latin typeface="Century Schoolbook"/>
              </a:rPr>
              <a:t>CUM SE POT OPTIMIZA CALCULELE ÎN EXCEL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000000"/>
                </a:solidFill>
                <a:latin typeface="Century Schoolbook"/>
              </a:rPr>
              <a:t>În programul Excel, sunt multe posibilităţi de optimizare a calculelor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15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entury Schoolbook"/>
              </a:rPr>
              <a:t>Utilizarea formulelor şi funcţiilo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15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entury Schoolbook"/>
              </a:rPr>
              <a:t>Copierea formulelo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15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entury Schoolbook"/>
              </a:rPr>
              <a:t>Utilizarea seriilor de dat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100" spc="-1" strike="noStrike">
                <a:solidFill>
                  <a:srgbClr val="000000"/>
                </a:solidFill>
                <a:latin typeface="Century Schoolbook"/>
              </a:rPr>
              <a:t>Programul Excel poate fi considerat un calculator automat, ce poate utiliza o mulţime de funcţii!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Picture 5" descr="j039573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35960" y="5105520"/>
            <a:ext cx="111276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j041058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429000" y="2467080"/>
            <a:ext cx="5181480" cy="43624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575f6d"/>
                </a:solidFill>
                <a:latin typeface="Century Schoolbook"/>
              </a:rPr>
              <a:t>CUM REZOLV O PROBLEMA CARE PRESUPUNE CALCULE REPETATE ÎN EXCEL ?</a:t>
            </a: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 ?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000000"/>
                </a:solidFill>
                <a:latin typeface="Century Schoolbook"/>
              </a:rPr>
              <a:t>Nu este necesară efectuarea repetată a calculelor, pentru că se pot “multiplica” rezultatele, prin copierea formulelor</a:t>
            </a:r>
            <a:r>
              <a:rPr b="0" i="1" lang="ro-RO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575f6d"/>
                </a:solidFill>
                <a:latin typeface="Century Schoolbook"/>
              </a:rPr>
              <a:t>CUM SE POT REFERI CELULELE ÎN EXCEL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entury Schoolbook"/>
              </a:rPr>
              <a:t>Exist</a:t>
            </a: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ă trei tipuri de referinț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20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entury Schoolbook"/>
              </a:rPr>
              <a:t>Referința absolută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20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entury Schoolbook"/>
              </a:rPr>
              <a:t>Referința relativă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20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entury Schoolbook"/>
              </a:rPr>
              <a:t>Referința mixtă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575f6d"/>
                </a:solidFill>
                <a:latin typeface="Century Schoolbook"/>
              </a:rPr>
              <a:t>CUM SE SCRIE O FORMULĂ ÎN -EXCEL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=nume_functie(argument)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rgument: o valoare, adresa celulelor sau a zonei de celule care contin datele care vor fi prelucrate de functi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575f6d"/>
                </a:solidFill>
                <a:latin typeface="Century Schoolbook"/>
              </a:rPr>
              <a:t>CARE SUNT CATEGORIILE DE FUNCŢII DISPONIBILE ÎN EXCEL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Funcții matemati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Funcții statisti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Funcții logi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Funcții pentru dată și tim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Funcții de căuta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Funcții de informa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Funcții pentru baze de d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575f6d"/>
                </a:solidFill>
                <a:latin typeface="Century Schoolbook"/>
              </a:rPr>
              <a:t>CARE SUNT FUNCŢIILE MATEMATICE?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MOD – intoarce restul la o impartir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EXP – ridica numarul “e” la puterea argumentulu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OWER – ridica un numar la o putere dat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PI – valoarea lui pi=3,1415926535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PRODUCT – returneaza produsul argumentelo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SQRT – returneaza radacina patrata a unui numa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SUM – returneaza suma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argumentelo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UMIF – aduna argumentele daca este indeplinit un criteriu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ABS – intoarce valoarea absoluta a unui numa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FACT – intoarce factorialul unui numa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INT –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turneaza intregul dintr-un numar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OUND – rotunjeste un numar la un anumit nr de zecimal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LOG10 – intoarce logaritmul in baza 10 a unui numa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GN – returneaza semnul argumentulu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575f6d"/>
                </a:solidFill>
                <a:latin typeface="Century Schoolbook"/>
              </a:rPr>
              <a:t>CARE SUNT FUNCŢIILE UZUALE?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entury Schoolbook"/>
              </a:rPr>
              <a:t>SUM – returneaza suma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argumentelor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UM(zona de celule referita 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entury Schoolbook"/>
              </a:rPr>
              <a:t>PRODUCT – returneaza produsul argumentelor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PROD(zona de celule referita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entury Schoolbook"/>
              </a:rPr>
              <a:t>AVERAGE – media aritmetica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Average(zona de celule referita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TODAY returneaza data curenta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IF  verifica indeplinirea unei conditii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IF(conditie;valoare pentru conditie=True; valoare pentru conditie = FALSE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9-29T05:58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