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BA035-5213-4FCB-A607-0D59DF44C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2DC0-8D91-49B9-858D-20289FBF93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460D6-F061-4FF7-A9D9-556738CFA0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D0BD-F34D-4781-AFB2-491F4174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7AC3-7AEA-43CB-B7A8-BAE77B715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9C3D-69BE-4945-A895-63AE00A46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AF3D-9FAE-44FF-BCE8-88A97ED6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FFAF8-8B1E-42F2-8FC0-8C248566F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F75F2-B493-423C-9728-266E4852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E7AC-1AE2-40A0-840B-5D61B4C1DB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4021-D947-4BDB-9B9E-3BB22B636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35EBB-A631-4D6A-8C2B-73920CF2F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263E-C80A-4A27-9D8F-4F2BEA4FC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4457-60B6-4900-B39C-82180FD9D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DDF9-D43A-4D97-8A19-6FBABECB6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1FA7-0B89-4307-BBCF-5CCD65458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183E-D942-40AC-AADE-07F312AA4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C816-C8A3-4E46-BACA-B6993A52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A1B74-F25F-4247-8427-FA656820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3702C-EABB-4129-AD8F-291A604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641BE-009F-47D2-AC2D-86DD7886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8E89-8B45-4526-B86B-49DA1FD18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0283B-272F-4CE8-BE44-6910F89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0B11-F8BE-4165-B61B-9C9C0840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FAB8-05F8-4D41-99FC-6B9D31276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11C4B-F89F-4B2D-B462-3783A12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05654-EB3E-4066-A249-78591611D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DB371-48A8-4DC9-A542-2CB6B0BF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1E1B6-A2E6-48A8-BCF6-F53F09B6D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F50B1-C167-4D29-A995-4EA12F130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C14A30-15D9-465E-8E94-20FFB45D0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1911C1-D56A-45F7-BC31-DBC1947D6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EA9AA-6A16-4BB5-B1D0-4F9520211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22EE0B-9DFF-4492-BCB4-B3B66D01F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CF91-CC7F-4AF2-95D2-81872143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BCFC1F-41E2-4D84-8867-614158AA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5DFB21-D70F-47FF-ACC3-E231245D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DB730E-C377-4485-8C20-03A41B3A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B08B2D-5FA9-4F11-9818-501382BE5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2DB94-D4CE-46D5-8A02-8A7DA5538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5A5C74-5489-4F70-AE65-F0C2E7FA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C70B0-2636-483D-99ED-7520D06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D6928-ECD8-4DB1-848E-CFB95101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1D20B-CA07-4E92-8B96-246FCF40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81EEA-A736-420B-AAA8-ABA40D142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3804-36B3-4855-AF7C-7D4ADA8C1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C56A7-192D-45EF-9FAC-5D0F8F85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9F682-5104-44F7-8A49-E87427912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EBD57-4480-4C0F-8CA3-BCBDA641D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41201D-7609-45F4-A57C-29D67B1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355C6-4DDB-4559-95D7-8E8A69685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5BB29-2BFF-4211-8D9D-FEE764C7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DDE1CB-C589-49BD-A15E-6EAE0F55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DF88F-8DF4-4C0C-9DCF-1A7EABA4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57B17-456C-491B-9B62-05DFEBAFB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F916A9-5898-4B48-89FA-097B7B875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25AB-7FB0-44AF-A545-276656B1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CF3817-F3D4-41C9-B86D-48418CDF2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A1698-AC2B-4A8D-92F9-BAFFBDC34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CA4F030-8610-436B-AF87-4B359358C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F23F11-1C0D-4B8A-9F55-81339D43D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FB56B-26B1-4A64-B72A-E6CB5AA5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1D6916-47C0-4EE5-AFB7-274F231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65CB0-0AC4-4645-8C1F-08B7FB2F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0881BE-E7B8-4752-943F-2B51DB14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5D60E4-F4C5-4FE7-9E01-F4FDB86B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36CB68-5FEB-4E5F-8145-0281F5C4B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C133F-4B83-422E-ADF8-955F7B9D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1AFCB9-3173-4204-849E-43949DCA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D5FCD91-949C-4D4F-873F-04BCF2468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48281A-E897-4937-B2D9-E1DA46086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D7615E-466E-44FA-B840-892113C0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ADFC50-0572-46EF-AB82-9CDF9765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A985D-46BC-4726-BA65-79EC9F91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74C8FF-4CB0-4ADB-A903-12524FC5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8DBA641-6D37-48BC-A279-4C34C3546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905248-A81A-4D47-A8B0-A39D8D42C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88683-CC68-445E-ADF5-DE89239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85A0-C564-458D-BCA3-CFA2DBC7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047DFC-40EF-482E-83A7-2ABAEA22B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3C24E0-E49D-49DF-900A-A221C459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A183E3-CB04-4F4D-AA45-4B877F14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9597D2-E94A-4AB5-A254-710311173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4EFAFA8-C516-4F9E-AAEA-0B6C3D66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510007-5283-4359-AC8D-F4C66F531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B443BF-DA44-495C-B4CF-208B4EB0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0B9813-6C41-43A2-A9CE-B6110640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6882BF-2EAD-4746-A213-F948C18C1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3DD1BDE-B65F-4270-8B37-3924A9E9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C97-AE9B-4417-A50A-B043B3C3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B2C3FB-ECEE-422D-8220-C12BBDCAD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DA171B-4A0E-4F3A-83DA-9AFDD9641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770B16-1C61-405E-9637-33C35ED24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C4DD8B-0CCC-4E01-9FA7-CB1B1241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E3192C-3FD5-4F3B-9CBB-37ADF3F7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203B-F48B-411A-921F-8124968C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D9CA-0BBA-4019-B90E-B4E4AB7145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8BD3-DD8F-45AA-8FF3-E10D8FBAF95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7D3-5312-471B-A71D-EFAA6AE7B9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64EF-D6E1-42C2-A921-3DB3F8A96E8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D5BA5-2A22-4337-A6DA-1586A3B7E9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E68CC-107B-4AC5-9BAD-F532BE80CFF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40DF4-F920-42FB-AD06-88CAD7F80BD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-scoala.ro/informatica/index.html" TargetMode="External"/><Relationship Id="rId3" Type="http://schemas.openxmlformats.org/officeDocument/2006/relationships/hyperlink" Target="http://office.microsoft.com/ro-ro/excel-help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CUM REZOLV RAPID </a:t>
            </a:r>
            <a:br>
              <a:rPr sz="3000"/>
            </a:b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O GRAMADA DE CALCULE?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575f6d"/>
                </a:solidFill>
                <a:latin typeface="Century Schoolbook"/>
              </a:rPr>
              <a:t>CARE SUNT FUNCŢIILE STATISTICE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EDIAN – intoarce numarul din mijlocul unui set de numer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E – intoarce valoarea cea mai frecventa dintr-o zona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TDEV – intoarce deviatia standar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VAR – estimeaza variat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rotunjeste un numar la cel mai apropiat intre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j042479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LOGIC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verifica daca toate argumentele functiei sunt adevar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 verifica daca cel putin un argument al functiei este adevar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T modifica argumentul intr-o valoare opu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UE returneaza valoarea logica TR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LSE returneaza valoarea logica FAL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RS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e-scoala.ro/informatica/index.html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office.microsoft.com/ro-ro/excel-hel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http://informatika.gtportal.eu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GRUP ȘCOLAR </a:t>
            </a:r>
            <a:r>
              <a:rPr b="0" lang="hu-HU" sz="3200" spc="-1" strike="noStrike">
                <a:solidFill>
                  <a:srgbClr val="575f6d"/>
                </a:solidFill>
                <a:latin typeface="Century Schoolbook"/>
              </a:rPr>
              <a:t>„CSEREY-GOGA” CRASN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600200"/>
            <a:ext cx="766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Clas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u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umele </a:t>
            </a: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şi prenume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membrilor grupei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fesor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îndrumător: Gaspar E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000" spc="-1" strike="noStrike">
                <a:solidFill>
                  <a:srgbClr val="575f6d"/>
                </a:solidFill>
                <a:latin typeface="Century Schoolbook"/>
              </a:rPr>
              <a:t>CUM SE POT OPTIMIZA CALC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În programul Excel, sunt multe posibilităţi de optimizare a calculelor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formulelor şi funcţii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Copierea formul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seriilor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entury Schoolbook"/>
              </a:rPr>
              <a:t>Programul Excel poate fi considerat un calculator automat, ce poate utiliza o mulţime de funcţii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j039573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j041058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575f6d"/>
                </a:solidFill>
                <a:latin typeface="Century Schoolbook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entury Schoolbook"/>
              </a:rPr>
              <a:t>Nu este necesară efectuarea repetată a calculelor, pentru că se pot “multiplica” rezultatele, prin copierea formulelor</a:t>
            </a: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POT REFERI CEL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Exist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ă trei tipuri de referinț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absolu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relativ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mix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SCRIE O FORMULĂ ÎN -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=nume_functie(argument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gument: o valoare, adresa celulelor sau a zonei de celule care contin datele care vor fi prelucrate de funct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CATEGORIILE DE FUNCŢII DISPONIBI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matema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statis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log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dată și tim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cău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inform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baze de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CARE SUNT FUNCŢIILE MATEMATICE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 – intoarce restul la o imparti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P – ridica numarul “e” la puterea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WER – ridica un numar la o putere da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I – valoarea lui pi=3,14159265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QRT – returneaza radacina patra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MIF – aduna argumentele daca este indeplinit un criteri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turneaza intregul dintr-un numa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OUND – rotunjeste un numar la un anumit nr de zecima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GN – returneaza semnul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UZUAL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UM(zona de celule referita 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ROD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verage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ODAY returneaza data curent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(conditie;valoare pentru conditie=True; valoare pentru conditie = FALSE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9T05:58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