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0C8A-18F3-4352-9828-A7AFD5E8F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33B6-369B-4772-818A-B1BD6148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5B2-4E30-4C08-9814-3020B449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044-4D6A-4C1A-BF39-4ABA5D2A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823F-EBC4-437D-9832-45CBDD1D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8A7A-36A8-443A-B62A-DE36F34E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FA9-08EB-4E5D-B029-ACCE8942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182-18E3-4CA7-B611-7CB3DB90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3C1-0E88-424F-8252-E9885A9E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B41A-2150-4E42-B6A0-3B50485F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7FD-955C-4A1D-BBF0-4F37B014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6832-8429-445F-B564-9D416DA4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DD9-68E9-460C-983F-403EB69D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AAF-C4C3-4F64-8BCF-415712C6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148-12A4-4FC6-9C3F-2276649A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483-30AB-4731-A51E-BF2D3252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3A48-4FF7-4E59-BFEC-B9FA7A38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592C-13AA-4400-8642-EBB110F2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123B-B843-4553-B91D-CC8CEF8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CF59-C002-4E5D-B0CB-3D55E3D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250-820A-4788-A603-68D0B15D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1BF4-B4A6-4196-AAC7-1324A24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1AD-FFD4-4D21-955B-9D32D0A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F26-53F1-4522-9F32-80154270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B13-0899-475B-90AD-454B96B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E938-3CC6-4273-A973-F62F5639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171-C07F-4435-B757-D8D5BCD0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8BC-EFB5-4E6B-AF81-A5EEC5DC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DF4-2A10-43AF-B487-06E835A2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203B9-84D6-4923-BFBC-1E73F368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9C6EC-86A9-4128-A299-CEBD07A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EAF85-411C-4C7A-933C-01EA49B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594C5-D410-47EC-ADD7-2B19F69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8B41B-843A-4BBD-87DA-CB3D207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A0F-A36D-47F7-90AF-F59A2958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B995-F532-4469-896A-6D251F55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72E77-8401-4983-B342-E16D8E2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81027-381B-4555-A816-FBD036B6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6EB03-F070-4FD6-928E-0144A24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D0F91-F0C5-48F1-ACD1-84762AA6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6A8C8-142B-4EB3-A2FD-744E3AD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03444-8509-43EE-B848-EB5E9713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665E-C212-4E4F-9072-22A41CC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45A3-311D-4DD5-BB42-A13AFE8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B66F9-814B-4AF5-8580-5BD27F4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6EB-141B-4E84-ADC2-27CB02C9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EDC7-3F66-46C7-9763-D99D9A0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C170-CEAC-4B8C-AA4A-CFA1148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0BBE-CEDB-40F9-A001-B7F1195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08E9-EBDF-4191-9008-6053502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0843-F00E-4AD4-8AAE-17212C9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443E-2E81-4E0C-BB5F-4B0F1A3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231A-7F19-412D-81F6-40895D66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990B-B9FA-41E3-B587-B2E32387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B33D-6802-4A3B-986F-8D7763C1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4451F-42FF-4330-988E-19AE0248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CD0-2AF0-4EC8-876F-F1CB2107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603F0-5C2C-4585-BF87-39D5AE29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5591C-220E-4132-B43E-68EED6B9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7DEA2-2854-4B10-8E70-CC45EF47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DAD4E-7560-41DB-857A-B338158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D0B8B-8B1A-4E77-918C-AA6AF3C6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B8F55-4B09-42AC-850E-A1CE1F9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E67B7-1CA8-4EA4-9B04-4F5A559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096EF-7502-4726-8F2B-F4B9FAD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8BC02-6537-4799-890C-E82A3301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359BD-8DE2-4164-989D-82A227CB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867-6E6C-493A-A440-E45E9B9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871A9-4ABC-408F-9679-BC79E641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64D46-B9E9-42C6-84D7-D15DAD29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595357-9FE5-48CF-9669-A4588D81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05EB2-E007-4801-83C0-2307D4E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186F6-D75A-4940-9ECB-E8DF23C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B60BC-5384-4CB1-8CFB-8AEC9A4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AF44A-9EC5-4739-BD26-8D646769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1EAAD-BCDE-45E5-BF19-7C8CA93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AFD85-F627-4CF4-8E02-C8C626E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A0934-A00E-4018-804A-7BA8E171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835-E511-40DD-8300-025A4FC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FDDCC-1F69-4435-8C36-EDAF5997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73BFE-AA96-44CD-BFA0-F106B69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54D70-F9BC-4A0E-AB98-ECBF4B7F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DBE3E-4B3F-4C09-8149-811B563F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ABF96-D7E8-4ECF-829C-33805808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CF23D-4C72-4581-8B66-DD7EBEDF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D3844-8460-4B2D-BB7A-1C034096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D94FA-E437-4549-AA20-C7F38F3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9EEF5-B8F5-4C9B-82DB-2B439F8C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3A8B6-3293-4E02-86A4-66D79CE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05B-0A59-4035-8584-7A6B87B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AAB9B-8553-441A-929C-FAC8535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BB627-A2A4-4ABC-BDFE-C1EDD27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FEBF9-E998-469E-AF00-62F9BC5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7FE8A-7F7E-46A0-BD41-F4AA5E41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A424A-2909-43B8-B566-00CED982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C84-14EF-437F-81EB-AB30359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9110-F24C-477D-8725-60786CC76E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FAB8-C8EE-40B1-8FAE-FCEAC12E3B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E3E-B9C3-47F2-8281-F1A6975A57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97D-FE4A-448D-866C-63F0A2A318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CCC-C780-4F87-A949-15F77EBF29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CE3-5E3B-43CA-A91D-F81163E0F6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6E0A-01F1-4F3E-960B-487040EF6D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-scoala.ro/informatica/index.html" TargetMode="External"/><Relationship Id="rId3" Type="http://schemas.openxmlformats.org/officeDocument/2006/relationships/hyperlink" Target="http://office.microsoft.com/ro-ro/excel-help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CUM REZOLV RAPID </a:t>
            </a:r>
            <a:br>
              <a:rPr sz="3000"/>
            </a:b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O GRAMADA DE CALCULE?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575f6d"/>
                </a:solidFill>
                <a:latin typeface="Century Schoolbook"/>
              </a:rPr>
              <a:t>CARE SUNT FUNCŢIILE STATISTICE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EDIAN – intoarce numarul din mijlocul unui set de numer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E – intoarce valoarea cea mai frecventa dintr-o zona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TDEV – intoarce deviatia standar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VAR – estimeaza variat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rotunjeste un numar la cel mai apropiat intre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42479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LOGIC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verifica daca toate argumentele functiei sunt adevar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 verifica daca cel putin un argument al functiei este adevar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T modifica argumentul intr-o valoare opu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UE returneaza valoarea logica TR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LSE returneaza valoarea logica FAL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RS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e-scoala.ro/informatica/index.html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office.microsoft.com/ro-ro/excel-hel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http://informatika.gtportal.e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GRUP ȘCOLAR </a:t>
            </a:r>
            <a:r>
              <a:rPr b="0" lang="hu-HU" sz="3200" spc="-1" strike="noStrike">
                <a:solidFill>
                  <a:srgbClr val="575f6d"/>
                </a:solidFill>
                <a:latin typeface="Century Schoolbook"/>
              </a:rPr>
              <a:t>„CSEREY-GOGA” CRASN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600200"/>
            <a:ext cx="766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Clas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u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umele </a:t>
            </a: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şi prenume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membrilor grupei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fesor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drumător: Gaspar E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575f6d"/>
                </a:solidFill>
                <a:latin typeface="Century Schoolbook"/>
              </a:rPr>
              <a:t>CUM SE POT OPTIMIZA CALC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În programul Excel, sunt multe posibilităţi de optimizare a calculelo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formulelor şi funcţii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Copierea formul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seriilor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entury Schoolbook"/>
              </a:rPr>
              <a:t>Programul Excel poate fi considerat un calculator automat, ce poate utiliza o mulţime de funcţii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j039573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j041058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575f6d"/>
                </a:solidFill>
                <a:latin typeface="Century Schoolbook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entury Schoolbook"/>
              </a:rPr>
              <a:t>Nu este necesară efectuarea repetată a calculelor, pentru că se pot “multiplica” rezultatele, prin copierea formulelor</a:t>
            </a: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POT REFERI CEL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xist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ă trei tipuri de referinț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absolu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relativ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mix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SCRIE O FORMULĂ ÎN -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=nume_functie(argument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gument: o valoare, adresa celulelor sau a zonei de celule care contin datele care vor fi prelucrate de func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CATEGORIILE DE FUNCŢII DISPONIBI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matema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statis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log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dată și tim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cău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inform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baze de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CARE SUNT FUNCŢIILE MATEMATICE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 – intoarce restul la o imparti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P – ridica numarul “e” la puterea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WER – ridica un numar la o putere da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I – valoarea lui pi=3,1415926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QRT – returneaza radacina patra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MIF – aduna argumentele daca este indeplinit un criteri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turneaza intregul dintr-un numa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OUND – rotunjeste un numar la un anumit nr de zecima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GN – returneaza semnul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UZUAL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UM(zona de celule referita 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OD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DAY returneaza data curen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(conditie;valoare pentru conditie=True; valoare pentru conditie = FALSE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9T05:58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