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97D-21B9-49BA-8E2E-90AE7E24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06A-D049-47D6-ABF4-07FFBCB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78B-9CE9-4139-8CA0-74AF109A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48F-8530-49AB-9110-ABF8CEEB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6ECD-1B3C-4938-97F8-2FC35270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9520-FBDD-4762-BCF9-1405A8E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7F2E-F6C7-4527-93BC-65CEF9CA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2550-779A-4848-9428-460D6ED6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D35D-7AEF-44EC-81E1-B62C403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0F39-CB60-4FD7-9889-81171771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FB32-298E-44A7-8BEC-6FBD1E6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AA9-2B7D-4BFA-8818-267F335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2F29-E6E8-4634-967E-C163FEE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8CE9-3F8E-43F8-A88F-1120CA1B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D43-98A2-4C82-B824-E57CCFCE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D19D-764F-4A00-9240-A1B427FB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608F-E246-4DC9-B6E5-1ED6C0DF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DF3-0736-4535-B684-57C6C6AA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DBE-8CF4-4993-9901-55D4700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785-BA56-4DA0-B8DC-42C0A8C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A94-4368-4FC4-B9F4-055C655B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55D-CAC8-4CDB-8A87-072B58B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630-DC2C-4723-81F0-C79A1587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A2D-A90E-4C4C-9976-85CE5B0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CAB-9D94-4FC1-8FF7-50F429C4CC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0452-469C-4116-A01D-52B8366E5D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66"/>
                </a:solidFill>
                <a:latin typeface="Arial"/>
              </a:rPr>
              <a:t>Care sunt tipurile de functii in Excel 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Cum se scriu formulele in Excel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are sunt formulele aritmetice şi logice pentru adunări, scăderi, înmulţiri şi împărţir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complecteaza automat o serii de date (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utofill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e determina  funcţiile: min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x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unt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, averag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and se foloseste funcţia IF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defineste  referinţa relativa, absolută sau mixtă a unei celule în formule sau funcţi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343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7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Gaspar Edit</cp:lastModifiedBy>
  <dcterms:modified xsi:type="dcterms:W3CDTF">2010-09-06T19:27:26Z</dcterms:modified>
  <cp:revision>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