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E3CB1-7F4E-4E89-AF54-5BE0D8741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AF57-0296-40BD-8C0E-DC9E920F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E97E-EC84-40C5-8638-CED4C12D9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F8C2-69C9-44CF-B78A-A64352CC9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32C3-910F-4274-9F7D-BA4338F1F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3E48-9211-43B6-A25D-B2A1AD351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9EF6A-8B09-4BE3-B19A-515F839DA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6982-C62D-40A5-AB85-5588C99E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A765-C026-40BC-8326-D4DFB8260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E863-1C2D-41EC-B36A-F8DE54E7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A290-D0F7-41DB-A55F-28151A1D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D6AE0-4644-42FF-BFF5-0A869ECE7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08568-BFAC-41E2-884B-7B9E325A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5952D-5B7F-4EB1-AB3F-FBCA0999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B5D00-37D7-4B22-9C75-DB54B8BE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57F7D-34C8-4505-801C-5A766CDA4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65526-9156-41CD-ABB5-7BCF6E10B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FD56-9EA5-47C4-B7E4-5F30E5D6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3B74-DBC0-4A44-969E-34406BBFC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DD43-5F77-428F-81FE-2F4465DC9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2408-70F6-4650-8238-39EBC71D5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BF4E-DFB4-4C60-8380-F156D43A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457B-82A3-427D-A395-9046215C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C8BD-5398-4A2B-9FFB-07A7D560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4F8F7-B039-4926-9368-60BAB6204E2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A91B-2200-42AF-A0B1-B6B13505FAD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657600"/>
            <a:ext cx="8305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6666"/>
                </a:solidFill>
                <a:latin typeface="Arial"/>
              </a:rPr>
              <a:t>Care sunt tipurile de functii in Excel ?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6666"/>
                </a:solidFill>
                <a:latin typeface="Arial"/>
              </a:rPr>
              <a:t>Cum se scriu formulele in Excel ?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66"/>
                </a:solidFill>
                <a:latin typeface="Arial"/>
              </a:rPr>
              <a:t>Care sunt formulele aritmetice şi logice pentru adunări, scăderi, înmulţiri şi împărţiri 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-aş vrea să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am învăţ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Cum se complecteaza automat o serii de date (</a:t>
            </a:r>
            <a:r>
              <a:rPr b="1" lang="it-IT" sz="3600" spc="-1" strike="noStrike">
                <a:solidFill>
                  <a:srgbClr val="006666"/>
                </a:solidFill>
                <a:latin typeface="Arial"/>
              </a:rPr>
              <a:t>autofill</a:t>
            </a: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).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-aş vrea să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am învăţ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Ce determina  funcţiile: min, 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max</a:t>
            </a: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, 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count</a:t>
            </a: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, </a:t>
            </a:r>
            <a:r>
              <a:rPr b="1" lang="en-GB" sz="3600" spc="-1" strike="noStrike">
                <a:solidFill>
                  <a:srgbClr val="006666"/>
                </a:solidFill>
                <a:latin typeface="Arial"/>
              </a:rPr>
              <a:t>sum, average 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-aş vrea să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am învăţ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77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006666"/>
                </a:solidFill>
                <a:latin typeface="Arial"/>
              </a:rPr>
              <a:t>Cand se foloseste funcţia IF ?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-aş vrea să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am învăţ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277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66"/>
                </a:solidFill>
                <a:latin typeface="Arial"/>
              </a:rPr>
              <a:t>Cum se defineste  referinţa relativa, absolută sau mixtă a unei celule în formule sau funcţii 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609480" y="1600200"/>
          <a:ext cx="8077320" cy="45302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876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-aş vrea să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am învăţ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6666"/>
                </a:solidFill>
                <a:latin typeface="Arial"/>
              </a:rPr>
              <a:t>Cum se genereaza sirurile numerice, dar si alte siruri( zilele saptamanii) ?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09480" y="1600200"/>
          <a:ext cx="8077320" cy="434304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1799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-aş vrea să ştiu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o-RO" sz="25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Ce am învăţat?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4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buClr>
                          <a:srgbClr val="006666"/>
                        </a:buClr>
                        <a:buSzPct val="70000"/>
                        <a:buFont typeface="Wingdings" charset="2"/>
                        <a:buChar char="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laudia Cziprok</dc:creator>
  <dc:description/>
  <dc:language>en-US</dc:language>
  <cp:lastModifiedBy>Gaspar Edit</cp:lastModifiedBy>
  <dcterms:modified xsi:type="dcterms:W3CDTF">2010-09-06T19:27:26Z</dcterms:modified>
  <cp:revision>8</cp:revision>
  <dc:subject>Life with Internet</dc:subject>
  <dc:title>Know-Wonder-Learn Diagra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