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5A52-4746-457A-B77D-B50EACA0B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1B28-137C-4B3B-9FBC-E39721AC6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4AC6-08BF-467C-858A-B71F5FE8D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AE0E-FF06-41EF-961D-63864E6F6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F4752-C633-428B-8AAA-F172610CF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53A0E-C100-46D3-9771-7C037E98D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ACE7B-69D5-4849-8E83-7EBE1117B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A9736-F518-4788-968E-B457BF2BC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2C945-72FD-4FEF-AD62-9FA71661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32DA8-DB7D-408C-93FA-4235A82DC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A0099-E126-48C5-8BF1-EA6C9C0D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321A-4663-4FA0-97F8-E5918685E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EE3C3-F53C-4AF3-B545-1C664F9B1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EA5FA-C465-4D0B-9A56-AD78B649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C9F15-E75C-4194-98E7-D2F80970D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76159-ECDA-494A-83A7-CC0803C5D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8AC78-B5B8-40CE-87ED-62667C69D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9D5F-95A3-4C4C-9BBE-AD429943B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AD6B-44B4-4410-8D98-1C13EB19D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DC6D-67A8-45DC-AF83-3602E6C51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BE20-08B1-4110-989A-A2394E5A6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4B9F7-4B43-4458-A4F3-03F16A9B9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AE460-175A-4504-BDF5-56BD3CEC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9585-B7CB-4CC4-87A1-5578F58B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C1A3D-2C57-47F9-BC6A-8D026D733BE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A5233-09EE-435C-8938-4BB7A6B796D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6576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6666"/>
                </a:solidFill>
                <a:latin typeface="Arial"/>
              </a:rPr>
              <a:t>Care sunt tipurile de functii in Excel ?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6666"/>
                </a:solidFill>
                <a:latin typeface="Arial"/>
              </a:rPr>
              <a:t>Cum se scriu formulele in Excel ?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66"/>
                </a:solidFill>
                <a:latin typeface="Arial"/>
              </a:rPr>
              <a:t>Care sunt formulele aritmetice şi logice pentru adunări, scăderi, înmulţiri şi împărţiri ?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09480" y="1600200"/>
          <a:ext cx="8077320" cy="453024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187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 ş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-aş vrea să ş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 am învăţat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6666"/>
                </a:solidFill>
                <a:latin typeface="Arial"/>
              </a:rPr>
              <a:t>Cum se complecteaza automat o serii de date (</a:t>
            </a: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autofill</a:t>
            </a:r>
            <a:r>
              <a:rPr b="1" lang="ro-RO" sz="3600" spc="-1" strike="noStrike">
                <a:solidFill>
                  <a:srgbClr val="006666"/>
                </a:solidFill>
                <a:latin typeface="Arial"/>
              </a:rPr>
              <a:t>)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609480" y="1600200"/>
          <a:ext cx="8077320" cy="453024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187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 ş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-aş vrea să ş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 am învăţat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6666"/>
                </a:solidFill>
                <a:latin typeface="Arial"/>
              </a:rPr>
              <a:t>Ce determina  funcţiile: min, 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max</a:t>
            </a:r>
            <a:r>
              <a:rPr b="1" lang="ro-RO" sz="3600" spc="-1" strike="noStrike">
                <a:solidFill>
                  <a:srgbClr val="006666"/>
                </a:solidFill>
                <a:latin typeface="Arial"/>
              </a:rPr>
              <a:t>, 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ount</a:t>
            </a:r>
            <a:r>
              <a:rPr b="1" lang="ro-RO" sz="3600" spc="-1" strike="noStrike">
                <a:solidFill>
                  <a:srgbClr val="006666"/>
                </a:solidFill>
                <a:latin typeface="Arial"/>
              </a:rPr>
              <a:t>, 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um, average 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09480" y="1600200"/>
          <a:ext cx="8077320" cy="453024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187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 ş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-aş vrea să ş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 am învăţat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277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6666"/>
                </a:solidFill>
                <a:latin typeface="Arial"/>
              </a:rPr>
              <a:t>Cand se foloseste funcţia IF 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9480" y="1600200"/>
          <a:ext cx="8077320" cy="453024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187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 ş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-aş vrea să ş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 am învăţat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277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66"/>
                </a:solidFill>
                <a:latin typeface="Arial"/>
              </a:rPr>
              <a:t>Cum se defineste  referinţa relativa, absolută sau mixtă a unei celule în formule sau funcţii ?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09480" y="1600200"/>
          <a:ext cx="8077320" cy="453024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187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 ş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-aş vrea să ş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 am învăţat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66"/>
                </a:solidFill>
                <a:latin typeface="Arial"/>
              </a:rPr>
              <a:t>Cum se genereaza sirurile numerice, dar si alte siruri( zilele saptamanii) ?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09480" y="1600200"/>
          <a:ext cx="8077320" cy="434304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179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 ş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-aş vrea să ş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 am învăţat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laudia Cziprok</dc:creator>
  <dc:description/>
  <dc:language>en-US</dc:language>
  <cp:lastModifiedBy>Gaspar Edit</cp:lastModifiedBy>
  <dcterms:modified xsi:type="dcterms:W3CDTF">2010-09-06T19:27:26Z</dcterms:modified>
  <cp:revision>8</cp:revision>
  <dc:subject>Life with Internet</dc:subject>
  <dc:title>Know-Wonder-Learn Diagra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