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F3FC-0F50-46C9-809D-5E37783B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CD6C-0DA3-455D-8D79-94C587FE4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F7C1-3938-44CD-99C8-07416E72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9AF1-E9F4-454C-8E74-DE997B0B2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A24CF-8DA8-40C4-B7E9-442B21E22E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BB9F-FC2E-405D-9484-EDF51897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C9456-4A35-4CD7-8EDD-C3F6375AB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67744-4E03-4D46-B830-C8C34B3A8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E6956-F9DC-45C3-8901-7E36AC642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28E81-67D5-4468-B954-9A8BEAA4B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1CF83-02C7-4CB9-9BDF-C1687CC9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5A7C-AA2D-4246-B530-7298A7F5C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F2F2-4F8D-433E-AE17-D255D7B9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7A4E-6B43-418C-B18D-A925742D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B7C10-351A-451C-8FEC-28BB908DC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E0879-02E3-43C2-A921-81150695C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CD128-5091-492C-AE86-BE16E7C0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66F5-6FB2-4EF1-BE8C-8B5676FA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487B-EE1A-4323-BC27-667BD0F1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9C45-4FDB-4E12-A88B-B7E4F775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A3E4-FD96-4C68-80F3-EC3CF0A6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1009-4937-44E7-9B1D-B7A0B9B6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A2B3-0CC4-4EB8-BA64-1881535B4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6F9E-A11B-4BFE-807A-CF977794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96B5A-C434-414C-BF5B-812A8EA7799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138AC-FDC7-4785-9366-7C2E9DB762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66"/>
                </a:solidFill>
                <a:latin typeface="Arial"/>
              </a:rPr>
              <a:t>Care sunt tipurile de functii in Excel 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Cum se scriu formulele in Excel 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are sunt formulele aritmetice şi logice pentru adunări, scăderi, înmulţiri şi împărţir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um se complecteaza automat o serii de date (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utofill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e determina  funcţiile: min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x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unt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um, averag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and se foloseste funcţia IF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defineste  referinţa relativa, absolută sau mixtă a unei celule în formule sau funcţi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3430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7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Gaspar Edit</cp:lastModifiedBy>
  <dcterms:modified xsi:type="dcterms:W3CDTF">2010-09-06T19:27:26Z</dcterms:modified>
  <cp:revision>8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