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A45-D011-4512-A794-022E1711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BFD-8BD6-4B0A-A1C5-018C4F86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242-AE62-48F9-B77E-9ED73D2E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80D-A6B2-4DA9-AFC4-7F91665B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B6C-A637-4073-9985-893688C7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3BD-7F4C-4649-ACF2-7F17667B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331-6A91-4803-84D8-8F3EBDCC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730-6663-4F29-8331-DB7E9555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BCB-BBC9-45EE-AD13-8696595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0C9-67D9-4497-8E1D-7297A05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7B3-B8D7-4AC1-9612-C92CB7A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513-603D-4B34-B74D-002F2F45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C536-C133-473E-8C56-39E555558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0:03:05Z</dcterms:created>
  <dc:creator>Dana</dc:creator>
  <dc:description/>
  <dc:language>en-US</dc:language>
  <cp:lastModifiedBy>user</cp:lastModifiedBy>
  <dcterms:modified xsi:type="dcterms:W3CDTF">2011-09-20T06:10:55Z</dcterms:modified>
  <cp:revision>5</cp:revision>
  <dc:subject/>
  <dc:title>Diapozitivul 1</dc:title>
</cp:coreProperties>
</file>