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D4C-8D36-4EA2-81A8-847F0E09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539A-4582-43EA-B4C3-3C198F1E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26CA-677E-41F9-B262-BA3B9DE2B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1770-29C5-4104-A9BD-8CE4D1C8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E6F-2765-4575-A405-F62211BF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8C2A-612B-4BAE-A2C9-A3101CB41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2F58-4DE5-419D-8F8C-8A95C8BA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047-840D-4EE2-AB13-7114763B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F183-AA93-432E-A842-336B4727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B130-348A-4CE5-9E2A-D3AEAA300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634-0F2D-4323-AAA2-103A7A504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4AA9-9E2B-4D5F-A9CE-9641AEA0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51B9-67D5-4EC9-8234-D27C6DAE9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3:05Z</dcterms:created>
  <dc:creator>Dana</dc:creator>
  <dc:description/>
  <dc:language>en-US</dc:language>
  <cp:lastModifiedBy>user</cp:lastModifiedBy>
  <dcterms:modified xsi:type="dcterms:W3CDTF">2011-09-20T06:10:55Z</dcterms:modified>
  <cp:revision>5</cp:revision>
  <dc:subject/>
  <dc:title>Diapozitivul 1</dc:title>
</cp:coreProperties>
</file>