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EDBA-84DE-4FE2-B15F-1BE34FF5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501-8094-4656-8624-81096FE07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1E0-704F-4FAB-BE8B-D849DFCD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21DE-6D08-463C-9359-839BB774C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E252-CCBB-4F21-8648-1E3FF96E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9E40C-B7A9-494B-991A-ED037452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68CAE-6183-4C1E-980B-DA3DEB525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677E-0200-43C3-9D18-1941E2BB7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5B2F-EF2E-4FEB-8BF6-FD0E13C3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A17A-DC7C-4DCF-AF99-2C2BA317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8265B-619D-4483-AC36-BD9CF9C7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9407-7E15-4299-A367-FB2F5133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B61A-87DB-43B9-B0D0-D441C3E6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0C260-1E34-4ACE-B418-34E6C9B8C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CA0F-D428-4BA8-A7C3-613FB9BA0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9EFCD-4BCB-4FD3-BBFA-106736E5D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C26A-2DE2-43E9-BA48-0902FC8E0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176B7-B5C7-425C-8E89-25E8E380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D3299-1219-4A8F-8082-84530F6F9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7E1DCE-73A2-4E2E-856E-950D372A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20E89-B0E7-4F0C-B0E9-C512E5A7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826501-B140-4B72-8CCF-BB425518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494-0765-4CB6-B4B6-C3A8820CF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16FC68-4EAA-467B-AF57-DF196568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5A4767-B734-4BBB-B9E9-39ED81FE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8612CF-8082-4164-BEC3-F12D0431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79C1DC-3367-4BE2-8B10-67A8870E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F4F81D-823B-4697-A9AA-48F6E628F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35CE2-14E6-44B3-9BB2-0982BD99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849C6-DF54-4858-9F19-2EB80E076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9CCB9-3CF3-414F-8287-B2067648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EA4E05-76F8-4960-ABA2-EF8F152A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83CAE-8248-41D7-A39C-78B43A3F9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CC63-A062-4FAB-89C9-67B9858FE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439CA5-A7A7-4C68-8DFF-8CA1B7F7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8E84C-B68B-4B77-9507-2C04FB20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2FDDF-53AB-47A4-A09A-274BA353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06A81-E9D8-4FA8-9D3D-CF16745E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4B42FD-EBC9-4AC8-84F9-2AA05E21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A3AAA-467C-46F4-BDBB-D580EA93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7F85D-801F-4F8E-9404-B4942011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BDC98-B9A5-4362-A786-654838BB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F9CAC-49D0-4F26-B031-FC53349DD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9866-49C7-45E1-8293-36D17C94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258B-6601-4CAF-B9FA-34FE790B9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7210-3CD4-446F-9E68-331803A5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4A97-B2D6-4CE5-B4D6-1BB102F85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ED29-2D2B-4B97-8E84-050D2C77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32F7-D203-42CE-875F-20C0A92A472E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reptunghi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reptunghi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reptunghi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reptunghi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reptunghi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reptunghi rotunjit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reptunghi rotunjit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reptunghi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reptunghi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reptunghi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reptunghi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D0039-4EFD-4654-91E2-25FF20DE38DD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96C8-AEC8-4548-9AB3-0E0A5A45BDAF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FAE3-5633-4AC9-81BD-CA3394B0601C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F:\Tic\computer1.gif"/>
          <p:cNvPicPr/>
          <p:nvPr/>
        </p:nvPicPr>
        <p:blipFill>
          <a:blip r:embed="rId1"/>
          <a:stretch/>
        </p:blipFill>
        <p:spPr>
          <a:xfrm>
            <a:off x="2143080" y="4143240"/>
            <a:ext cx="3143160" cy="2594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9680" y="1500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ro-RO" sz="4400" spc="-1" strike="noStrike">
                <a:solidFill>
                  <a:srgbClr val="ffffff"/>
                </a:solidFill>
                <a:latin typeface="Trebuchet MS"/>
              </a:rPr>
              <a:t>Hogyan oldunk meg gyorsan egy csomó sz</a:t>
            </a:r>
            <a:r>
              <a:rPr b="0" lang="hu-HU" sz="4400" spc="-1" strike="noStrike">
                <a:solidFill>
                  <a:srgbClr val="ffffff"/>
                </a:solidFill>
                <a:latin typeface="Trebuchet MS"/>
              </a:rPr>
              <a:t>ámítást?”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858080" y="5759280"/>
            <a:ext cx="1285920" cy="1098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35712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4.HA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38086"/>
                </a:solidFill>
                <a:latin typeface="Georgia"/>
              </a:rPr>
              <a:t>Más értéket ad vissza, ha a megadott feltétel kiértékelésének eredménye IGAZ, és másikat, ha HAMIS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Logikai_vizsgálat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Tetszőleges érték vagy kifejezés, amely kiértékeléskor IGAZ vagy HAMIS eredményt ad. Például az A10=100 logikai kifejezés, amely kiértékeléskor IGAZ értéket ad, ha az A10 cella tartalma 100, minden más esetben az eredmény a HAMIS érték. Az argumentumban tetszőleges összehasonlító operátor használható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Érték_ha_igaz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Ezt az értéket adja a függvény eredményül, ha a logikai_vizsgálat eredménye IGAZ. Ha például az argumentum értéke "Költségvetésen belül", és a logikai_vizsgálat eredménye IGAZ, akkor a HA függvény a "Költségvetésen belül" szöveget jeleníti meg. Ha a logikai_vizsgálat IGAZ és az érték_ha_igaz üresen hagyott, a visszatérési érték 0 (nulla) lesz. Az IGAZ szó megjelenítéséhez használjuk az IGAZ logikai értéket az argumentumban. Az érték_ha_igaz képlet is lehet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Érték_ha_hamis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Ezt az értéket adja a függvény eredményül, ha a logikai_vizsgálat eredménye HAMIS. Ha például az argumentum értéke "Költségvetésen kívül", és a logikai_vizsgálat eredménye HAMIS, akkor a HA függvény a "Költségvetésen kívül" szöveget jeleníti meg. Ha a logikai_vizsgálat HAMIS és az érték_ha_hamis nincs megadva (azaz az érték_ha_igaz után nincs pontosvessző), a visszatérési érték a HAMIS logikai érték. Ha a logikai_vizsgálat HAMIS és az érték_ha_hamis üresen hagyott (azaz az érték_ha_igaz után pontosvessző és a záró zárójel áll), a visszatérési érték 0 (nulla) lesz. Az érték_ha_hamis képlet is lehet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38086"/>
                </a:solidFill>
                <a:latin typeface="Georgia"/>
              </a:rPr>
              <a:t>	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.H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-6480" y="2066760"/>
            <a:ext cx="3737160" cy="2938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3852720" y="3279600"/>
            <a:ext cx="4023000" cy="2773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F:\Tic\bigstockphoto_Happy_Computer_4068264%20copy.png"/>
          <p:cNvPicPr/>
          <p:nvPr/>
        </p:nvPicPr>
        <p:blipFill>
          <a:blip r:embed="rId3"/>
          <a:stretch/>
        </p:blipFill>
        <p:spPr>
          <a:xfrm>
            <a:off x="7572240" y="5514840"/>
            <a:ext cx="157176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5.IGAZ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IGAZ logikai értéket adja eredményül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3548a"/>
                </a:solidFill>
                <a:latin typeface="Georgia"/>
              </a:rPr>
              <a:t>Az IGAZ logikai érték a függvény használata nélkül is bevihető a cellákba és képletekbe egyszerűen az IGAZ érték beírásával. Az IGAZ függvényt elsősorban a többi táblázatkezelő programmal való kompatibilitás megőrzése érdekében tartalmazza a Microsoft Excel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56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000920" y="5027760"/>
            <a:ext cx="2143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6.HAM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 HAMIS logikai értéket adja eredményül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3548a"/>
                </a:solidFill>
                <a:latin typeface="Georgia"/>
              </a:rPr>
              <a:t>A függvény alkalmazása helyett egyszerűen beírhatjuk a HAMIS szót a munkalapra vagy a képletbe, a Microsoft Excel azt HAMIS logikai értékként fogja kezelni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59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638760" y="4718160"/>
            <a:ext cx="25052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K</a:t>
            </a:r>
            <a:r>
              <a:rPr b="0" lang="hu-HU" sz="4000" spc="-1" strike="noStrike">
                <a:solidFill>
                  <a:srgbClr val="424456"/>
                </a:solidFill>
                <a:latin typeface="Arial"/>
              </a:rPr>
              <a:t>önyvésze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ttp://iskola.nejanet.hu/UserFiles/file/verseny/0910/k5.pdf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ttp://office.microsoft.com/hu-hu/excel-help/CH006252827.asp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http://clasa10-gasparedit.wikispaces.com - Segédanyago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2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429240" y="4718160"/>
            <a:ext cx="25052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Készítették: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alla Mariett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aricsán Norbe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irta Bernadet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Szász Baláz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 „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Cserey-Goga” Iskolacsoport Kraszna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X. B osztá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35640" y="4432320"/>
            <a:ext cx="2503440" cy="2139840"/>
          </a:xfrm>
          <a:prstGeom prst="rect">
            <a:avLst/>
          </a:prstGeom>
          <a:ln w="0">
            <a:noFill/>
          </a:ln>
        </p:spPr>
      </p:pic>
      <p:sp>
        <p:nvSpPr>
          <p:cNvPr id="219" name="CasetăText 4"/>
          <p:cNvSpPr/>
          <p:nvPr/>
        </p:nvSpPr>
        <p:spPr>
          <a:xfrm>
            <a:off x="4857840" y="15717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Foto rol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SANY5393.JPG"/>
          <p:cNvPicPr/>
          <p:nvPr/>
        </p:nvPicPr>
        <p:blipFill>
          <a:blip r:embed="rId2"/>
          <a:stretch/>
        </p:blipFill>
        <p:spPr>
          <a:xfrm>
            <a:off x="4000680" y="1500120"/>
            <a:ext cx="415764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Hogyan lehet tökéletesíteni a számításokat az Excelben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28760" y="23569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Georgia"/>
              </a:rPr>
              <a:t>Az Excel több lehetőséget nyújt a számítások tökéletesítésér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Függvények és képletek használata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Képletek másolása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Adatsorozatok használata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23" name="CasetăText 3"/>
          <p:cNvSpPr/>
          <p:nvPr/>
        </p:nvSpPr>
        <p:spPr>
          <a:xfrm>
            <a:off x="500040" y="49291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Az Excel program egy számítogépnek tekinthető, amely számtalan megoldási módot biztosí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24456"/>
                </a:solidFill>
                <a:latin typeface="Trebuchet MS"/>
              </a:rPr>
              <a:t>Milyen cellahivatkozások léteznek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á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rom fajta cellahivatkozás létezik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Relatív hivatkozas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Abszolut hivatkozás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Vegyes hivatkozá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27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Hogyan írunk be egy képletet az Excelbe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függvén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_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nev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argument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u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Argumentum:cellák, amelyek behelyettesítve jönne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715160" y="5637240"/>
            <a:ext cx="1428840" cy="1220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004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Az Excelben a logikai műveleteket függvényekkel valósították meg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1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ÉS(logikai_kifejezés1;logikai_kifejezés2;…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Igazat ad vissza, ha minden benne szereplő logikai kifejezés értéke igaz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2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VAGY(logikai_kifejezés1;logikai_kifejezés2;…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Igazat ad vissza, ha a paraméterként megadott bármelyik logikai kifejezés igaz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3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NEM(logikai_kifejezés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A logikai kifejezés ellentettjét adja vissza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4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HA(logikai kifejezés;érték_ha_igaz;érték_ha_hamis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Ha a logikai kifejezés igaz, akkor az első értéket (a második paramétert), egyébként a második értéket adja vissza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5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IGAZ()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 az összes argumentuma IGAZ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, akkor </a:t>
            </a: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IGAZ értéket ad vissza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6.HAMIS(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 egy vagy több argumentuma HAMIS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, akkor </a:t>
            </a: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MIS értéket ad vissza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4206960" y="1066680"/>
            <a:ext cx="3443040" cy="54198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.É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GAZ értéket ad vissza,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 az összes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rgumentuma IGAZ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MIS értéket ad vissza,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 egy vagy több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rgumentuma HAMI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37" name="Picture 2" descr="F:\Tic\bigstockphoto_Happy_Computer_4068264%20copy.png"/>
          <p:cNvPicPr/>
          <p:nvPr/>
        </p:nvPicPr>
        <p:blipFill>
          <a:blip r:embed="rId2"/>
          <a:stretch/>
        </p:blipFill>
        <p:spPr>
          <a:xfrm>
            <a:off x="7643880" y="5576760"/>
            <a:ext cx="15001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.VAG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IGAZ értéket adja eredményül, ha legalább egy argumentumának értéke IGAZ; a visszatérési érték HAMIS, ha az összes argumentum értéke HAMI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40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493560" y="3949560"/>
            <a:ext cx="4084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3.N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argumentum értékének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llentettjét adja eredményül. A NEM függvényt akkor használjuk, amikor biztosítani szeretnénk, hogy egy érték egy megadott értékkel ne egyezzen meg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a az argumentum értéke HAMIS, a függvény visszatérési érték IGAZ lesz, ha az argumentum értéke IGAZ, a visszatérési érték HAMIS lesz.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44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307280" y="5289480"/>
            <a:ext cx="1836720" cy="1568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5278320" y="920880"/>
            <a:ext cx="36576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1:10:36Z</dcterms:created>
  <dc:creator>user</dc:creator>
  <dc:description/>
  <dc:language>en-US</dc:language>
  <cp:lastModifiedBy>Bali</cp:lastModifiedBy>
  <dcterms:modified xsi:type="dcterms:W3CDTF">2010-10-10T16:14:56Z</dcterms:modified>
  <cp:revision>19</cp:revision>
  <dc:subject/>
  <dc:title>“Hogyan oldunk meg gyorsan egy csomó számítás?”</dc:title>
</cp:coreProperties>
</file>