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4006-8BD2-430D-80FD-90EE678C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BD22-CAAE-425A-8B6A-20C0E064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6BF0-0D44-4D25-93C1-D559D895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299C-4A1F-457E-ADDD-40DE423A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D288-4FC1-4FE0-9D24-3839CEA7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3C3E-8368-4AB7-A436-2EC3FA40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F2AB-ECA7-4C91-AB9A-CA3546AB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7C83-DB9C-48C5-B5E6-4B10C35B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C4FD-700B-4FE5-8405-50D9F6CA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8D24-882A-41D4-8EA6-CA2E26AF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7F66-4003-41DC-AE48-8AA9F6AC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8072-694B-4B44-98E9-BD13C860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F11C-810F-4BD6-A551-70D77639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0519-5BF4-4CDD-8F2B-ACBD26D1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C6E2-8997-4D04-885F-57E5BA16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CB42-3644-4323-9E0A-BDE10049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1C75-4EDC-4EA1-888C-13470B26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D913F-11F6-4749-AD79-02DA6E9A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35E988-6CD2-435A-AC3D-5B9436D0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6636C5-609B-4CC4-A887-CA764676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556C8-4063-485B-84A6-B2ECF8EE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E4716-6D4C-4E01-8E6E-F70CED5F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CEF-4A92-465E-B536-F1810AF5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94B02-035C-4461-AD1C-6ACD9DDF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83E82-E3DD-4B1C-80EE-2D04E7EC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E07BC-0AFB-4FE7-8437-F4C663DA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69593-0119-4164-9B6C-7A927C03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70596-E127-4488-B04E-6669D7A4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6106B3-D8C4-49A9-9A55-F9011462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1B069-3400-4102-9988-1C9F15A8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7AA4A-EB21-4C0A-B2F4-3206FB99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8F2DD-525F-4A8A-AC58-44CE6523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01A26-3363-4E01-972B-DB929BDE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403B-024A-4FE4-AB2D-053B5DCC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FADC7-2AF8-4895-BC89-39F442C6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1BD03-3E01-4A11-915C-5FAF7BB8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C3F2A-35D9-41DB-A405-EB90D53F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C39C4-83B5-4B18-8FFB-EBEA7E58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1BA1C-DE3B-4865-9178-775806CA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1D190-3B12-4547-998F-AB5554A2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7046A-B6C5-4F13-A455-0CE4EC36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5A6B9-EAF4-467B-85FE-D918150E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7FFBF-BB0D-446B-A09E-D52A9172A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CF25-2ED5-4D4F-865B-3CDDA793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0905-AE3B-403A-93BA-86040CC9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F2E3-1B43-409D-85A6-F24C166B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4DBF-86D2-4D9D-B6D2-95E10A7E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29BB-0891-4266-9809-BE3FD95D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7720-E477-41D0-9761-A07E772B207D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reptunghi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reptunghi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reptunghi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reptunghi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reptunghi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reptunghi rotunjit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reptunghi rotunjit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reptunghi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reptunghi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reptunghi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reptunghi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0C2E-DC20-4560-A358-E85989CCE60A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806D-E0F7-4ABF-A6F2-E082F92C97E2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0C79-C97D-4FEA-AF31-F8F33F074158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F:\Tic\computer1.gif"/>
          <p:cNvPicPr/>
          <p:nvPr/>
        </p:nvPicPr>
        <p:blipFill>
          <a:blip r:embed="rId1"/>
          <a:stretch/>
        </p:blipFill>
        <p:spPr>
          <a:xfrm>
            <a:off x="2143080" y="4143240"/>
            <a:ext cx="3143160" cy="25941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9680" y="150012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ro-RO" sz="4400" spc="-1" strike="noStrike">
                <a:solidFill>
                  <a:srgbClr val="ffffff"/>
                </a:solidFill>
                <a:latin typeface="Trebuchet MS"/>
              </a:rPr>
              <a:t>Hogyan oldunk meg gyorsan egy csomó sz</a:t>
            </a:r>
            <a:r>
              <a:rPr b="0" lang="hu-HU" sz="4400" spc="-1" strike="noStrike">
                <a:solidFill>
                  <a:srgbClr val="ffffff"/>
                </a:solidFill>
                <a:latin typeface="Trebuchet MS"/>
              </a:rPr>
              <a:t>ámítást?”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858080" y="5759280"/>
            <a:ext cx="1285920" cy="1098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35712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4.HA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38086"/>
                </a:solidFill>
                <a:latin typeface="Georgia"/>
              </a:rPr>
              <a:t>Más értéket ad vissza, ha a megadott feltétel kiértékelésének eredménye IGAZ, és másikat, ha HAMIS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438086"/>
                </a:solidFill>
                <a:latin typeface="Georgia"/>
              </a:rPr>
              <a:t>Logikai_vizsgálat:</a:t>
            </a:r>
            <a:r>
              <a:rPr b="0" lang="hu-HU" sz="1500" spc="-1" strike="noStrike">
                <a:solidFill>
                  <a:srgbClr val="438086"/>
                </a:solidFill>
                <a:latin typeface="Georgia"/>
              </a:rPr>
              <a:t>     Tetszőleges érték vagy kifejezés, amely kiértékeléskor IGAZ vagy HAMIS eredményt ad. Például az A10=100 logikai kifejezés, amely kiértékeléskor IGAZ értéket ad, ha az A10 cella tartalma 100, minden más esetben az eredmény a HAMIS érték. Az argumentumban tetszőleges összehasonlító operátor használható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438086"/>
                </a:solidFill>
                <a:latin typeface="Georgia"/>
              </a:rPr>
              <a:t>Érték_ha_igaz:</a:t>
            </a:r>
            <a:r>
              <a:rPr b="0" lang="hu-HU" sz="1500" spc="-1" strike="noStrike">
                <a:solidFill>
                  <a:srgbClr val="438086"/>
                </a:solidFill>
                <a:latin typeface="Georgia"/>
              </a:rPr>
              <a:t>     Ezt az értéket adja a függvény eredményül, ha a logikai_vizsgálat eredménye IGAZ. Ha például az argumentum értéke "Költségvetésen belül", és a logikai_vizsgálat eredménye IGAZ, akkor a HA függvény a "Költségvetésen belül" szöveget jeleníti meg. Ha a logikai_vizsgálat IGAZ és az érték_ha_igaz üresen hagyott, a visszatérési érték 0 (nulla) lesz. Az IGAZ szó megjelenítéséhez használjuk az IGAZ logikai értéket az argumentumban. Az érték_ha_igaz képlet is lehet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438086"/>
                </a:solidFill>
                <a:latin typeface="Georgia"/>
              </a:rPr>
              <a:t>Érték_ha_hamis:</a:t>
            </a:r>
            <a:r>
              <a:rPr b="0" lang="hu-HU" sz="1500" spc="-1" strike="noStrike">
                <a:solidFill>
                  <a:srgbClr val="438086"/>
                </a:solidFill>
                <a:latin typeface="Georgia"/>
              </a:rPr>
              <a:t>     Ezt az értéket adja a függvény eredményül, ha a logikai_vizsgálat eredménye HAMIS. Ha például az argumentum értéke "Költségvetésen kívül", és a logikai_vizsgálat eredménye HAMIS, akkor a HA függvény a "Költségvetésen kívül" szöveget jeleníti meg. Ha a logikai_vizsgálat HAMIS és az érték_ha_hamis nincs megadva (azaz az érték_ha_igaz után nincs pontosvessző), a visszatérési érték a HAMIS logikai érték. Ha a logikai_vizsgálat HAMIS és az érték_ha_hamis üresen hagyott (azaz az érték_ha_igaz után pontosvessző és a záró zárójel áll), a visszatérési érték 0 (nulla) lesz. Az érték_ha_hamis képlet is lehet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38086"/>
                </a:solidFill>
                <a:latin typeface="Georgia"/>
              </a:rPr>
              <a:t>	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.H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-6480" y="2066760"/>
            <a:ext cx="3737160" cy="2938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3852720" y="3279600"/>
            <a:ext cx="4023000" cy="2773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F:\Tic\bigstockphoto_Happy_Computer_4068264%20copy.png"/>
          <p:cNvPicPr/>
          <p:nvPr/>
        </p:nvPicPr>
        <p:blipFill>
          <a:blip r:embed="rId3"/>
          <a:stretch/>
        </p:blipFill>
        <p:spPr>
          <a:xfrm>
            <a:off x="7572240" y="5514840"/>
            <a:ext cx="157176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5.IGAZ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z IGAZ logikai értéket adja eredményül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3548a"/>
                </a:solidFill>
                <a:latin typeface="Georgia"/>
              </a:rPr>
              <a:t>Az IGAZ logikai érték a függvény használata nélkül is bevihető a cellákba és képletekbe egyszerűen az IGAZ érték beírásával. Az IGAZ függvényt elsősorban a többi táblázatkezelő programmal való kompatibilitás megőrzése érdekében tartalmazza a Microsoft Excel.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  <p:pic>
        <p:nvPicPr>
          <p:cNvPr id="256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000920" y="5027760"/>
            <a:ext cx="214308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76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6.HAM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 HAMIS logikai értéket adja eredményül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3548a"/>
                </a:solidFill>
                <a:latin typeface="Georgia"/>
              </a:rPr>
              <a:t>A függvény alkalmazása helyett egyszerűen beírhatjuk a HAMIS szót a munkalapra vagy a képletbe, a Microsoft Excel azt HAMIS logikai értékként fogja kezelni.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59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638760" y="4718160"/>
            <a:ext cx="25052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K</a:t>
            </a:r>
            <a:r>
              <a:rPr b="0" lang="hu-HU" sz="4000" spc="-1" strike="noStrike">
                <a:solidFill>
                  <a:srgbClr val="424456"/>
                </a:solidFill>
                <a:latin typeface="Arial"/>
              </a:rPr>
              <a:t>önyvésze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http://iskola.nejanet.hu/UserFiles/file/verseny/0910/k5.pdf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http://office.microsoft.com/hu-hu/excel-help/CH006252827.aspx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http://clasa10-gasparedit.wikispaces.com - Segédanyago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2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429240" y="4718160"/>
            <a:ext cx="25052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24456"/>
                </a:solidFill>
                <a:latin typeface="Trebuchet MS"/>
              </a:rPr>
              <a:t>Készítették: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Balla Mariett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Baricsán Norber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Birta Bernadet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Szász Baláz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 „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Cserey-Goga” Iskolacsoport Kraszna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X. B osztá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35640" y="4432320"/>
            <a:ext cx="2503440" cy="2139840"/>
          </a:xfrm>
          <a:prstGeom prst="rect">
            <a:avLst/>
          </a:prstGeom>
          <a:ln w="0">
            <a:noFill/>
          </a:ln>
        </p:spPr>
      </p:pic>
      <p:sp>
        <p:nvSpPr>
          <p:cNvPr id="219" name="CasetăText 4"/>
          <p:cNvSpPr/>
          <p:nvPr/>
        </p:nvSpPr>
        <p:spPr>
          <a:xfrm>
            <a:off x="4857840" y="15717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Foto rol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SANY5393.JPG"/>
          <p:cNvPicPr/>
          <p:nvPr/>
        </p:nvPicPr>
        <p:blipFill>
          <a:blip r:embed="rId2"/>
          <a:stretch/>
        </p:blipFill>
        <p:spPr>
          <a:xfrm>
            <a:off x="4000680" y="1500120"/>
            <a:ext cx="415764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24456"/>
                </a:solidFill>
                <a:latin typeface="Trebuchet MS"/>
              </a:rPr>
              <a:t>Hogyan lehet tökéletesíteni a számításokat az Excelben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28760" y="2356920"/>
            <a:ext cx="8229600" cy="24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Georgia"/>
              </a:rPr>
              <a:t>Az Excel több lehetőséget nyújt a számítások tökéletesítésére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38086"/>
                </a:solidFill>
                <a:latin typeface="Georgia"/>
              </a:rPr>
              <a:t>Függvények és képletek használata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38086"/>
                </a:solidFill>
                <a:latin typeface="Georgia"/>
              </a:rPr>
              <a:t>Képletek másolása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38086"/>
                </a:solidFill>
                <a:latin typeface="Georgia"/>
              </a:rPr>
              <a:t>Adatsorozatok használata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23" name="CasetăText 3"/>
          <p:cNvSpPr/>
          <p:nvPr/>
        </p:nvSpPr>
        <p:spPr>
          <a:xfrm>
            <a:off x="500040" y="49291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Az Excel program egy számítogépnek tekinthető, amely számtalan megoldási módot biztosí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424456"/>
                </a:solidFill>
                <a:latin typeface="Trebuchet MS"/>
              </a:rPr>
              <a:t>Milyen cellahivatkozások léteznek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á</a:t>
            </a: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rom fajta cellahivatkozás létezik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438086"/>
                </a:solidFill>
                <a:latin typeface="Georgia"/>
              </a:rPr>
              <a:t>Relatív hivatkozas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438086"/>
                </a:solidFill>
                <a:latin typeface="Georgia"/>
              </a:rPr>
              <a:t>Abszolut hivatkozás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438086"/>
                </a:solidFill>
                <a:latin typeface="Georgia"/>
              </a:rPr>
              <a:t>Vegyes hivatkozá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27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24456"/>
                </a:solidFill>
                <a:latin typeface="Trebuchet MS"/>
              </a:rPr>
              <a:t>Hogyan írunk be egy képletet az Excelbe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függvén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_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nev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argument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u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Argumentum:cellák, amelyek behelyettesítve jönne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715160" y="5637240"/>
            <a:ext cx="1428840" cy="12207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0040" y="157176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Az Excelben a logikai műveleteket függvényekkel valósították meg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1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ÉS(logikai_kifejezés1;logikai_kifejezés2;…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Igazat ad vissza, ha minden benne szereplő logikai kifejezés értéke igaz. 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2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VAGY(logikai_kifejezés1;logikai_kifejezés2;…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Igazat ad vissza, ha a paraméterként megadott bármelyik logikai kifejezés igaz. 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3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NEM(logikai_kifejezés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A logikai kifejezés ellentettjét adja vissza. 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4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HA(logikai kifejezés;érték_ha_igaz;érték_ha_hamis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Ha a logikai kifejezés igaz, akkor az első értéket (a második paramétert), egyébként a második értéket adja vissza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5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IGAZ()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ha az összes argumentuma IGAZ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, akkor </a:t>
            </a: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IGAZ értéket ad vissza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6.HAMIS()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ha egy vagy több argumentuma HAMIS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, akkor </a:t>
            </a: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HAMIS értéket ad vissza.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4206960" y="1066680"/>
            <a:ext cx="3443040" cy="54198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.É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GAZ értéket ad vissza,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 az összes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rgumentuma IGAZ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MIS értéket ad vissza,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 egy vagy több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rgumentuma HAMI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37" name="Picture 2" descr="F:\Tic\bigstockphoto_Happy_Computer_4068264%20copy.png"/>
          <p:cNvPicPr/>
          <p:nvPr/>
        </p:nvPicPr>
        <p:blipFill>
          <a:blip r:embed="rId2"/>
          <a:stretch/>
        </p:blipFill>
        <p:spPr>
          <a:xfrm>
            <a:off x="7643880" y="5576760"/>
            <a:ext cx="150012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2.VAG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z IGAZ értéket adja eredményül, ha legalább egy argumentumának értéke IGAZ; a visszatérési érték HAMIS, ha az összes argumentum értéke HAMI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40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493560" y="3949560"/>
            <a:ext cx="40849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3.N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z argumentum értékének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llentettjét adja eredményül. A NEM függvényt akkor használjuk, amikor biztosítani szeretnénk, hogy egy érték egy megadott értékkel ne egyezzen meg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Ha az argumentum értéke HAMIS, a függvény visszatérési érték IGAZ lesz, ha az argumentum értéke IGAZ, a visszatérési érték HAMIS lesz.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  <p:pic>
        <p:nvPicPr>
          <p:cNvPr id="244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307280" y="5289480"/>
            <a:ext cx="1836720" cy="1568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5278320" y="920880"/>
            <a:ext cx="365760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1:10:36Z</dcterms:created>
  <dc:creator>user</dc:creator>
  <dc:description/>
  <dc:language>en-US</dc:language>
  <cp:lastModifiedBy>Bali</cp:lastModifiedBy>
  <dcterms:modified xsi:type="dcterms:W3CDTF">2010-10-10T16:14:56Z</dcterms:modified>
  <cp:revision>19</cp:revision>
  <dc:subject/>
  <dc:title>“Hogyan oldunk meg gyorsan egy csomó számítás?”</dc:title>
</cp:coreProperties>
</file>