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E426-617B-4DC4-8F91-F92A9F2EE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58E5-22EE-4CC3-8D46-6B3340AB4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C863-51E6-445E-8796-89B16C58B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6390-94A6-422F-98DF-CCE5E138E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4F2F7-3465-4D64-AE23-61EBB045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4CBB3-1F2A-4074-8075-13D39B7E3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C470D-8651-4CF8-8266-498C49DCC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C2A0-6D3F-4786-9E3A-6B61EEC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AD0CF-0FA8-4CED-8F68-A638005FA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6D471-B187-483E-B4D3-A3C2F63B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84992-6665-4505-B0C1-C0E148F0D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C776-DA78-47D2-BB77-5299D9E3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F701-E130-4043-BAA7-3FFE874B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2A66-CF8D-4444-8A31-E7F9262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B416-E9AF-4626-AD9D-ED74D957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44DBE-BDBD-4A2A-9FF6-40DD55692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E56EE-9777-410D-A461-198ADEB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B4E6F2-301F-4A09-9258-F78B4A01E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9F3484-BCC3-4868-B67D-E643F361D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5758BB-11B8-4ADC-A06E-0A20EE141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C6DCC6-46D8-498D-A0C5-8E0FE306A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D0A91-5E20-4F2B-AB6A-95CFA1BE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94A-BB9F-4CC3-89F5-BECCE1B1F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652117-00D0-4AE8-B50F-0321ABC5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230160-92C9-4069-B7BA-8CB82003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54F1AC-C3DA-4ACB-9DAD-6212AA4A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18B445-2413-4122-9D28-17F6C660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679F09-DE44-40BF-BE1E-7B29B894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5B2942-865E-43D8-8042-082DBA16F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53AD3B-679D-4C23-83B9-1FD98CE54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61D40-8C67-4066-B454-445F3DD0B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0410FF-0176-40F4-B0E3-C0D2C85C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2A239-9E3F-4F5A-B9DF-951FA4702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9DCF-412D-4AB2-95B7-754A2595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5CCF1-7A30-4CCE-9939-7899378FF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B276D-A7FA-4E17-88A5-254556E1E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2DD88-8230-40EC-B2B9-01E503AE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F086A-5746-4705-A219-017EA77D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91654D-8C6A-4D9E-9191-CCF6DFF6D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6D0E3C-AF57-4306-A880-EE2AA8DA5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EE30-C02E-4381-80B8-48FB4A18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132D7-5B8C-42ED-8642-BE69E0D30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FAB92-6ABB-4E18-9A27-4D73052AC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7B53-17CB-434E-AAD0-1A7A154A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18C2-2F9A-4DE4-ADB7-4B74B611C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E8FC4-1B41-4FD4-B350-40A425EF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B1D9-2EE4-441A-8BF6-924A3B9E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BC2A-DDBE-47F0-9B24-E2DF405DC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50F99-BDF6-4B19-B230-E90D55101B67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7050-F15B-4057-AC0C-03848B56F30D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D9D3-04A9-475D-80F6-614D2025FA81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0747-3594-4E07-98BF-903E573332EF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-6480" y="2066760"/>
            <a:ext cx="3737160" cy="2938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"/>
          <p:cNvPicPr/>
          <p:nvPr/>
        </p:nvPicPr>
        <p:blipFill>
          <a:blip r:embed="rId2"/>
          <a:stretch/>
        </p:blipFill>
        <p:spPr>
          <a:xfrm>
            <a:off x="3852720" y="3279600"/>
            <a:ext cx="4023000" cy="27734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2" descr="F:\Tic\bigstockphoto_Happy_Computer_4068264%20copy.png"/>
          <p:cNvPicPr/>
          <p:nvPr/>
        </p:nvPicPr>
        <p:blipFill>
          <a:blip r:embed="rId3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59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4206960" y="1066680"/>
            <a:ext cx="3443040" cy="541980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7" name="Picture 2" descr="F:\Tic\bigstockphoto_Happy_Computer_4068264%20copy.png"/>
          <p:cNvPicPr/>
          <p:nvPr/>
        </p:nvPicPr>
        <p:blipFill>
          <a:blip r:embed="rId2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4" descr=""/>
          <p:cNvPicPr/>
          <p:nvPr/>
        </p:nvPicPr>
        <p:blipFill>
          <a:blip r:embed="rId2"/>
          <a:stretch/>
        </p:blipFill>
        <p:spPr>
          <a:xfrm>
            <a:off x="493560" y="3949560"/>
            <a:ext cx="4084920" cy="27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5278320" y="920880"/>
            <a:ext cx="365760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Bali</cp:lastModifiedBy>
  <dcterms:modified xsi:type="dcterms:W3CDTF">2010-10-10T16:14:56Z</dcterms:modified>
  <cp:revision>19</cp:revision>
  <dc:subject/>
  <dc:title>“Hogyan oldunk meg gyorsan egy csomó számítás?”</dc:title>
</cp:coreProperties>
</file>