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AD2-CBD7-492F-B886-0CFA3FBE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21D-B7FC-4E32-9E01-3D16E24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9DC-5A7A-4A0C-9BE1-5A5A8F1E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15E-F240-4504-BFD0-77E4BE94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4BAE-0F43-4747-905A-3A96F47A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5C55-2119-4AB0-B4BA-CF121F9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E15D-9EC8-48C9-8082-C51CD7A6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9168-813E-4654-BBF9-5793593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6C89-D4A6-4926-A0D5-6DB40601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5BF-1AC0-47CC-A68F-2BE344A7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1F8C-59D6-47FA-9F47-395E1E8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41D-AFBB-40A2-9AFF-99725DF9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258-C79F-404A-98DC-BB490AF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3644-B4DA-48B1-AD82-8B3CF1DB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DFD0-EDEF-4D5C-B479-08AD04C1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ED59-FA53-4CA5-8209-9E34A7F2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7EED-C563-406D-9F11-E0B72835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FECE9-C6AC-41B0-9EAA-90F2594D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7D054-3F73-4AB1-8AC7-F977DAD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B4412-83A0-479A-8AE3-19DFD3E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99E49-5E01-4A35-8065-4419E29D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641EA-AA63-4730-B107-E1DB4307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03F-9D9F-46A3-A324-F386DC7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3F0DC-C029-4840-98A6-962E374A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BE674-98E6-46C6-958D-7C778C1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94843-44AD-424C-85EF-273ADCE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5D9BC-1DF7-4687-978F-5DED229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C9B6C-2230-4A13-A99F-E00D223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8A307-DC01-46D6-9FE0-49E315FD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3973C-33BD-4035-97A2-566D85D1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6AC5-4B7C-44AF-88E7-3C6AE575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8A35-C655-4A12-91AA-F7227FC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A4E4-E47A-40F0-A5BF-45A9C29F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299-4110-4CFE-A7E8-55E8F2B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89956-4FF4-443D-9C46-618105A6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652D-D3B3-4C3A-BA41-50108877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34D8-52D8-4FEA-A3D1-0D854ECC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37493-4A85-4FAB-AC2F-BEB9961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BF96-0E65-42C8-ACF8-C2309B4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94E7-EFA4-4A40-A023-5077CA6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FB2B-C111-4584-9AF6-6A9C3178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4379-BF63-4E16-ADDC-AFCC82E1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CC99-52B1-4808-AC1B-BEC43B78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800-02E4-422D-A4E3-2F48D1E1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CF3-B03B-489C-8772-A791E95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6BB-1779-42AF-B125-3D4F926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36D-5684-4955-B8BA-EF110FD0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610-0FFE-4D4C-A5E0-075F6D4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22F9-2A4F-4AC2-92D7-C9F7BD168DBB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4C1E-9187-462C-BEBB-7E5624E7D510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5BA8-2B2A-4214-B4ED-C392F39ED509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F552-DD19-42FD-9F1D-3BEE30231F50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-6480" y="2066760"/>
            <a:ext cx="3737160" cy="293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852720" y="3279600"/>
            <a:ext cx="4023000" cy="2773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F:\Tic\bigstockphoto_Happy_Computer_4068264%20copy.png"/>
          <p:cNvPicPr/>
          <p:nvPr/>
        </p:nvPicPr>
        <p:blipFill>
          <a:blip r:embed="rId3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9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206960" y="1066680"/>
            <a:ext cx="3443040" cy="5419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7" name="Picture 2" descr="F:\Tic\bigstockphoto_Happy_Computer_4068264%20copy.png"/>
          <p:cNvPicPr/>
          <p:nvPr/>
        </p:nvPicPr>
        <p:blipFill>
          <a:blip r:embed="rId2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93560" y="3949560"/>
            <a:ext cx="4084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278320" y="920880"/>
            <a:ext cx="36576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Bali</cp:lastModifiedBy>
  <dcterms:modified xsi:type="dcterms:W3CDTF">2010-10-10T16:14:56Z</dcterms:modified>
  <cp:revision>19</cp:revision>
  <dc:subject/>
  <dc:title>“Hogyan oldunk meg gyorsan egy csomó számítás?”</dc:title>
</cp:coreProperties>
</file>