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D0F70-C52E-4563-AD1A-BE0D724D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D4FE-6CF9-4C06-A796-9EA67689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387C-2EFC-4704-B0C1-DD84CBBE9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99EF-9620-4E63-B4AE-EB059FEA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18269-ECCA-41E8-8AC3-8F347CE28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648D-5792-47D6-8523-778AEC82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0AB2-BFE0-4928-967A-031D45B23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B360F-4DC0-4F5B-B2F1-8AAAFBF7D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CA422-C65F-4FF3-A3BD-2F9F0DD2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B835-0993-4601-AB6A-2055AF007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63F1C-6ED5-482B-9F1F-E3C8521B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15118-CCE8-453B-9F2C-D7FABEE4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BE11-5BB7-4921-B6D2-E3A6708A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7818-6945-4689-B27E-15EE7E0D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B4FB-349C-40B8-B6F6-5E498419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46BC3-2AB1-4839-9570-6B072C071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C2D9-7EB9-47F9-805A-69FB4E415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C4FED4-253D-489D-8044-417D9FB08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15D54-18E6-4915-8002-56D93E513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7ABD3-8F1E-41ED-87B9-2206ECD0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A93787-0569-4ADB-8D4D-F378F374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E4C78D-384C-4231-8485-C2A04779C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F607-F622-45B4-B013-A4F1982D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9EA46B-C830-4257-878F-B4DAA59C6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BA25AC-2691-4A10-BB0F-6AB2C1B7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B2A6D-CE9C-42B6-955C-DFAD0FCB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DEA57-CA14-4CC0-954D-0A6193A0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E0C19E-E3B2-4360-8BD3-3F7BBE92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C6274-D1B8-4031-9862-B33B5FD47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8B7F80-EA82-4F4B-8718-A72F46EC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5267A-FEA6-4501-9377-8D69E2D9E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A60254-5CBA-4FB5-9F3E-36799C9F3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94FAE-1397-4642-827C-459F16F6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25D7-F4FE-4DA0-AA4A-C4D57854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19DAB-8F83-4C9C-A89E-A7F7EB1B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165EE-A6DF-4D7D-A15A-6892DE1E7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D78036-5EC5-4FF0-90EF-E607EA8E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BB243-45CF-4EC8-8043-2026E054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8AE02-4C4C-4A9B-B2FE-B5B330443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F49A2-6C94-4BF3-B4FF-FF064A3E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BA857-4F5F-4EE1-9E48-401779C38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1C5FF-3ABB-475E-91C6-24DA89B05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01C9E-40CC-4CD0-8AE1-6F554D1D6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7529-FFE7-412A-9BB9-C71AD186F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9CE-C6C5-4894-A977-11F68B1F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2A47-BADE-4BBC-BDA2-4835F2FD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1EB7-9A4F-4998-B0FB-A324BC8B6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1532-D282-47E4-9363-F1696039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5655E-6C8D-4843-9431-5FB5E69782B1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reptunghi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reptunghi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reptunghi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reptunghi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reptunghi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reptunghi rotunjit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reptunghi rotunjit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reptunghi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reptunghi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reptunghi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reptunghi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20D02-C4C2-433C-8668-696985A2BABA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97645-F895-4CB7-A61B-ACECCB485F51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0E953-2F56-4822-95CE-5BCFEDB106AC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F:\Tic\computer1.gif"/>
          <p:cNvPicPr/>
          <p:nvPr/>
        </p:nvPicPr>
        <p:blipFill>
          <a:blip r:embed="rId1"/>
          <a:stretch/>
        </p:blipFill>
        <p:spPr>
          <a:xfrm>
            <a:off x="2143080" y="4143240"/>
            <a:ext cx="3143160" cy="2594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968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Hogyan oldunk meg gyorsan egy csomó sz</a:t>
            </a:r>
            <a:r>
              <a:rPr b="0" lang="hu-HU" sz="4400" spc="-1" strike="noStrike">
                <a:solidFill>
                  <a:srgbClr val="ffffff"/>
                </a:solidFill>
                <a:latin typeface="Trebuchet MS"/>
              </a:rPr>
              <a:t>ámítást?”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858080" y="5759280"/>
            <a:ext cx="1285920" cy="1098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35712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4.HA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38086"/>
                </a:solidFill>
                <a:latin typeface="Georgia"/>
              </a:rPr>
              <a:t>Más értéket ad vissza, ha a megadott feltétel kiértékelésének eredménye IGAZ, és másikat, ha HAMIS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Logikai_vizsgálat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Tetszőleges érték vagy kifejezés, amely kiértékeléskor IGAZ vagy HAMIS eredményt ad. Például az A10=100 logikai kifejezés, amely kiértékeléskor IGAZ értéket ad, ha az A10 cella tartalma 100, minden más esetben az eredmény a HAMIS érték. Az argumentumban tetszőleges összehasonlító operátor használható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Érték_ha_igaz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Ezt az értéket adja a függvény eredményül, ha a logikai_vizsgálat eredménye IGAZ. Ha például az argumentum értéke "Költségvetésen belül", és a logikai_vizsgálat eredménye IGAZ, akkor a HA függvény a "Költségvetésen belül" szöveget jeleníti meg. Ha a logikai_vizsgálat IGAZ és az érték_ha_igaz üresen hagyott, a visszatérési érték 0 (nulla) lesz. Az IGAZ szó megjelenítéséhez használjuk az IGAZ logikai értéket az argumentumban. Az érték_ha_igaz képlet is lehet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Érték_ha_hamis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Ezt az értéket adja a függvény eredményül, ha a logikai_vizsgálat eredménye HAMIS. Ha például az argumentum értéke "Költségvetésen kívül", és a logikai_vizsgálat eredménye HAMIS, akkor a HA függvény a "Költségvetésen kívül" szöveget jeleníti meg. Ha a logikai_vizsgálat HAMIS és az érték_ha_hamis nincs megadva (azaz az érték_ha_igaz után nincs pontosvessző), a visszatérési érték a HAMIS logikai érték. Ha a logikai_vizsgálat HAMIS és az érték_ha_hamis üresen hagyott (azaz az érték_ha_igaz után pontosvessző és a záró zárójel áll), a visszatérési érték 0 (nulla) lesz. Az érték_ha_hamis képlet is lehet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38086"/>
                </a:solidFill>
                <a:latin typeface="Georgia"/>
              </a:rPr>
              <a:t>	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.H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572240" y="5514840"/>
            <a:ext cx="1571760" cy="1343160"/>
          </a:xfrm>
          <a:prstGeom prst="rect">
            <a:avLst/>
          </a:prstGeom>
          <a:ln w="0">
            <a:noFill/>
          </a:ln>
        </p:spPr>
      </p:pic>
      <p:pic>
        <p:nvPicPr>
          <p:cNvPr id="253" name="Imagine 6" descr=""/>
          <p:cNvPicPr/>
          <p:nvPr/>
        </p:nvPicPr>
        <p:blipFill>
          <a:blip r:embed="rId2"/>
          <a:stretch/>
        </p:blipFill>
        <p:spPr>
          <a:xfrm>
            <a:off x="4857840" y="1500120"/>
            <a:ext cx="3828960" cy="1460520"/>
          </a:xfrm>
          <a:prstGeom prst="rect">
            <a:avLst/>
          </a:prstGeom>
          <a:ln w="0">
            <a:noFill/>
          </a:ln>
        </p:spPr>
      </p:pic>
      <p:pic>
        <p:nvPicPr>
          <p:cNvPr id="254" name="Imagine 7" descr=""/>
          <p:cNvPicPr/>
          <p:nvPr/>
        </p:nvPicPr>
        <p:blipFill>
          <a:blip r:embed="rId3"/>
          <a:stretch/>
        </p:blipFill>
        <p:spPr>
          <a:xfrm>
            <a:off x="214200" y="2857680"/>
            <a:ext cx="3357720" cy="2232000"/>
          </a:xfrm>
          <a:prstGeom prst="rect">
            <a:avLst/>
          </a:prstGeom>
          <a:ln w="0">
            <a:noFill/>
          </a:ln>
        </p:spPr>
      </p:pic>
      <p:pic>
        <p:nvPicPr>
          <p:cNvPr id="255" name="Imagine 8" descr=""/>
          <p:cNvPicPr/>
          <p:nvPr/>
        </p:nvPicPr>
        <p:blipFill>
          <a:blip r:embed="rId4"/>
          <a:stretch/>
        </p:blipFill>
        <p:spPr>
          <a:xfrm>
            <a:off x="4286160" y="3286080"/>
            <a:ext cx="4071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.IGAZ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IGAZ logikai értéket adja eredményül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3548a"/>
                </a:solidFill>
                <a:latin typeface="Georgia"/>
              </a:rPr>
              <a:t>Az IGAZ logikai érték a függvény használata nélkül is bevihető a cellákba és képletekbe egyszerűen az IGAZ érték beírásával. Az IGAZ függvényt elsősorban a többi táblázatkezelő programmal való kompatibilitás megőrzése érdekében tartalmazza a Microsoft Excel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58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000920" y="5027760"/>
            <a:ext cx="2143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6.HAM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 HAMIS logikai értéket adja eredményül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3548a"/>
                </a:solidFill>
                <a:latin typeface="Georgia"/>
              </a:rPr>
              <a:t>A függvény alkalmazása helyett egyszerűen beírhatjuk a HAMIS szót a munkalapra vagy a képletbe, a Microsoft Excel azt HAMIS logikai értékként fogja kezelni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61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638760" y="4718160"/>
            <a:ext cx="250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K</a:t>
            </a:r>
            <a:r>
              <a:rPr b="0" lang="hu-HU" sz="4000" spc="-1" strike="noStrike">
                <a:solidFill>
                  <a:srgbClr val="424456"/>
                </a:solidFill>
                <a:latin typeface="Arial"/>
              </a:rPr>
              <a:t>önyvésze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ttp://iskola.nejanet.hu/UserFiles/file/verseny/0910/k5.pdf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ttp://office.microsoft.com/hu-hu/excel-help/CH006252827.asp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http://clasa10-gasparedit.wikispaces.com - Segédanyag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429240" y="4718160"/>
            <a:ext cx="250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Készítették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alla Mariett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aricsán Norbe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irta Bernadet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Szász Baláz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 „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Cserey-Goga” Iskolacsoport Kraszna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X. B osztá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35640" y="4432320"/>
            <a:ext cx="2503440" cy="2139840"/>
          </a:xfrm>
          <a:prstGeom prst="rect">
            <a:avLst/>
          </a:prstGeom>
          <a:ln w="0">
            <a:noFill/>
          </a:ln>
        </p:spPr>
      </p:pic>
      <p:sp>
        <p:nvSpPr>
          <p:cNvPr id="219" name="CasetăText 4"/>
          <p:cNvSpPr/>
          <p:nvPr/>
        </p:nvSpPr>
        <p:spPr>
          <a:xfrm>
            <a:off x="4857840" y="15717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Foto rol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SANY5393.JPG"/>
          <p:cNvPicPr/>
          <p:nvPr/>
        </p:nvPicPr>
        <p:blipFill>
          <a:blip r:embed="rId2"/>
          <a:stretch/>
        </p:blipFill>
        <p:spPr>
          <a:xfrm>
            <a:off x="4000680" y="1500120"/>
            <a:ext cx="41576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Hogyan lehet tökéletesíteni a számításokat az Excelben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28760" y="2356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Georgia"/>
              </a:rPr>
              <a:t>Az Excel több lehetőséget nyújt a számítások tökéletesítésér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Függvények és képletek használata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Képletek másolása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Adatsorozatok használata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23" name="CasetăText 3"/>
          <p:cNvSpPr/>
          <p:nvPr/>
        </p:nvSpPr>
        <p:spPr>
          <a:xfrm>
            <a:off x="500040" y="4929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Az Excel program egy számítogépnek tekinthető, amely számtalan megoldási módot biztosí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24456"/>
                </a:solidFill>
                <a:latin typeface="Trebuchet MS"/>
              </a:rPr>
              <a:t>Milyen cellahivatkozások léteznek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á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rom fajta cellahivatkozás létezik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Relatív hivatkozas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Abszolut hivatkozás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Vegyes hivatkozá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7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Hogyan írunk be egy képletet az Excelbe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függvén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_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nev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argument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u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Argumentum:cellák, amelyek behelyettesítve jönne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715160" y="5637240"/>
            <a:ext cx="1428840" cy="1220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Az Excelben a logikai műveleteket függvényekkel valósították meg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1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ÉS(logikai_kifejezés1;logikai_kifejezés2;…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Igazat ad vissza, ha minden benne szereplő logikai kifejezés értéke igaz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2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VAGY(logikai_kifejezés1;logikai_kifejezés2;…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Igazat ad vissza, ha a paraméterként megadott bármelyik logikai kifejezés igaz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3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NEM(logikai_kifejezés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A logikai kifejezés ellentettjét adja vissza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4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HA(logikai kifejezés;érték_ha_igaz;érték_ha_hamis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Ha a logikai kifejezés igaz, akkor az első értéket (a második paramétert), egyébként a második értéket adja vissza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5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IGAZ()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 az összes argumentuma IGAZ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, akkor </a:t>
            </a: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IGAZ értéket ad vissza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6.HAMIS(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 egy vagy több argumentuma HAMIS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, akkor </a:t>
            </a: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MIS értéket ad vissza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.É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GAZ értéket ad vissza,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 az össze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gumentuma IGAZ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MIS értéket ad vissza,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 egy vagy több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gumentuma HAMI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36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643880" y="5576760"/>
            <a:ext cx="1500120" cy="1281240"/>
          </a:xfrm>
          <a:prstGeom prst="rect">
            <a:avLst/>
          </a:prstGeom>
          <a:ln w="0">
            <a:noFill/>
          </a:ln>
        </p:spPr>
      </p:pic>
      <p:pic>
        <p:nvPicPr>
          <p:cNvPr id="237" name="Imagine 5" descr=""/>
          <p:cNvPicPr/>
          <p:nvPr/>
        </p:nvPicPr>
        <p:blipFill>
          <a:blip r:embed="rId2"/>
          <a:stretch/>
        </p:blipFill>
        <p:spPr>
          <a:xfrm>
            <a:off x="4643280" y="857160"/>
            <a:ext cx="3500640" cy="2489400"/>
          </a:xfrm>
          <a:prstGeom prst="rect">
            <a:avLst/>
          </a:prstGeom>
          <a:ln w="0">
            <a:noFill/>
          </a:ln>
        </p:spPr>
      </p:pic>
      <p:pic>
        <p:nvPicPr>
          <p:cNvPr id="238" name="Imagine 6" descr=""/>
          <p:cNvPicPr/>
          <p:nvPr/>
        </p:nvPicPr>
        <p:blipFill>
          <a:blip r:embed="rId3"/>
          <a:stretch/>
        </p:blipFill>
        <p:spPr>
          <a:xfrm>
            <a:off x="4572000" y="3786120"/>
            <a:ext cx="4071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.VA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IGAZ értéket adja eredményül, ha legalább egy argumentumának értéke IGAZ; a visszatérési érték HAMIS, ha az összes argumentum értéke HAMI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41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  <p:pic>
        <p:nvPicPr>
          <p:cNvPr id="242" name="Imagine 5" descr=""/>
          <p:cNvPicPr/>
          <p:nvPr/>
        </p:nvPicPr>
        <p:blipFill>
          <a:blip r:embed="rId2"/>
          <a:stretch/>
        </p:blipFill>
        <p:spPr>
          <a:xfrm>
            <a:off x="500040" y="4214880"/>
            <a:ext cx="42148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3.N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argumentum értékének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llentettjét adja eredményül. A NEM függvényt akkor használjuk, amikor biztosítani szeretnénk, hogy egy érték egy megadott értékkel ne egyezzen meg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a az argumentum értéke HAMIS, a függvény visszatérési érték IGAZ lesz, ha az argumentum értéke IGAZ, a visszatérési érték HAMIS lesz.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45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307280" y="5289480"/>
            <a:ext cx="1836720" cy="1568520"/>
          </a:xfrm>
          <a:prstGeom prst="rect">
            <a:avLst/>
          </a:prstGeom>
          <a:ln w="0">
            <a:noFill/>
          </a:ln>
        </p:spPr>
      </p:pic>
      <p:pic>
        <p:nvPicPr>
          <p:cNvPr id="246" name="Imagine 5" descr=""/>
          <p:cNvPicPr/>
          <p:nvPr/>
        </p:nvPicPr>
        <p:blipFill>
          <a:blip r:embed="rId2"/>
          <a:srcRect l="2997" t="3814" r="40811" b="41993"/>
          <a:stretch/>
        </p:blipFill>
        <p:spPr>
          <a:xfrm>
            <a:off x="5500800" y="857160"/>
            <a:ext cx="27144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1:10:36Z</dcterms:created>
  <dc:creator>user</dc:creator>
  <dc:description/>
  <dc:language>en-US</dc:language>
  <cp:lastModifiedBy>Szasz Balazs</cp:lastModifiedBy>
  <dcterms:modified xsi:type="dcterms:W3CDTF">2010-10-11T18:40:46Z</dcterms:modified>
  <cp:revision>23</cp:revision>
  <dc:subject/>
  <dc:title>“Hogyan oldunk meg gyorsan egy csomó számítás?”</dc:title>
</cp:coreProperties>
</file>