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1.gif" ContentType="image/gif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91EF-E1F1-46D6-9752-CB90DE1CB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4C0F-9346-4C7E-BC0B-AD67A06E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B726-5D5C-4CDE-851E-F4A30138C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C771-E89E-4953-9687-63215932C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EF14C-DF3E-4904-931B-2A31D676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81A5D-DA2C-403A-87F1-73880A8E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43803-0AE8-4BA8-ADD4-B9DA5CD0A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60711-53D8-4828-82ED-CA00C321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A88A-6805-4CB6-A775-63D630DD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5572-49F9-4378-A8E6-5F9035DA0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E14A-F049-4FF4-B83C-DF5013740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1420-E609-4C40-9CFC-A0203335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B708-1EC1-4A79-8870-81112493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54F8A-BDE8-469E-938E-2AE30611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CDFF-F83C-401B-A8AA-7E6A46EC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64B50-F9E2-4844-B02E-1D111721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CFBBE-44FE-42AD-8774-DA8A3461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E1736B-53B7-473A-893B-380850117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9A8BB-79C4-440C-B1AB-3DAE5AE15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8D907F-4837-47F7-A17F-2487B115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84B39-33F4-4895-890F-7888241FA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9FA989-7C1C-4ADD-969E-6611B5BD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8DF-7C48-4B6D-B609-D7A7B482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03BFE0-C1DB-4E0A-9AB5-9106EBF18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F9A74-85DE-45EB-8B61-390B85D6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CAAA9F-4BD5-4334-A300-454E7BBE0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496F5B-E970-4BD3-873B-A6EFF344C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D2D165-62F4-458A-81F9-93A137A96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167281-C56A-4792-8F36-316BB2EF7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303A59-0E8F-415F-AC88-6E746C97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410FE-9DF4-45D1-A78A-E6F8148C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E7E53-4B5E-4340-BF1A-46CA34403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9162C-852F-4E66-A9B5-9CD4BB92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02A0-22E5-4D31-82B5-B6257BC73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CFF07-FFB5-4C1D-823F-FBED159E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ABC1F-6AEB-4598-9558-428CA97F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FB9D-98E0-42CF-8D32-AD12E286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A0BF9-653C-4ADD-A1CD-D886C662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0C16D-06A7-4192-B15B-35504EB9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32063-2D38-4E77-A9DC-27D2D90A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8006D-7A22-4C3D-8294-D1D172972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6B36F-EA4D-4490-94D1-D2F76F344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96A2A-711C-41CC-8F7E-859D7DFF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2A6E-4471-482E-A7F4-4720BE9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9514-07C6-47E5-869C-817B34CC7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2A02-A478-44EC-A9C1-9837F98D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19DE-0B98-4309-9931-C5AFA465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C37-81C9-4A10-AAF8-385DD197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9E98-6BC5-4B58-8E35-A6EE727CF645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reptunghi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Dreptunghi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reptunghi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reptunghi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Dreptunghi rotunjit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reptunghi rotunjit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reptunghi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Dreptunghi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reptunghi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Dreptunghi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D1F09-F642-4B69-896B-9102D76F77B9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8A45-484D-4D96-9E60-CDFC23A4D917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reptunghi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reptunghi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Dreptunghi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Dreptunghi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reptunghi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Dreptunghi rotunjit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Dreptunghi rotunjit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Dreptunghi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reptunghi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reptunghi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Dreptunghi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Dreptunghi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Dreptunghi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B2C4-D1E4-4222-923F-7420CE7D2C4B}" type="slidenum">
              <a:rPr b="0" lang="ro-RO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F:\Tic\computer1.gif"/>
          <p:cNvPicPr/>
          <p:nvPr/>
        </p:nvPicPr>
        <p:blipFill>
          <a:blip r:embed="rId1"/>
          <a:stretch/>
        </p:blipFill>
        <p:spPr>
          <a:xfrm>
            <a:off x="2143080" y="4143240"/>
            <a:ext cx="3143160" cy="259416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9680" y="1500120"/>
            <a:ext cx="84582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ro-RO" sz="4400" spc="-1" strike="noStrike">
                <a:solidFill>
                  <a:srgbClr val="ffffff"/>
                </a:solidFill>
                <a:latin typeface="Trebuchet MS"/>
              </a:rPr>
              <a:t>Hogyan oldunk meg gyorsan egy csomó sz</a:t>
            </a:r>
            <a:r>
              <a:rPr b="0" lang="hu-HU" sz="4400" spc="-1" strike="noStrike">
                <a:solidFill>
                  <a:srgbClr val="ffffff"/>
                </a:solidFill>
                <a:latin typeface="Trebuchet MS"/>
              </a:rPr>
              <a:t>ámítást?”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858080" y="5759280"/>
            <a:ext cx="1285920" cy="10987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35712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Más értéket ad vissza, ha a megadott feltétel kiértékelésének eredménye IGAZ, és másikat, ha HAMIS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Logikai_vizsgálat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Tetszőleges érték vagy kifejezés, amely kiértékeléskor IGAZ vagy HAMIS eredményt ad. Például az A10=100 logikai kifejezés, amely kiértékeléskor IGAZ értéket ad, ha az A10 cella tartalma 100, minden más esetben az eredmény a HAMIS érték. Az argumentumban tetszőleges összehasonlító operátor használható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igaz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IGAZ. Ha például az argumentum értéke "Költségvetésen belül", és a logikai_vizsgálat eredménye IGAZ, akkor a HA függvény a "Költségvetésen belül" szöveget jeleníti meg. Ha a logikai_vizsgálat IGAZ és az érték_ha_igaz üresen hagyott, a visszatérési érték 0 (nulla) lesz. Az IGAZ szó megjelenítéséhez használjuk az IGAZ logikai értéket az argumentumban. Az érték_ha_igaz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438086"/>
                </a:solidFill>
                <a:latin typeface="Georgia"/>
              </a:rPr>
              <a:t>Érték_ha_hamis:</a:t>
            </a:r>
            <a:r>
              <a:rPr b="0" lang="hu-HU" sz="1500" spc="-1" strike="noStrike">
                <a:solidFill>
                  <a:srgbClr val="438086"/>
                </a:solidFill>
                <a:latin typeface="Georgia"/>
              </a:rPr>
              <a:t>     Ezt az értéket adja a függvény eredményül, ha a logikai_vizsgálat eredménye HAMIS. Ha például az argumentum értéke "Költségvetésen kívül", és a logikai_vizsgálat eredménye HAMIS, akkor a HA függvény a "Költségvetésen kívül" szöveget jeleníti meg. Ha a logikai_vizsgálat HAMIS és az érték_ha_hamis nincs megadva (azaz az érték_ha_igaz után nincs pontosvessző), a visszatérési érték a HAMIS logikai érték. Ha a logikai_vizsgálat HAMIS és az érték_ha_hamis üresen hagyott (azaz az érték_ha_igaz után pontosvessző és a záró zárójel áll), a visszatérési érték 0 (nulla) lesz. Az érték_ha_hamis képlet is lehet.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  <a:p>
            <a:pPr lvl="1" marL="644040" indent="-2412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38086"/>
                </a:solidFill>
                <a:latin typeface="Georgia"/>
              </a:rPr>
              <a:t>	</a:t>
            </a:r>
            <a:endParaRPr b="0" lang="en-US" sz="15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71680" y="21420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.H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52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572240" y="5514840"/>
            <a:ext cx="1571760" cy="1343160"/>
          </a:xfrm>
          <a:prstGeom prst="rect">
            <a:avLst/>
          </a:prstGeom>
          <a:ln w="0">
            <a:noFill/>
          </a:ln>
        </p:spPr>
      </p:pic>
      <p:pic>
        <p:nvPicPr>
          <p:cNvPr id="253" name="Imagine 6" descr=""/>
          <p:cNvPicPr/>
          <p:nvPr/>
        </p:nvPicPr>
        <p:blipFill>
          <a:blip r:embed="rId2"/>
          <a:stretch/>
        </p:blipFill>
        <p:spPr>
          <a:xfrm>
            <a:off x="4857840" y="1500120"/>
            <a:ext cx="3828960" cy="1460520"/>
          </a:xfrm>
          <a:prstGeom prst="rect">
            <a:avLst/>
          </a:prstGeom>
          <a:ln w="0">
            <a:noFill/>
          </a:ln>
        </p:spPr>
      </p:pic>
      <p:pic>
        <p:nvPicPr>
          <p:cNvPr id="254" name="Imagine 7" descr=""/>
          <p:cNvPicPr/>
          <p:nvPr/>
        </p:nvPicPr>
        <p:blipFill>
          <a:blip r:embed="rId3"/>
          <a:stretch/>
        </p:blipFill>
        <p:spPr>
          <a:xfrm>
            <a:off x="214200" y="2857680"/>
            <a:ext cx="3357720" cy="2232000"/>
          </a:xfrm>
          <a:prstGeom prst="rect">
            <a:avLst/>
          </a:prstGeom>
          <a:ln w="0">
            <a:noFill/>
          </a:ln>
        </p:spPr>
      </p:pic>
      <p:pic>
        <p:nvPicPr>
          <p:cNvPr id="255" name="Imagine 8" descr=""/>
          <p:cNvPicPr/>
          <p:nvPr/>
        </p:nvPicPr>
        <p:blipFill>
          <a:blip r:embed="rId4"/>
          <a:stretch/>
        </p:blipFill>
        <p:spPr>
          <a:xfrm>
            <a:off x="4286160" y="3286080"/>
            <a:ext cx="40719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5.IGAZ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z IGAZ logikai érték a függvény használata nélkül is bevihető a cellákba és képletekbe egyszerűen az IGAZ érték beírásával. Az IGAZ függvényt elsősorban a többi táblázatkezelő programmal való kompatibilitás megőrzése érdekében tartalmazza a Microsoft Excel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5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000920" y="5027760"/>
            <a:ext cx="2143080" cy="18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6.HAMI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 HAMIS logikai értéket adja eredményül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53548a"/>
                </a:solidFill>
                <a:latin typeface="Georgia"/>
              </a:rPr>
              <a:t>A függvény alkalmazása helyett egyszerűen beírhatjuk a HAMIS szót a munkalapra vagy a képletbe, a Microsoft Excel azt HAMIS logikai értékként fogja kezelni.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6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63876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</a:t>
            </a:r>
            <a:r>
              <a:rPr b="0" lang="hu-HU" sz="4000" spc="-1" strike="noStrike">
                <a:solidFill>
                  <a:srgbClr val="424456"/>
                </a:solidFill>
                <a:latin typeface="Arial"/>
              </a:rPr>
              <a:t>önyvésze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iskola.nejanet.hu/UserFiles/file/verseny/0910/k5.pdf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ttp://office.microsoft.com/hu-hu/excel-help/CH006252827.aspx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http://clasa10-gasparedit.wikispaces.com - Segédanyagok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6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429240" y="4718160"/>
            <a:ext cx="25052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Készítették: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lla Mariett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aricsán Norber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Birta Bernadet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Szász Baláz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 „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Cserey-Goga” Iskolacsoport Kraszna 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X. B osztá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8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35640" y="4432320"/>
            <a:ext cx="2503440" cy="2139840"/>
          </a:xfrm>
          <a:prstGeom prst="rect">
            <a:avLst/>
          </a:prstGeom>
          <a:ln w="0">
            <a:noFill/>
          </a:ln>
        </p:spPr>
      </p:pic>
      <p:sp>
        <p:nvSpPr>
          <p:cNvPr id="219" name="CasetăText 4"/>
          <p:cNvSpPr/>
          <p:nvPr/>
        </p:nvSpPr>
        <p:spPr>
          <a:xfrm>
            <a:off x="4857840" y="15717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Foto rolu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8" descr="SANY5393.JPG"/>
          <p:cNvPicPr/>
          <p:nvPr/>
        </p:nvPicPr>
        <p:blipFill>
          <a:blip r:embed="rId2"/>
          <a:stretch/>
        </p:blipFill>
        <p:spPr>
          <a:xfrm>
            <a:off x="4000680" y="1500120"/>
            <a:ext cx="4157640" cy="21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lehet tökéletesíteni a számításokat az Excelben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28760" y="2356920"/>
            <a:ext cx="8229600" cy="24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Georgia"/>
              </a:rPr>
              <a:t>Az Excel több lehetőséget nyújt a számítások tökéletesítésére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Függvények és képletek használat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Képletek másolása</a:t>
            </a: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;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38086"/>
                </a:solidFill>
                <a:latin typeface="Georgia"/>
              </a:rPr>
              <a:t>Adatsorozatok használata.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  <p:sp>
        <p:nvSpPr>
          <p:cNvPr id="223" name="CasetăText 3"/>
          <p:cNvSpPr/>
          <p:nvPr/>
        </p:nvSpPr>
        <p:spPr>
          <a:xfrm>
            <a:off x="500040" y="4929120"/>
            <a:ext cx="59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 program egy számítogépnek tekinthető, amely számtalan megoldási módot biztosí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424456"/>
                </a:solidFill>
                <a:latin typeface="Trebuchet MS"/>
              </a:rPr>
              <a:t>Milyen cellahivatkozások léteznek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H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á</a:t>
            </a:r>
            <a:r>
              <a:rPr b="0" lang="ro-RO" sz="2800" spc="-1" strike="noStrike">
                <a:solidFill>
                  <a:srgbClr val="000000"/>
                </a:solidFill>
                <a:latin typeface="Georgia"/>
              </a:rPr>
              <a:t>rom fajta cellahivatkozás létezik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Relatív hivatkoza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Abszolut hivatkozás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438086"/>
                </a:solidFill>
                <a:latin typeface="Georgia"/>
              </a:rPr>
              <a:t>Vegyes hivatkozá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27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600" spc="-1" strike="noStrike">
                <a:solidFill>
                  <a:srgbClr val="424456"/>
                </a:solidFill>
                <a:latin typeface="Trebuchet MS"/>
              </a:rPr>
              <a:t>Hogyan írunk be egy képletet az Excelbe?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függvény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_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neve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argument</a:t>
            </a: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u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Georgia"/>
              </a:rPr>
              <a:t>Argumentum:cellák, amelyek behelyettesítve jönnek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30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715160" y="5637240"/>
            <a:ext cx="1428840" cy="12207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Georgia"/>
              </a:rPr>
              <a:t>Az Excelben a logikai műveleteket függvényekkel valósították meg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1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ÉS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minden benne szereplő logikai kifejezés értéke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2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VAGY(logikai_kifejezés1;logikai_kifejezés2;…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Igazat ad vissza, ha a paraméterként megadott bármelyik logikai kifejezés igaz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3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NEM(logikai_kifejezé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A logikai kifejezés ellentettjét adja vissza. 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4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HA(logikai kifejezés;érték_ha_igaz;érték_ha_hamis) 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53548a"/>
                </a:solidFill>
                <a:latin typeface="Georgia"/>
              </a:rPr>
              <a:t>Ha a logikai kifejezés igaz, akkor az első értéket (a második paramétert), egyébként a második értéket adja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1800" spc="-1" strike="noStrike">
                <a:solidFill>
                  <a:srgbClr val="438086"/>
                </a:solidFill>
                <a:latin typeface="Georgia"/>
              </a:rPr>
              <a:t>5.</a:t>
            </a:r>
            <a:r>
              <a:rPr b="0" lang="hu-HU" sz="1800" spc="-1" strike="noStrike">
                <a:solidFill>
                  <a:srgbClr val="438086"/>
                </a:solidFill>
                <a:latin typeface="Georgia"/>
              </a:rPr>
              <a:t>IGAZ()</a:t>
            </a:r>
            <a:endParaRPr b="0" lang="en-US" sz="18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az összes argumentuma IGAZ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IGAZ értéket ad vissza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6.HAMIS(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 egy vagy több argumentuma HAMIS</a:t>
            </a:r>
            <a:r>
              <a:rPr b="0" lang="en-US" sz="1800" spc="-1" strike="noStrike">
                <a:solidFill>
                  <a:srgbClr val="53548a"/>
                </a:solidFill>
                <a:latin typeface="Georgia"/>
              </a:rPr>
              <a:t>, akkor </a:t>
            </a:r>
            <a:r>
              <a:rPr b="0" lang="ro-RO" sz="1800" spc="-1" strike="noStrike">
                <a:solidFill>
                  <a:srgbClr val="53548a"/>
                </a:solidFill>
                <a:latin typeface="Georgia"/>
              </a:rPr>
              <a:t>HAMIS értéket ad vissza.</a:t>
            </a: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571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150012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.É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IGAZ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az összes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IGAZ;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MIS értéket ad vissza,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ha egy vagy több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rgumentuma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36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643880" y="5576760"/>
            <a:ext cx="1500120" cy="1281240"/>
          </a:xfrm>
          <a:prstGeom prst="rect">
            <a:avLst/>
          </a:prstGeom>
          <a:ln w="0">
            <a:noFill/>
          </a:ln>
        </p:spPr>
      </p:pic>
      <p:pic>
        <p:nvPicPr>
          <p:cNvPr id="237" name="Imagine 5" descr=""/>
          <p:cNvPicPr/>
          <p:nvPr/>
        </p:nvPicPr>
        <p:blipFill>
          <a:blip r:embed="rId2"/>
          <a:stretch/>
        </p:blipFill>
        <p:spPr>
          <a:xfrm>
            <a:off x="4643280" y="857160"/>
            <a:ext cx="3500640" cy="2489400"/>
          </a:xfrm>
          <a:prstGeom prst="rect">
            <a:avLst/>
          </a:prstGeom>
          <a:ln w="0">
            <a:noFill/>
          </a:ln>
        </p:spPr>
      </p:pic>
      <p:pic>
        <p:nvPicPr>
          <p:cNvPr id="238" name="Imagine 6" descr=""/>
          <p:cNvPicPr/>
          <p:nvPr/>
        </p:nvPicPr>
        <p:blipFill>
          <a:blip r:embed="rId3"/>
          <a:stretch/>
        </p:blipFill>
        <p:spPr>
          <a:xfrm>
            <a:off x="4572000" y="3786120"/>
            <a:ext cx="40719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.VAG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IGAZ értéket adja eredményül, ha legalább egy argumentumának értéke IGAZ; a visszatérési érték HAMIS, ha az összes argumentum értéke HAMIS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  <p:pic>
        <p:nvPicPr>
          <p:cNvPr id="241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6357960" y="4429080"/>
            <a:ext cx="2504880" cy="2139840"/>
          </a:xfrm>
          <a:prstGeom prst="rect">
            <a:avLst/>
          </a:prstGeom>
          <a:ln w="0">
            <a:noFill/>
          </a:ln>
        </p:spPr>
      </p:pic>
      <p:pic>
        <p:nvPicPr>
          <p:cNvPr id="242" name="Imagine 5" descr=""/>
          <p:cNvPicPr/>
          <p:nvPr/>
        </p:nvPicPr>
        <p:blipFill>
          <a:blip r:embed="rId2"/>
          <a:stretch/>
        </p:blipFill>
        <p:spPr>
          <a:xfrm>
            <a:off x="500040" y="4214880"/>
            <a:ext cx="421488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6426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424456"/>
                </a:solidFill>
                <a:latin typeface="Trebuchet MS"/>
              </a:rPr>
              <a:t>Logikai függvények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.NE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Az argumentum értékének 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llentettjét adja eredményül. A NEM függvényt akkor használjuk, amikor biztosítani szeretnénk, hogy egy érték egy megadott értékkel ne egyezzen meg.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Ha az argumentum értéke HAMIS, a függvény visszatérési érték IGAZ lesz, ha az argumentum értéke IGAZ, a visszatérési érték HAMIS lesz.</a:t>
            </a:r>
            <a:r>
              <a:rPr b="0" lang="en-US" sz="2400" spc="-1" strike="noStrike">
                <a:solidFill>
                  <a:srgbClr val="53548a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53548a"/>
              </a:solidFill>
              <a:latin typeface="Georgia"/>
            </a:endParaRPr>
          </a:p>
        </p:txBody>
      </p:sp>
      <p:pic>
        <p:nvPicPr>
          <p:cNvPr id="245" name="Picture 2" descr="F:\Tic\bigstockphoto_Happy_Computer_4068264%20copy.png"/>
          <p:cNvPicPr/>
          <p:nvPr/>
        </p:nvPicPr>
        <p:blipFill>
          <a:blip r:embed="rId1"/>
          <a:stretch/>
        </p:blipFill>
        <p:spPr>
          <a:xfrm>
            <a:off x="7307280" y="5289480"/>
            <a:ext cx="1836720" cy="1568520"/>
          </a:xfrm>
          <a:prstGeom prst="rect">
            <a:avLst/>
          </a:prstGeom>
          <a:ln w="0">
            <a:noFill/>
          </a:ln>
        </p:spPr>
      </p:pic>
      <p:pic>
        <p:nvPicPr>
          <p:cNvPr id="246" name="Imagine 5" descr=""/>
          <p:cNvPicPr/>
          <p:nvPr/>
        </p:nvPicPr>
        <p:blipFill>
          <a:blip r:embed="rId2"/>
          <a:srcRect l="2997" t="3814" r="40811" b="41993"/>
          <a:stretch/>
        </p:blipFill>
        <p:spPr>
          <a:xfrm>
            <a:off x="5500800" y="857160"/>
            <a:ext cx="271440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1:10:36Z</dcterms:created>
  <dc:creator>user</dc:creator>
  <dc:description/>
  <dc:language>en-US</dc:language>
  <cp:lastModifiedBy>Szasz Balazs</cp:lastModifiedBy>
  <dcterms:modified xsi:type="dcterms:W3CDTF">2010-10-11T18:40:46Z</dcterms:modified>
  <cp:revision>23</cp:revision>
  <dc:subject/>
  <dc:title>“Hogyan oldunk meg gyorsan egy csomó számítás?”</dc:title>
</cp:coreProperties>
</file>