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5D8-9F8A-4554-98C9-4F956022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6CD-1E48-4277-8FA3-055978EC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9AC-1D9B-476B-BF82-32B0847A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D57-26AF-4BAC-AC31-53C1A96D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7F5-0C1B-4720-8E58-45F51E84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610-417C-4D95-B93E-E0431EBA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009-6527-4EF7-92C5-26F1BEC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0990-4CBD-4008-A6B6-E378BD5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57F-F335-4123-91A2-26F602B1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DE6-7919-403C-B0A5-DC4157E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19C7-3CAA-4472-B064-60CE87CA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6DA-A719-40E0-B457-141F54A9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9EC9-2BA2-4616-B230-1D7678F3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74D6-733D-41C3-9B87-E9D2DB3C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C0F9-6DA3-4896-B60B-E2FA359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DC23-E8C7-49C1-A408-95C4ADD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CBFF-93D6-4E53-8F85-CF5B0B8C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5BB07-08FA-4A2A-AB6C-3AA6F3B3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F0F9F-3ED9-4AE0-8D5A-CFEE62A0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11F9B-745B-470D-B1AC-4C8DAFD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9F7BD-F738-4B7F-9657-C2F8734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E99B0-6AD6-49FC-BEA1-47FDB1E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602-EE7F-462B-B0E1-CF85765C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A7F59-9BC0-4D76-BFB3-041249C2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1E357-AD6B-4802-AEE8-1D22B58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5A89A-DF98-4AF5-A56A-96E1221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6C987-14BF-40AE-A87F-3A9E6F76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E9DF9-C00E-49C5-AFCE-44A4DB39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3DEF9-CEFF-42F5-9BA5-20C064FA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0CB69-8F06-43AE-84BC-C73F3CCC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C7DB-8F73-4BD2-824C-EE0EE0D2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180D-AC74-43B4-BEFA-2F73DEEF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C1104-6A44-4DEA-841D-7B1BDDBB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7B2-2B4A-45EA-BF49-AC563091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FC72-7525-4A63-9C58-0B5CCE88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678D-CDBB-443B-B2E6-EB1CC9B0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5DB9-ECD6-45BD-976B-062FBBFA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393B-4F5A-4257-9B09-8BDCA92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01AA-F621-4C55-B1D1-D44B0D1F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0907-4995-40F6-910D-7BECAED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4776-9B4A-4112-B47E-00D75F9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D0C5-4947-465D-8983-8465D36F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7CA22-A388-4442-BE44-0AA00583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966-83AB-43E2-A44F-6E4F9983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538-A801-441C-91AD-726843B8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CBE-7578-493D-B968-ED39AA28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390-AF67-4421-9397-B38ACF7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4BA-95BD-48CB-9A3A-2DC0753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250-0C28-48F7-AD14-0CBF5AF2E310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D5BE-F332-4CEC-B9CE-C5C417849A7A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803-32C4-4385-8E96-1A3FA977347C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8EA-D1FA-4F80-9A8C-2F9C03FC2254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  <p:pic>
        <p:nvPicPr>
          <p:cNvPr id="253" name="Imagine 6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3828960" cy="1460520"/>
          </a:xfrm>
          <a:prstGeom prst="rect">
            <a:avLst/>
          </a:prstGeom>
          <a:ln w="0">
            <a:noFill/>
          </a:ln>
        </p:spPr>
      </p:pic>
      <p:pic>
        <p:nvPicPr>
          <p:cNvPr id="254" name="Imagine 7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335772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ine 8" descr=""/>
          <p:cNvPicPr/>
          <p:nvPr/>
        </p:nvPicPr>
        <p:blipFill>
          <a:blip r:embed="rId4"/>
          <a:stretch/>
        </p:blipFill>
        <p:spPr>
          <a:xfrm>
            <a:off x="4286160" y="3286080"/>
            <a:ext cx="4071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  <p:pic>
        <p:nvPicPr>
          <p:cNvPr id="237" name="Imagine 5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500640" cy="2489400"/>
          </a:xfrm>
          <a:prstGeom prst="rect">
            <a:avLst/>
          </a:prstGeom>
          <a:ln w="0">
            <a:noFill/>
          </a:ln>
        </p:spPr>
      </p:pic>
      <p:pic>
        <p:nvPicPr>
          <p:cNvPr id="238" name="Imagine 6" descr=""/>
          <p:cNvPicPr/>
          <p:nvPr/>
        </p:nvPicPr>
        <p:blipFill>
          <a:blip r:embed="rId3"/>
          <a:stretch/>
        </p:blipFill>
        <p:spPr>
          <a:xfrm>
            <a:off x="4572000" y="3786120"/>
            <a:ext cx="4071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2" name="Imagine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214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5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6" name="Imagine 5" descr=""/>
          <p:cNvPicPr/>
          <p:nvPr/>
        </p:nvPicPr>
        <p:blipFill>
          <a:blip r:embed="rId2"/>
          <a:srcRect l="2997" t="3814" r="40811" b="41993"/>
          <a:stretch/>
        </p:blipFill>
        <p:spPr>
          <a:xfrm>
            <a:off x="5500800" y="857160"/>
            <a:ext cx="27144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Szasz Balazs</cp:lastModifiedBy>
  <dcterms:modified xsi:type="dcterms:W3CDTF">2010-10-11T18:40:46Z</dcterms:modified>
  <cp:revision>23</cp:revision>
  <dc:subject/>
  <dc:title>“Hogyan oldunk meg gyorsan egy csomó számítás?”</dc:title>
</cp:coreProperties>
</file>