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3BCE-1ABE-4E21-83CE-E9AE5E3A4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8F90-BC36-4977-84A6-3C8FAE19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A5F9-DF68-470C-8935-4E6BC448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E2E5-5C08-4A3E-82D4-5D110E791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58E5-C422-4D7F-BC57-629177FF6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4B6DA-2DD8-4B92-B192-1C83B3A79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91B7-E1AF-4550-AFDF-07B7E2DD8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7491C-C37C-401F-978A-D11AA0AD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68858-49A7-4166-88FF-A3E0197F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B85A3-2E5B-40F8-8820-DBC34078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DE464-1426-40AD-9B35-F2FA99DF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0624-8038-4CF5-AA8C-75F27CD2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5D58-F926-4C5B-AB44-673EBBA88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0ED00-0A72-4AA1-8654-F6C31813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C81E-31B5-4332-ABEC-9BB0B0A4F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E9057-65DA-4305-A3EB-63B47B713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223C4-223A-4A29-B962-F242AC0AA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2B45-D444-425C-9BB7-A320C1DD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8C0CA-AA96-4830-A64E-EB34092D0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74D2-1478-4625-AC95-3730F040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A4C9-FC89-4EFE-A906-2BD61A7CD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B553-B5EC-47F6-849D-2C4F8AA3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9BC4-7962-46D0-B813-BE5723BC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4875-016F-465A-8677-ED54E547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BA17-E035-450C-8DC4-27A5D38A97B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7542-52F2-428E-8942-B4C2D20DEA4A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um rezolv rapid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 gramada de calcule?”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logic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tre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căuta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inform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completeaza automat o serii de date (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ofil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complet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gener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r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mpletati numele si adresele site-urilor de resurse si inspirat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66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up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ele </a:t>
            </a:r>
            <a:r>
              <a:rPr b="0" lang="ro-RO" sz="2800" spc="-1" strike="noStrike">
                <a:solidFill>
                  <a:srgbClr val="292929"/>
                </a:solidFill>
                <a:latin typeface="Arial"/>
              </a:rPr>
              <a:t>şi prenumel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embrilor grupei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fesor </a:t>
            </a: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îndrumător: Gaspar Edi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000000"/>
                </a:solidFill>
                <a:latin typeface="Arial"/>
              </a:rPr>
              <a:t>Cum se pot optimiza calc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În programul Excel, sunt multe posibilităţi de optimizare a calculelor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formulelor şi funcţii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Copierea formule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seriilor de d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292929"/>
                </a:solidFill>
                <a:latin typeface="Arial"/>
              </a:rPr>
              <a:t>Programul Excel poate fi considerat un calculator automat, ce poate utiliza o mulţime de funcţii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Nu este necesară efectuarea repetată a calculelor, pentru că se pot “multiplica” rezultatele, prin copierea formulelo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pot referi cel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ferinţa absolută şi cea relativă, precum şi diferenţa dintre cele două referinţ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scrie o formulă în -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gulile de editare a unei formu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categoriile de funcţii disponibi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principalele categorii de funcţii dintre cele mat utiliz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matema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cinc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statis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spar Edit</cp:lastModifiedBy>
  <dcterms:modified xsi:type="dcterms:W3CDTF">2010-09-28T19:5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