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F1C3-F04D-4354-B26F-F17E2E8D4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3973-53A8-4410-80B3-B1DA392E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C6F2-6740-421D-835E-1218DD309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359E-B3E3-4CAB-9A78-7D245639B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0157-31EA-4728-B810-4A32ADE5E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6E45A-02F8-4DB5-8BDB-DC2789E1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F58D-D2E0-4791-BB94-6BBC4EF6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65C7-97BE-4996-BCE9-997A2282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FC2DA-0727-455A-8FED-E7F568E5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6D66-ED25-4ED2-9412-B4ECFDF7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2D20-F23E-471A-8FD4-DC3DBB41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359A-94F6-40BD-A030-2EE913A51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B74DC-02DD-412C-90F3-A50FF433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A2B10-F9B7-4DAD-B7E0-F45A568D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0DC6E-F42D-42F1-ABBD-9A0DF535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211F-5E58-4C7F-98FA-763966081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0A0E-6BD9-4F6F-B8FE-657A2C761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1F53-7609-47D9-AA21-52806A31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1B20-3E10-4EFC-AFC8-E4132C6C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31F8-9F1D-4431-B89E-3DC99BCB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9405-965E-4B34-A318-9A3F0A34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9F55-227A-4B49-9230-89A61934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EE6C-D1E6-4EF0-94F7-DE97D001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F6D9-C12E-477D-AE9A-EB252F84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2B73-6852-4517-A165-8593BE794490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76EF-E9B2-496A-8958-F9B799404517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2362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Cum rezolv rapid </a:t>
            </a:r>
            <a:br>
              <a:rPr sz="4000"/>
            </a:b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o gramada de calcule?”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237280" y="2540160"/>
            <a:ext cx="3754440" cy="40892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Care sunt funcţiile logice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292929"/>
                </a:solidFill>
                <a:latin typeface="Arial"/>
              </a:rPr>
              <a:t>Enumeraţi cel puţin trei funcţii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Care sunt funcţiile de căutare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292929"/>
                </a:solidFill>
                <a:latin typeface="Arial"/>
              </a:rPr>
              <a:t>Enumeraţi cel puţin două funcţii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Care sunt funcţiile de inform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292929"/>
                </a:solidFill>
                <a:latin typeface="Arial"/>
              </a:rPr>
              <a:t>Enumeraţi cel puţin două funcţii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Cum se completeaza automat o serii de date (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autofill</a:t>
            </a: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292929"/>
                </a:solidFill>
                <a:latin typeface="Arial"/>
              </a:rPr>
              <a:t>Descrieţi pe scurt modul de completar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um se genereaza sirurile numerice, dar si alte siruri( zilele saptamanii)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292929"/>
                </a:solidFill>
                <a:latin typeface="Arial"/>
              </a:rPr>
              <a:t>Descrieţi pe scurt modul de generar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urs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Completati numele si adresele site-urilor de resurse si inspiratii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66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Grupa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umele </a:t>
            </a:r>
            <a:r>
              <a:rPr b="0" lang="ro-RO" sz="2800" spc="-1" strike="noStrike">
                <a:solidFill>
                  <a:srgbClr val="292929"/>
                </a:solidFill>
                <a:latin typeface="Arial"/>
              </a:rPr>
              <a:t>şi prenumele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membrilor grupei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rofesor </a:t>
            </a:r>
            <a:r>
              <a:rPr b="0" lang="ro-RO" sz="3200" spc="-1" strike="noStrike">
                <a:solidFill>
                  <a:srgbClr val="292929"/>
                </a:solidFill>
                <a:latin typeface="Arial"/>
              </a:rPr>
              <a:t>îndrumător: Gaspar Edi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000" spc="-1" strike="noStrike">
                <a:solidFill>
                  <a:srgbClr val="000000"/>
                </a:solidFill>
                <a:latin typeface="Arial"/>
              </a:rPr>
              <a:t>Cum se pot optimiza calculele în Exc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200" spc="-1" strike="noStrike">
                <a:solidFill>
                  <a:srgbClr val="292929"/>
                </a:solidFill>
                <a:latin typeface="Arial"/>
              </a:rPr>
              <a:t>În programul Excel, sunt multe posibilităţi de optimizare a calculelor: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292929"/>
                </a:solidFill>
                <a:latin typeface="Arial"/>
              </a:rPr>
              <a:t>Utilizarea formulelor şi funcţiilo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292929"/>
                </a:solidFill>
                <a:latin typeface="Arial"/>
              </a:rPr>
              <a:t>Copierea formulelo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292929"/>
                </a:solidFill>
                <a:latin typeface="Arial"/>
              </a:rPr>
              <a:t>Utilizarea seriilor de d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292929"/>
                </a:solidFill>
                <a:latin typeface="Arial"/>
              </a:rPr>
              <a:t>Programul Excel poate fi considerat un calculator automat, ce poate utiliza o mulţime de funcţii!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635960" y="5105520"/>
            <a:ext cx="111276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429000" y="2467080"/>
            <a:ext cx="5181480" cy="43624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Cum rezolv o problema care presupune calcule repetate în Excel 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200" spc="-1" strike="noStrike">
                <a:solidFill>
                  <a:srgbClr val="292929"/>
                </a:solidFill>
                <a:latin typeface="Arial"/>
              </a:rPr>
              <a:t>Nu este necesară efectuarea repetată a calculelor, pentru că se pot “multiplica” rezultatele, prin copierea formulelor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Cum se pot referi celulele în Exc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292929"/>
                </a:solidFill>
                <a:latin typeface="Arial"/>
              </a:rPr>
              <a:t>Descrieţi referinţa absolută şi cea relativă, precum şi diferenţa dintre cele două referinţ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Cum se scrie o formulă în -Exc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292929"/>
                </a:solidFill>
                <a:latin typeface="Arial"/>
              </a:rPr>
              <a:t>Descrieţi regulile de editare a unei formul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Care sunt categoriile de funcţii disponibile în Exc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292929"/>
                </a:solidFill>
                <a:latin typeface="Arial"/>
              </a:rPr>
              <a:t>Enumeraţi principalele categorii de funcţii dintre cele mat utilizat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Arial"/>
              </a:rPr>
              <a:t>Care sunt funcţiile matemati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292929"/>
                </a:solidFill>
                <a:latin typeface="Arial"/>
              </a:rPr>
              <a:t>Enumeraţi cel puţin cinci funcţii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Arial"/>
              </a:rPr>
              <a:t>Care sunt funcţiile statisti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aspar Edit</cp:lastModifiedBy>
  <dcterms:modified xsi:type="dcterms:W3CDTF">2010-09-28T19:57:01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