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016-2670-4097-AEB0-2B41CA77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E52-5AC8-4AAF-851A-AA00494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1E8-D710-49B7-9413-4338E2DA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5AD-D94F-4650-92D9-F4756EFB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D077-4931-422A-BFD8-72D5FB4F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D242-CD83-4C6D-960E-29D37701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A55-73D9-473B-A790-D0A8569C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736C-0DFA-40E3-A7B4-8DBC6A0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5C1-1B39-4801-99D1-82182631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204-C4F1-493A-9E41-8E649FF7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8834-B443-43DC-995D-88698AE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763-26FF-4F20-8284-DBB7FBDC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EDDE-339A-443B-BBC2-C766F57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B2CE-345D-4696-BC3F-7BFA6F1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FEE-AD6A-4DFE-A785-8D985F6D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8E8-0347-489E-90D6-730FE4F0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D55-E7E1-492C-BD48-92ECED66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641-3318-4C28-88F3-13E17FC3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F36-F937-49B7-AF5B-E615C7D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78B-1A9A-408F-8D2C-6849ED11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3D8-8931-42A8-BF72-035D13A7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6A9-6EDC-4D5C-A56D-CB8E0736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C3D-D686-4B6C-A827-641418D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7EC-C781-4562-A249-A2617E8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2E5-5AA4-4426-B053-54DE81AF5BA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FBD-F1CC-430E-A57A-A308C154FAE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um rezolv rapid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 gramada de calcule?”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logic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tre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căuta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inform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completeaza automat o serii de date (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ofil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complet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gener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r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mpletati numele si adresele site-urilor de resurse si inspirat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66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up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ele </a:t>
            </a:r>
            <a:r>
              <a:rPr b="0" lang="ro-RO" sz="2800" spc="-1" strike="noStrike">
                <a:solidFill>
                  <a:srgbClr val="292929"/>
                </a:solidFill>
                <a:latin typeface="Arial"/>
              </a:rPr>
              <a:t>şi prenumel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embrilor grupei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fesor </a:t>
            </a: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îndrumător: Gaspar Edi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000000"/>
                </a:solidFill>
                <a:latin typeface="Arial"/>
              </a:rPr>
              <a:t>Cum se pot optimiza calc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În programul Excel, sunt multe posibilităţi de optimizare a calculelor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formulelor şi funcţii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Copierea formule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seriilor de d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292929"/>
                </a:solidFill>
                <a:latin typeface="Arial"/>
              </a:rPr>
              <a:t>Programul Excel poate fi considerat un calculator automat, ce poate utiliza o mulţime de funcţii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Nu este necesară efectuarea repetată a calculelor, pentru că se pot “multiplica” rezultatele, prin copierea formulelo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pot referi cel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ferinţa absolută şi cea relativă, precum şi diferenţa dintre cele două referinţ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scrie o formulă în -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gulile de editare a unei formu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categoriile de funcţii disponibi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principalele categorii de funcţii dintre cele mat utiliz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matema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cinc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statis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spar Edit</cp:lastModifiedBy>
  <dcterms:modified xsi:type="dcterms:W3CDTF">2010-09-28T19:5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