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26CB-8893-4F68-9849-83A19246D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9591-6530-44B1-B5DF-FD2A5825D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3108-9073-417F-A392-C4269DC8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B4EA-E0B4-4BEA-8291-0691A7C5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65A3-BB1E-42E5-B0B5-61441072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0C501-8FEC-4B33-9C23-959D54EA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78EB-6BCA-44A3-94D7-B2478AEC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C012-F888-473A-BE00-D0BA29EB4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97A23-FA0E-487A-8B55-CCB3C540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096A0-DF3A-4E08-9C47-12166761F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AB8A-DE17-4CBB-8204-9B2B6A94F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0C99-1CDF-4C59-844F-93BDBB38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1114-0B47-468A-B901-4EF94701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ED633-0B13-4BB5-84FA-2A483843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A625-5D75-4FF9-B652-BA2C8B8D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B700-B503-428A-A47F-86B4E7BD8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32194-2DCE-40B7-9761-4952AD14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0E4-A6AD-4ABC-AB36-FB8662ECA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921A-D4B3-49CA-915D-7F2DAA1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DD19-8BC6-42FE-95D7-438894D05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25FB-1CAB-4046-A649-217F4B43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5338-D4A8-4F98-8D07-4C77F504F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2ED1-62B7-4CFA-A4C7-6D17BC18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AE0-485F-4EA7-BDF8-9FF96A13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228D1-7505-48FF-BCAB-B0247C325E7E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A5B73-0642-4AD8-8878-7907A25A746C}" type="slidenum">
              <a:rPr b="0" lang="en-US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Cum rezolv rapid </a:t>
            </a:r>
            <a:br>
              <a:rPr sz="4000"/>
            </a:br>
            <a:r>
              <a:rPr b="1" lang="it-IT" sz="4000" spc="-1" strike="noStrike">
                <a:solidFill>
                  <a:srgbClr val="000000"/>
                </a:solidFill>
                <a:latin typeface="Arial"/>
              </a:rPr>
              <a:t>o gramada de calcule?”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logic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tre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căutar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funcţiile de informa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două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completeaza automat o serii de date (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utofill</a:t>
            </a: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complet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pe scurt modul de generar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surs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Completati numele si adresele site-urilor de resurse si inspirat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66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Grupa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Numele </a:t>
            </a:r>
            <a:r>
              <a:rPr b="0" lang="ro-RO" sz="2800" spc="-1" strike="noStrike">
                <a:solidFill>
                  <a:srgbClr val="292929"/>
                </a:solidFill>
                <a:latin typeface="Arial"/>
              </a:rPr>
              <a:t>şi prenumele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membrilor grupei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rofesor </a:t>
            </a: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îndrumător: Gaspar Edi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938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4000" spc="-1" strike="noStrike">
                <a:solidFill>
                  <a:srgbClr val="000000"/>
                </a:solidFill>
                <a:latin typeface="Arial"/>
              </a:rPr>
              <a:t>Cum se pot optimiza calc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În programul Excel, sunt multe posibilităţi de optimizare a calculelor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formulelor şi funcţii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Copierea formulelo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3" marL="1681200" indent="-385920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000" spc="-1" strike="noStrike">
                <a:solidFill>
                  <a:srgbClr val="292929"/>
                </a:solidFill>
                <a:latin typeface="Arial"/>
              </a:rPr>
              <a:t>Utilizarea seriilor de dat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spcBef>
                <a:spcPts val="700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292929"/>
                </a:solidFill>
                <a:latin typeface="Arial"/>
              </a:rPr>
              <a:t>Programul Excel poate fi considerat un calculator automat, ce poate utiliza o mulţime de funcţii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000000"/>
                </a:solidFill>
                <a:latin typeface="Arial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292929"/>
                </a:solidFill>
                <a:latin typeface="Arial"/>
              </a:rPr>
              <a:t>Nu este necesară efectuarea repetată a calculelor, pentru că se pot “multiplica” rezultatele, prin copierea formulelor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pot referi celule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ferinţa absolută şi cea relativă, precum şi diferenţa dintre cele două referinţ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um se scrie o formulă în -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Descrieţi regulile de editare a unei formul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Arial"/>
              </a:rPr>
              <a:t>Care sunt categoriile de funcţii disponibile în Exc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principalele categorii de funcţii dintre cele mat utilizat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matema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292929"/>
                </a:solidFill>
                <a:latin typeface="Arial"/>
              </a:rPr>
              <a:t>Enumeraţi cel puţin cinci funcţii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000000"/>
                </a:solidFill>
                <a:latin typeface="Arial"/>
              </a:rPr>
              <a:t>Care sunt funcţiile statisti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aspar Edit</cp:lastModifiedBy>
  <dcterms:modified xsi:type="dcterms:W3CDTF">2010-09-28T19:57:01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