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8E8C-565A-41B6-8711-C3AC1FE8D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D674-6CF4-4CD6-9759-BD65344F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5AFB-9063-4BDF-B6CB-17EE9D031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9250-8536-47DC-944D-BDE656729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27C5-99E4-4570-86E5-90220AF08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0EBF-A733-4D86-919B-0089F666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D322-AD28-4CEE-9AC0-B7E2C1B8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D581-206E-4469-973E-30ED917C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8D69-532D-4C81-927D-74CD8BF5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B21F-68AB-48E6-80D3-8B7FE6E6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1590-4DD8-4211-AD30-99AE7455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67CB-9672-415D-900C-FD073814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8BEE-A655-4B94-99BC-CD11FE53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2DF2-ADD7-4CCE-82EF-14D7E17B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16E8-145C-461B-B8CC-53CCBF90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D091-0C7D-40C4-A1B1-9B149A218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8EE8-FC9D-4152-84B6-17B79C6BD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2354-62DA-43F5-A361-93FB7185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0AEB-AD2F-4726-B309-0E5BCF87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174D-18F2-4CA7-B92D-6D68F6B0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1D21-6B24-4D23-8D04-DD0E37EA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8DAE-E5E0-475E-BCF2-69198889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1818-3DB6-49DC-846E-6679BE21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A9F7-27D8-45BC-A184-A4DF7AEE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17a8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3855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3D1F-D779-4D5C-90DA-8F50347E2489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17a8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3855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92F8-2939-4708-A067-23272B71D368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ff9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ecff"/>
                </a:solidFill>
                <a:latin typeface="Times New Roman"/>
              </a:rPr>
              <a:t>FÜGGVÉNYEK</a:t>
            </a:r>
            <a:br>
              <a:rPr sz="4800"/>
            </a:br>
            <a:r>
              <a:rPr b="1" lang="en-US" sz="4800" spc="-1" strike="noStrike">
                <a:solidFill>
                  <a:srgbClr val="ccecff"/>
                </a:solidFill>
                <a:latin typeface="Times New Roman"/>
              </a:rPr>
              <a:t>(Excel)</a:t>
            </a:r>
            <a:endParaRPr b="1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58840" y="565200"/>
            <a:ext cx="8629560" cy="6470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995640" y="3349800"/>
            <a:ext cx="144000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68360" y="1341360"/>
            <a:ext cx="662472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79640" y="4365720"/>
            <a:ext cx="5616720" cy="1008360"/>
          </a:xfrm>
          <a:prstGeom prst="rect">
            <a:avLst/>
          </a:prstGeom>
          <a:solidFill>
            <a:srgbClr val="99ff99">
              <a:alpha val="42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MAX függvén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5388120"/>
            <a:ext cx="9144000" cy="1434600"/>
          </a:xfrm>
          <a:prstGeom prst="rect">
            <a:avLst/>
          </a:prstGeom>
          <a:solidFill>
            <a:srgbClr val="ffffcc">
              <a:alpha val="78000"/>
            </a:srgbClr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Times New Roman"/>
              </a:rPr>
              <a:t>Megadja a kijelölt cellatartomány legnagyobb értéké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796000" y="1052640"/>
          <a:ext cx="2471760" cy="218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6000" y="1052640"/>
                    <a:ext cx="247176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6227640" y="2205000"/>
            <a:ext cx="719280" cy="360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5280" y="4365720"/>
            <a:ext cx="8893440" cy="916920"/>
          </a:xfrm>
          <a:prstGeom prst="rect">
            <a:avLst/>
          </a:prstGeom>
          <a:solidFill>
            <a:srgbClr val="99ff99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MAX függvény=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MAXIMU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95640" y="6281640"/>
            <a:ext cx="2952720" cy="576360"/>
          </a:xfrm>
          <a:prstGeom prst="rect">
            <a:avLst/>
          </a:prstGeom>
          <a:solidFill>
            <a:srgbClr val="99ff99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122400" y="1484280"/>
          <a:ext cx="8281800" cy="16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" y="1484280"/>
                    <a:ext cx="8281800" cy="16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imes New Roman"/>
              </a:rPr>
              <a:t>MAX függvény felépítése</a:t>
            </a:r>
            <a:endParaRPr b="1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1700280"/>
            <a:ext cx="792000" cy="9367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27480" y="3429000"/>
            <a:ext cx="7889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A függvény mindig egyenlőségjellel (=) kezdődik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1700280"/>
            <a:ext cx="2448000" cy="9367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6200000">
            <a:off x="358560" y="2600280"/>
            <a:ext cx="720720" cy="93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27480" y="4076640"/>
            <a:ext cx="2864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A függvény ne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16200000">
            <a:off x="2232000" y="2600280"/>
            <a:ext cx="72072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708360" y="1628640"/>
            <a:ext cx="324000" cy="129708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0920" y="4724280"/>
            <a:ext cx="2320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Nyitó zárój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16200000">
            <a:off x="3959280" y="2600280"/>
            <a:ext cx="72072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67280" y="1700280"/>
            <a:ext cx="3457440" cy="9367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5178600"/>
            <a:ext cx="820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függvény argumentumai egymástól kettősponttal elválasztv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58920" y="5157720"/>
            <a:ext cx="3889440" cy="576360"/>
          </a:xfrm>
          <a:prstGeom prst="rect">
            <a:avLst/>
          </a:prstGeom>
          <a:solidFill>
            <a:srgbClr val="ffffcc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572000" y="4724280"/>
            <a:ext cx="504720" cy="360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148360" y="4292640"/>
            <a:ext cx="3744720" cy="520560"/>
          </a:xfrm>
          <a:prstGeom prst="rect">
            <a:avLst/>
          </a:prstGeom>
          <a:solidFill>
            <a:srgbClr val="99ff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kijelölt cellatartomá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5688000" y="2600280"/>
            <a:ext cx="72072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04000" y="5133960"/>
            <a:ext cx="1584360" cy="576360"/>
          </a:xfrm>
          <a:prstGeom prst="rect">
            <a:avLst/>
          </a:prstGeom>
          <a:solidFill>
            <a:srgbClr val="ffffcc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64000" y="1700280"/>
            <a:ext cx="360360" cy="934920"/>
          </a:xfrm>
          <a:prstGeom prst="rect">
            <a:avLst/>
          </a:prstGeom>
          <a:solidFill>
            <a:srgbClr val="00cc00">
              <a:alpha val="45000"/>
            </a:srgbClr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96360" y="1700280"/>
            <a:ext cx="396720" cy="129708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0560" y="6237360"/>
            <a:ext cx="2239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 Záró zárój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41200" y="560520"/>
            <a:ext cx="8723520" cy="65404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995640" y="3349800"/>
            <a:ext cx="144000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68360" y="1341360"/>
            <a:ext cx="662472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979640" y="4437000"/>
            <a:ext cx="5616720" cy="1008360"/>
          </a:xfrm>
          <a:prstGeom prst="rect">
            <a:avLst/>
          </a:prstGeom>
          <a:solidFill>
            <a:srgbClr val="99ff99">
              <a:alpha val="42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MIN függvén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5445000"/>
            <a:ext cx="9144000" cy="1434600"/>
          </a:xfrm>
          <a:prstGeom prst="rect">
            <a:avLst/>
          </a:prstGeom>
          <a:solidFill>
            <a:srgbClr val="ffffcc">
              <a:alpha val="78000"/>
            </a:srgbClr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Times New Roman"/>
              </a:rPr>
              <a:t>Megadja a kijelölt cellatartomány legkisebb értéké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5796000" y="1052640"/>
          <a:ext cx="2471760" cy="218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6000" y="1052640"/>
                    <a:ext cx="247176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6227640" y="2492280"/>
            <a:ext cx="719280" cy="360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4200" y="4437000"/>
            <a:ext cx="8713800" cy="916920"/>
          </a:xfrm>
          <a:prstGeom prst="rect">
            <a:avLst/>
          </a:prstGeom>
          <a:solidFill>
            <a:srgbClr val="99ff99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MIN függvény=MINIMU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11280" y="6281640"/>
            <a:ext cx="2449800" cy="576360"/>
          </a:xfrm>
          <a:prstGeom prst="rect">
            <a:avLst/>
          </a:prstGeom>
          <a:solidFill>
            <a:srgbClr val="99ff99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0" y="1341360"/>
          <a:ext cx="8893080" cy="18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1360"/>
                    <a:ext cx="889308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MIN függvény felépítése</a:t>
            </a:r>
            <a:endParaRPr b="1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4000" y="1700280"/>
            <a:ext cx="792000" cy="9367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27480" y="3429000"/>
            <a:ext cx="7889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A függvény mindig egyenlőségjellel (=) kezdődik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87280" y="1700280"/>
            <a:ext cx="2376720" cy="9367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6200000">
            <a:off x="358560" y="2600280"/>
            <a:ext cx="720720" cy="93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27480" y="4076640"/>
            <a:ext cx="2864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A függvény ne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6200000">
            <a:off x="2232000" y="2600280"/>
            <a:ext cx="72072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635280" y="1628640"/>
            <a:ext cx="397080" cy="129708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0920" y="4724280"/>
            <a:ext cx="2320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Nyitó zárój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6200000">
            <a:off x="3959280" y="2600280"/>
            <a:ext cx="72072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067280" y="1700280"/>
            <a:ext cx="3889440" cy="9367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1280" y="5178600"/>
            <a:ext cx="820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függvény argumentumai egymástól kettősponttal elválasztv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58920" y="5157720"/>
            <a:ext cx="3889440" cy="576360"/>
          </a:xfrm>
          <a:prstGeom prst="rect">
            <a:avLst/>
          </a:prstGeom>
          <a:solidFill>
            <a:srgbClr val="ffffcc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572000" y="4724280"/>
            <a:ext cx="504720" cy="360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48360" y="4292640"/>
            <a:ext cx="3744720" cy="520560"/>
          </a:xfrm>
          <a:prstGeom prst="rect">
            <a:avLst/>
          </a:prstGeom>
          <a:solidFill>
            <a:srgbClr val="99ff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kijelölt cellatartomá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5688000" y="2600280"/>
            <a:ext cx="72072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04000" y="5133960"/>
            <a:ext cx="1584360" cy="576360"/>
          </a:xfrm>
          <a:prstGeom prst="rect">
            <a:avLst/>
          </a:prstGeom>
          <a:solidFill>
            <a:srgbClr val="ffffcc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491080" y="1700280"/>
            <a:ext cx="360360" cy="934920"/>
          </a:xfrm>
          <a:prstGeom prst="rect">
            <a:avLst/>
          </a:prstGeom>
          <a:solidFill>
            <a:srgbClr val="00cc00">
              <a:alpha val="45000"/>
            </a:srgbClr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956720" y="1700280"/>
            <a:ext cx="396720" cy="129708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10560" y="6237360"/>
            <a:ext cx="2239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 Záró zárój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A függvények segítségével egyszerű számításokat végezhetünk.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3213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379440"/>
            <a:ext cx="8713800" cy="61484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73760" y="3860640"/>
            <a:ext cx="1685880" cy="216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44720" y="1341360"/>
            <a:ext cx="604836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1341360"/>
            <a:ext cx="165708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79640" y="4365720"/>
            <a:ext cx="5616720" cy="1008360"/>
          </a:xfrm>
          <a:prstGeom prst="rect">
            <a:avLst/>
          </a:prstGeom>
          <a:solidFill>
            <a:srgbClr val="99ff99">
              <a:alpha val="42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SZUM függvén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5445000"/>
            <a:ext cx="9144000" cy="1434600"/>
          </a:xfrm>
          <a:prstGeom prst="rect">
            <a:avLst/>
          </a:prstGeom>
          <a:solidFill>
            <a:srgbClr val="ffffcc">
              <a:alpha val="78000"/>
            </a:srgbClr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Times New Roman"/>
              </a:rPr>
              <a:t>Összeadja a kijelölt cellatartomány összes értéké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4437000"/>
            <a:ext cx="8713800" cy="916920"/>
          </a:xfrm>
          <a:prstGeom prst="rect">
            <a:avLst/>
          </a:prstGeom>
          <a:solidFill>
            <a:srgbClr val="99ff99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SZUM függvény=ÖSSZE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796000" y="1052640"/>
          <a:ext cx="2471760" cy="218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6000" y="1052640"/>
                    <a:ext cx="247176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6216480" y="1339920"/>
            <a:ext cx="719280" cy="360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Függvény felépítése</a:t>
            </a:r>
            <a:endParaRPr b="1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28600" y="1557360"/>
          <a:ext cx="8686800" cy="149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57360"/>
                    <a:ext cx="8686800" cy="1492200"/>
                  </a:xfrm>
                  <a:prstGeom prst="rect">
                    <a:avLst/>
                  </a:prstGeom>
                  <a:ln w="76320">
                    <a:solidFill>
                      <a:srgbClr val="0066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395280" y="1700280"/>
            <a:ext cx="792000" cy="9367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7480" y="3429000"/>
            <a:ext cx="7889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A függvény mindig egyenlőségjellel (=) kezdődik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87280" y="1700280"/>
            <a:ext cx="2881440" cy="9367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6200000">
            <a:off x="358560" y="2600280"/>
            <a:ext cx="720720" cy="93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27480" y="4076640"/>
            <a:ext cx="2864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A függvény ne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232000" y="2600280"/>
            <a:ext cx="72072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75280" y="1700280"/>
            <a:ext cx="396720" cy="129708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0920" y="4724280"/>
            <a:ext cx="2320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Nyitó zárój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3959280" y="2600280"/>
            <a:ext cx="72072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1700280"/>
            <a:ext cx="3456000" cy="9367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5178600"/>
            <a:ext cx="820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függvény argumentumai egymástól kettősponttal elválasztv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58920" y="5157720"/>
            <a:ext cx="3889440" cy="576360"/>
          </a:xfrm>
          <a:prstGeom prst="rect">
            <a:avLst/>
          </a:prstGeom>
          <a:solidFill>
            <a:srgbClr val="ffffcc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572000" y="4724280"/>
            <a:ext cx="504720" cy="360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48360" y="4292640"/>
            <a:ext cx="3744720" cy="520560"/>
          </a:xfrm>
          <a:prstGeom prst="rect">
            <a:avLst/>
          </a:prstGeom>
          <a:solidFill>
            <a:srgbClr val="99ff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kijelölt cellatartomá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5688000" y="2600280"/>
            <a:ext cx="72072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04000" y="5133960"/>
            <a:ext cx="1584360" cy="576360"/>
          </a:xfrm>
          <a:prstGeom prst="rect">
            <a:avLst/>
          </a:prstGeom>
          <a:solidFill>
            <a:srgbClr val="ffffcc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0" y="1700280"/>
            <a:ext cx="360360" cy="934920"/>
          </a:xfrm>
          <a:prstGeom prst="rect">
            <a:avLst/>
          </a:prstGeom>
          <a:solidFill>
            <a:srgbClr val="00cc00">
              <a:alpha val="45000"/>
            </a:srgbClr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028000" y="1700280"/>
            <a:ext cx="396720" cy="129708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0560" y="6237360"/>
            <a:ext cx="2239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 Záró zárój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ra a cellára kattintok, amelyikben látni szeretném az eredmény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Függvény beszúrás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620720" y="2603520"/>
            <a:ext cx="5904000" cy="42544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172040" y="3517920"/>
            <a:ext cx="936360" cy="214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79680" y="3087720"/>
            <a:ext cx="936360" cy="214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620720" y="2603520"/>
            <a:ext cx="5904000" cy="42544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választom az eszközsoron a megfelelő függvény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0" y="2943360"/>
          <a:ext cx="620640" cy="59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2943360"/>
                    <a:ext cx="62064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45720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Függvény beszúrás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924280"/>
            <a:ext cx="287280" cy="217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16360" y="3214800"/>
            <a:ext cx="505080" cy="214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659640" y="2133720"/>
          <a:ext cx="1008000" cy="971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59640" y="2133720"/>
                    <a:ext cx="100800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6672240" y="2133720"/>
          <a:ext cx="2471760" cy="2189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672240" y="2133720"/>
                    <a:ext cx="247176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7093080" y="2421000"/>
            <a:ext cx="718920" cy="360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8"/>
          <a:stretch/>
        </p:blipFill>
        <p:spPr>
          <a:xfrm>
            <a:off x="1619280" y="2637000"/>
            <a:ext cx="590544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403280" y="2225520"/>
            <a:ext cx="6481800" cy="4632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jelölöm a cellatartomány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Függvény beszúrás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843280" y="4221000"/>
            <a:ext cx="1008000" cy="2087640"/>
            <a:chOff x="2843280" y="4221000"/>
            <a:chExt cx="1008000" cy="2087640"/>
          </a:xfrm>
        </p:grpSpPr>
        <p:sp>
          <p:nvSpPr>
            <p:cNvPr id="182" name=""/>
            <p:cNvSpPr/>
            <p:nvPr/>
          </p:nvSpPr>
          <p:spPr>
            <a:xfrm>
              <a:off x="2859120" y="4221000"/>
              <a:ext cx="0" cy="2087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27520" y="4221000"/>
              <a:ext cx="0" cy="2087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843280" y="4221000"/>
              <a:ext cx="1008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332000" y="2131920"/>
            <a:ext cx="655308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Entert nyom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Függvény beszúrás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692360" y="2151000"/>
            <a:ext cx="6276960" cy="4707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flipH="1" flipV="1">
            <a:off x="5219640" y="4365720"/>
            <a:ext cx="216000" cy="358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356000" y="4797360"/>
            <a:ext cx="4103640" cy="520560"/>
          </a:xfrm>
          <a:prstGeom prst="rect">
            <a:avLst/>
          </a:prstGeom>
          <a:solidFill>
            <a:srgbClr val="99ff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megjelenik az eredmé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lenőrzöm a szerkesztőlécen, hogy helyes-e a függvény beír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Függvény beszúrás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419120" y="2130480"/>
            <a:ext cx="6305760" cy="47275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987640" y="2708280"/>
            <a:ext cx="4753080" cy="144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04:45:31Z</dcterms:created>
  <dc:creator>Varga Zsuzsa</dc:creator>
  <dc:description/>
  <dc:language>en-US</dc:language>
  <cp:lastModifiedBy>Informatika</cp:lastModifiedBy>
  <dcterms:modified xsi:type="dcterms:W3CDTF">2007-09-12T07:20:28Z</dcterms:modified>
  <cp:revision>23</cp:revision>
  <dc:subject/>
  <dc:title>FÜGGVÉNYEK (Excel)</dc:title>
</cp:coreProperties>
</file>