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075-EFC5-4CE7-8FB2-DCC239193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97C-43C1-4927-A328-DDA6726D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3899-EC9A-4397-A6DB-92C186B51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6147-A06D-4C41-9507-AEEF2A2D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9D959-8E40-4817-8578-F2341E19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CAC3-0118-4BB3-8A31-17925C980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C9A8-DFE3-447E-921A-C1FD37132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AB592-D9AD-4190-B286-1A2D7481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76BF-4AD8-4BF1-80A7-A0AB1B27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4FC8-639B-4547-9656-21B4176EB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8C3A-450A-4427-9140-C94240A5B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D2D5-4EA7-4BF6-9099-CAB4F4B0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9567-5B24-4322-BAD4-ACB32C4D0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9EC19-91CD-41EE-80D8-7A3E2C1D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CE6E4-03AE-41D7-8D9B-BBBEFA34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A3FE7-ADDF-4158-9C3D-D29905E54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5AAFE-A242-479D-B9B9-598D7123B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9373-2D56-44C0-9575-6606C908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CAA4-3C2B-48C9-B3C4-F8E7436C5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8D76-5996-4B18-96FD-7FBC8ADF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5618-3074-47EE-8264-23402225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6A15-146D-4E21-A834-91987A7E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F61-D111-4017-B610-CA0E38EB6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48DF-45EA-460F-8673-1C25AA08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DE32-64C8-4789-9BF8-E1895FF5F57F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C583-F690-4BCC-A478-302EBC098CD7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imes New Roman"/>
              </a:rPr>
              <a:t>FÜGGVÉNYEK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(Excel)</a:t>
            </a:r>
            <a:endParaRPr b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8840" y="565200"/>
            <a:ext cx="8629560" cy="6470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995640" y="3349800"/>
            <a:ext cx="1440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68360" y="1341360"/>
            <a:ext cx="662472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36572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AX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38812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Megadja a kijelölt cellatartomány legnagyobb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227640" y="220500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280" y="4365720"/>
            <a:ext cx="889344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AX függvény=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6281640"/>
            <a:ext cx="2952720" cy="576360"/>
          </a:xfrm>
          <a:prstGeom prst="rect">
            <a:avLst/>
          </a:prstGeom>
          <a:solidFill>
            <a:srgbClr val="99ff99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0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22400" y="1484280"/>
          <a:ext cx="828180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484280"/>
                    <a:ext cx="82818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MAX függvény felépítése</a:t>
            </a: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1700280"/>
            <a:ext cx="2448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1628640"/>
            <a:ext cx="32400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67280" y="1700280"/>
            <a:ext cx="3457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400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41200" y="560520"/>
            <a:ext cx="8723520" cy="6540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995640" y="3349800"/>
            <a:ext cx="1440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1341360"/>
            <a:ext cx="662472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443700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N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44500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Megadja a kijelölt cellatartomány legkisebb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227640" y="249228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200" y="4437000"/>
            <a:ext cx="871380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 függvény=MINIMU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6281640"/>
            <a:ext cx="2449800" cy="576360"/>
          </a:xfrm>
          <a:prstGeom prst="rect">
            <a:avLst/>
          </a:prstGeom>
          <a:solidFill>
            <a:srgbClr val="99ff99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1341360"/>
          <a:ext cx="889308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89308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MIN függvény felépítése</a:t>
            </a:r>
            <a:endParaRPr b="1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1700280"/>
            <a:ext cx="237672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35280" y="1628640"/>
            <a:ext cx="39708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7280" y="1700280"/>
            <a:ext cx="3889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9108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5672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5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A függvények segítségével egyszerű számításokat végezhetünk.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379440"/>
            <a:ext cx="8713800" cy="6148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73760" y="3860640"/>
            <a:ext cx="168588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4720" y="1341360"/>
            <a:ext cx="604836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341360"/>
            <a:ext cx="165708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436572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SZUM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4500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Összeadja a kijelölt cellatartomány összes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437000"/>
            <a:ext cx="871380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ZUM függvény=ÖSSZE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216480" y="133992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felépítése</a:t>
            </a:r>
            <a:endParaRPr b="1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557360"/>
          <a:ext cx="868680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7360"/>
                    <a:ext cx="8686800" cy="1492200"/>
                  </a:xfrm>
                  <a:prstGeom prst="rect">
                    <a:avLst/>
                  </a:prstGeom>
                  <a:ln w="76320">
                    <a:solidFill>
                      <a:srgbClr val="00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9528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1700280"/>
            <a:ext cx="2881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528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700280"/>
            <a:ext cx="3456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2800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 a cellára kattintok, amelyikben látni szeretném az eredmé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20720" y="2603520"/>
            <a:ext cx="5904000" cy="4254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172040" y="3517920"/>
            <a:ext cx="93636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9680" y="3087720"/>
            <a:ext cx="93636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20720" y="2603520"/>
            <a:ext cx="5904000" cy="4254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választom az eszközsoron a megfelelő függvé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0" y="2943360"/>
          <a:ext cx="620640" cy="59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943360"/>
                    <a:ext cx="6206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924280"/>
            <a:ext cx="287280" cy="217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3214800"/>
            <a:ext cx="50508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659640" y="2133720"/>
          <a:ext cx="100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9640" y="2133720"/>
                    <a:ext cx="100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672240" y="2133720"/>
          <a:ext cx="2471760" cy="21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72240" y="213372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093080" y="2421000"/>
            <a:ext cx="7189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1619280" y="2637000"/>
            <a:ext cx="59054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03280" y="2225520"/>
            <a:ext cx="6481800" cy="4632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jelölöm a cellatartomá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43280" y="4221000"/>
            <a:ext cx="1008000" cy="2087640"/>
            <a:chOff x="2843280" y="4221000"/>
            <a:chExt cx="1008000" cy="2087640"/>
          </a:xfrm>
        </p:grpSpPr>
        <p:sp>
          <p:nvSpPr>
            <p:cNvPr id="182" name=""/>
            <p:cNvSpPr/>
            <p:nvPr/>
          </p:nvSpPr>
          <p:spPr>
            <a:xfrm>
              <a:off x="2859120" y="4221000"/>
              <a:ext cx="0" cy="208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7520" y="4221000"/>
              <a:ext cx="0" cy="208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43280" y="4221000"/>
              <a:ext cx="1008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332000" y="2131920"/>
            <a:ext cx="65530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ntert nyom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92360" y="2151000"/>
            <a:ext cx="6276960" cy="4707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 flipV="1">
            <a:off x="5219640" y="4365720"/>
            <a:ext cx="21600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4797360"/>
            <a:ext cx="410364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megjelenik az eredm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lenőrzöm a szerkesztőlécen, hogy helyes-e a függvény beír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19120" y="2130480"/>
            <a:ext cx="6305760" cy="4727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987640" y="2708280"/>
            <a:ext cx="4753080" cy="144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4:45:31Z</dcterms:created>
  <dc:creator>Varga Zsuzsa</dc:creator>
  <dc:description/>
  <dc:language>en-US</dc:language>
  <cp:lastModifiedBy>Informatika</cp:lastModifiedBy>
  <dcterms:modified xsi:type="dcterms:W3CDTF">2007-09-12T07:20:28Z</dcterms:modified>
  <cp:revision>23</cp:revision>
  <dc:subject/>
  <dc:title>FÜGGVÉNYEK (Excel)</dc:title>
</cp:coreProperties>
</file>