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B4E-2F39-48B5-9D7D-D10D0A6D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B478-27BC-4D7F-A59F-2C00F853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C175-4309-4B5E-A5BE-7570CA816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BC56-63B9-4041-8C0B-7BB0DCED2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C94B-82E8-4C66-BAF4-A0B3CBF9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B007-DE50-40D5-A395-10D069BD9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27BD6-AC49-4BA6-9258-8CA0BC15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8432-B09F-40EC-858E-CCEDC696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2007-DC07-42CF-A6A9-30781596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D43F-9C6B-4F9B-8A21-A6BD1685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E5AE4-1CB1-47DE-A1D2-C0B6A291A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9EEE-3929-42D7-A225-A1D305A1C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AAEF-8D5A-4C40-90E8-1C437936D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A82D-7850-4A20-9CB1-54F685FA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EF93E-322F-4B67-ADBE-016C92FB9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350F-B9B1-40D8-9AB4-3879A730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E9EC-94FC-4C87-9A23-59692C3F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3342-4902-4252-9B46-0043B68D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2C67-C40E-4BA8-96BB-2A2B1887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24ED-A66A-4743-A30F-AB14DA686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E6F5-A1B1-43B4-8C41-A8A9076B4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97AE-F339-4BC6-95F9-CD544700B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BF87-3066-408B-BDC3-DE6862CE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7D98-7060-48D1-BEE7-460995B8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17a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855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87A40-A902-462B-826E-34AB978F8BAC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17a8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2f2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003855"/>
                </a:gs>
                <a:gs pos="100000">
                  <a:srgbClr val="00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006699"/>
                </a:gs>
                <a:gs pos="50000">
                  <a:srgbClr val="006666"/>
                </a:gs>
                <a:gs pos="100000">
                  <a:srgbClr val="00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017a83"/>
                </a:gs>
                <a:gs pos="100000">
                  <a:srgbClr val="0066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E690-B0F4-4846-A985-F322B8E0BED1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ff9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ecff"/>
                </a:solidFill>
                <a:latin typeface="Times New Roman"/>
              </a:rPr>
              <a:t>FÜGGVÉNYEK</a:t>
            </a:r>
            <a:br>
              <a:rPr sz="4800"/>
            </a:br>
            <a:r>
              <a:rPr b="1" lang="en-US" sz="4800" spc="-1" strike="noStrike">
                <a:solidFill>
                  <a:srgbClr val="ccecff"/>
                </a:solidFill>
                <a:latin typeface="Times New Roman"/>
              </a:rPr>
              <a:t>(Excel)</a:t>
            </a:r>
            <a:endParaRPr b="1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58840" y="565200"/>
            <a:ext cx="8629560" cy="647064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995640" y="3349800"/>
            <a:ext cx="1440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68360" y="1341360"/>
            <a:ext cx="662472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79640" y="4365720"/>
            <a:ext cx="5616720" cy="1008360"/>
          </a:xfrm>
          <a:prstGeom prst="rect">
            <a:avLst/>
          </a:prstGeom>
          <a:solidFill>
            <a:srgbClr val="99ff99">
              <a:alpha val="42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AX függvén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5388120"/>
            <a:ext cx="9144000" cy="1434600"/>
          </a:xfrm>
          <a:prstGeom prst="rect">
            <a:avLst/>
          </a:prstGeom>
          <a:solidFill>
            <a:srgbClr val="ffffcc">
              <a:alpha val="78000"/>
            </a:srgbClr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Megadja a kijelölt cellatartomány legnagyobb értéké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796000" y="1052640"/>
          <a:ext cx="247176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1052640"/>
                    <a:ext cx="2471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6227640" y="2205000"/>
            <a:ext cx="71928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5280" y="4365720"/>
            <a:ext cx="8893440" cy="916920"/>
          </a:xfrm>
          <a:prstGeom prst="rect">
            <a:avLst/>
          </a:prstGeom>
          <a:solidFill>
            <a:srgbClr val="99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AX függvény=</a:t>
            </a: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MAXIMU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6281640"/>
            <a:ext cx="2952720" cy="576360"/>
          </a:xfrm>
          <a:prstGeom prst="rect">
            <a:avLst/>
          </a:prstGeom>
          <a:solidFill>
            <a:srgbClr val="99ff99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1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122400" y="1484280"/>
          <a:ext cx="8281800" cy="16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1484280"/>
                    <a:ext cx="8281800" cy="16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ecff"/>
                </a:solidFill>
                <a:latin typeface="Times New Roman"/>
              </a:rPr>
              <a:t>MAX függvény felépítése</a:t>
            </a:r>
            <a:endParaRPr b="1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700280"/>
            <a:ext cx="792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27480" y="3429000"/>
            <a:ext cx="788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 függvény mindig egyenlőségjellel (=) kezdődik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1700280"/>
            <a:ext cx="2448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358560" y="2600280"/>
            <a:ext cx="72072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27480" y="4076640"/>
            <a:ext cx="286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A függvény n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16200000">
            <a:off x="2232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08360" y="1628640"/>
            <a:ext cx="32400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10920" y="4724280"/>
            <a:ext cx="232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Nyit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16200000">
            <a:off x="395928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67280" y="1700280"/>
            <a:ext cx="345744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11280" y="5178600"/>
            <a:ext cx="82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függvény argumentumai egymástól kettősponttal elválasztv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258920" y="5157720"/>
            <a:ext cx="388944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4572000" y="4724280"/>
            <a:ext cx="50472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148360" y="4292640"/>
            <a:ext cx="374472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kijelölt cellatartom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5688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04000" y="5133960"/>
            <a:ext cx="158436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4000" y="1700280"/>
            <a:ext cx="360360" cy="934920"/>
          </a:xfrm>
          <a:prstGeom prst="rect">
            <a:avLst/>
          </a:prstGeom>
          <a:solidFill>
            <a:srgbClr val="00cc00">
              <a:alpha val="45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96360" y="1700280"/>
            <a:ext cx="39672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0560" y="6237360"/>
            <a:ext cx="2239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Zár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41200" y="560520"/>
            <a:ext cx="8723520" cy="65404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995640" y="3349800"/>
            <a:ext cx="144000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268360" y="1341360"/>
            <a:ext cx="662472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979640" y="4437000"/>
            <a:ext cx="5616720" cy="1008360"/>
          </a:xfrm>
          <a:prstGeom prst="rect">
            <a:avLst/>
          </a:prstGeom>
          <a:solidFill>
            <a:srgbClr val="99ff99">
              <a:alpha val="42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MIN függvén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5445000"/>
            <a:ext cx="9144000" cy="1434600"/>
          </a:xfrm>
          <a:prstGeom prst="rect">
            <a:avLst/>
          </a:prstGeom>
          <a:solidFill>
            <a:srgbClr val="ffffcc">
              <a:alpha val="78000"/>
            </a:srgbClr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Megadja a kijelölt cellatartomány legkisebb értéké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5796000" y="1052640"/>
          <a:ext cx="247176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1052640"/>
                    <a:ext cx="2471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227640" y="2492280"/>
            <a:ext cx="71928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14200" y="4437000"/>
            <a:ext cx="8713800" cy="916920"/>
          </a:xfrm>
          <a:prstGeom prst="rect">
            <a:avLst/>
          </a:prstGeom>
          <a:solidFill>
            <a:srgbClr val="99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MIN függvény=MINIMUM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6281640"/>
            <a:ext cx="2449800" cy="576360"/>
          </a:xfrm>
          <a:prstGeom prst="rect">
            <a:avLst/>
          </a:prstGeom>
          <a:solidFill>
            <a:srgbClr val="99ff99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9" name=""/>
          <p:cNvGraphicFramePr/>
          <p:nvPr/>
        </p:nvGraphicFramePr>
        <p:xfrm>
          <a:off x="0" y="1341360"/>
          <a:ext cx="889308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41360"/>
                    <a:ext cx="889308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MIN függvény felépítése</a:t>
            </a:r>
            <a:endParaRPr b="1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4000" y="1700280"/>
            <a:ext cx="792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7480" y="3429000"/>
            <a:ext cx="788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 függvény mindig egyenlőségjellel (=) kezdődik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87280" y="1700280"/>
            <a:ext cx="237672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358560" y="2600280"/>
            <a:ext cx="72072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27480" y="4076640"/>
            <a:ext cx="286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A függvény n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232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35280" y="1628640"/>
            <a:ext cx="39708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0920" y="4724280"/>
            <a:ext cx="232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Nyit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16200000">
            <a:off x="395928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67280" y="1700280"/>
            <a:ext cx="388944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1280" y="5178600"/>
            <a:ext cx="82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függvény argumentumai egymástól kettősponttal elválasztv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258920" y="5157720"/>
            <a:ext cx="388944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4572000" y="4724280"/>
            <a:ext cx="50472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148360" y="4292640"/>
            <a:ext cx="374472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kijelölt cellatartom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rot="16200000">
            <a:off x="5688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804000" y="5133960"/>
            <a:ext cx="158436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91080" y="1700280"/>
            <a:ext cx="360360" cy="934920"/>
          </a:xfrm>
          <a:prstGeom prst="rect">
            <a:avLst/>
          </a:prstGeom>
          <a:solidFill>
            <a:srgbClr val="00cc00">
              <a:alpha val="45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956720" y="1700280"/>
            <a:ext cx="39672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0560" y="6237360"/>
            <a:ext cx="2239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Zár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0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Times New Roman"/>
              </a:rPr>
              <a:t>A függvények segítségével egyszerű számításokat végezhetünk.</a:t>
            </a: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3213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379440"/>
            <a:ext cx="8713800" cy="61484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73760" y="3860640"/>
            <a:ext cx="1685880" cy="216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844720" y="1341360"/>
            <a:ext cx="604836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341360"/>
            <a:ext cx="1657080" cy="287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979640" y="4365720"/>
            <a:ext cx="5616720" cy="1008360"/>
          </a:xfrm>
          <a:prstGeom prst="rect">
            <a:avLst/>
          </a:prstGeom>
          <a:solidFill>
            <a:srgbClr val="99ff99">
              <a:alpha val="42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Times New Roman"/>
              </a:rPr>
              <a:t>SZUM függvén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5445000"/>
            <a:ext cx="9144000" cy="1434600"/>
          </a:xfrm>
          <a:prstGeom prst="rect">
            <a:avLst/>
          </a:prstGeom>
          <a:solidFill>
            <a:srgbClr val="ffffcc">
              <a:alpha val="78000"/>
            </a:srgbClr>
          </a:solidFill>
          <a:ln w="381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99"/>
                </a:solidFill>
                <a:latin typeface="Times New Roman"/>
              </a:rPr>
              <a:t>Összeadja a kijelölt cellatartomány összes értéké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4437000"/>
            <a:ext cx="8713800" cy="916920"/>
          </a:xfrm>
          <a:prstGeom prst="rect">
            <a:avLst/>
          </a:prstGeom>
          <a:solidFill>
            <a:srgbClr val="99ff99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SZUM függvény=ÖSSZEG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796000" y="1052640"/>
          <a:ext cx="2471760" cy="2189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96000" y="1052640"/>
                    <a:ext cx="2471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6216480" y="1339920"/>
            <a:ext cx="71928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felépítése</a:t>
            </a:r>
            <a:endParaRPr b="1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228600" y="1557360"/>
          <a:ext cx="868680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57360"/>
                    <a:ext cx="8686800" cy="1492200"/>
                  </a:xfrm>
                  <a:prstGeom prst="rect">
                    <a:avLst/>
                  </a:prstGeom>
                  <a:ln w="76320">
                    <a:solidFill>
                      <a:srgbClr val="0066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95280" y="1700280"/>
            <a:ext cx="792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27480" y="3429000"/>
            <a:ext cx="78890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A függvény mindig egyenlőségjellel (=) kezdődik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1700280"/>
            <a:ext cx="288144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58560" y="2600280"/>
            <a:ext cx="720720" cy="936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27480" y="4076640"/>
            <a:ext cx="2864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A függvény ne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2232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75280" y="1700280"/>
            <a:ext cx="39672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0920" y="4724280"/>
            <a:ext cx="232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 Nyit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6200000">
            <a:off x="395928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1700280"/>
            <a:ext cx="3456000" cy="9367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5178600"/>
            <a:ext cx="820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függvény argumentumai egymástól kettősponttal elválasztv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58920" y="5157720"/>
            <a:ext cx="388944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572000" y="4724280"/>
            <a:ext cx="504720" cy="3603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148360" y="4292640"/>
            <a:ext cx="374472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kijelölt cellatartomá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5688000" y="2600280"/>
            <a:ext cx="720720" cy="936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99"/>
                </a:solidFill>
                <a:latin typeface="Times New Roman"/>
              </a:rPr>
              <a:t>4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804000" y="5133960"/>
            <a:ext cx="1584360" cy="576360"/>
          </a:xfrm>
          <a:prstGeom prst="rect">
            <a:avLst/>
          </a:prstGeom>
          <a:solidFill>
            <a:srgbClr val="ffffcc">
              <a:alpha val="4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0" y="1700280"/>
            <a:ext cx="360360" cy="934920"/>
          </a:xfrm>
          <a:prstGeom prst="rect">
            <a:avLst/>
          </a:prstGeom>
          <a:solidFill>
            <a:srgbClr val="00cc00">
              <a:alpha val="45000"/>
            </a:srgbClr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028000" y="1700280"/>
            <a:ext cx="396720" cy="129708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10560" y="6237360"/>
            <a:ext cx="22395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Záró zárój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 a cellára kattintok, amelyikben látni szeretném az eredmény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620720" y="2603520"/>
            <a:ext cx="5904000" cy="42544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172040" y="3517920"/>
            <a:ext cx="936360" cy="214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79680" y="3087720"/>
            <a:ext cx="936360" cy="214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20720" y="2603520"/>
            <a:ext cx="5904000" cy="425448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választom az eszközsoron a megfelelő függvény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4572000" y="2943360"/>
          <a:ext cx="620640" cy="59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2943360"/>
                    <a:ext cx="620640" cy="59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924280"/>
            <a:ext cx="287280" cy="2174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716360" y="3214800"/>
            <a:ext cx="505080" cy="2142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6659640" y="2133720"/>
          <a:ext cx="1008000" cy="971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59640" y="2133720"/>
                    <a:ext cx="1008000" cy="97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672240" y="2133720"/>
          <a:ext cx="2471760" cy="21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672240" y="2133720"/>
                    <a:ext cx="247176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7093080" y="2421000"/>
            <a:ext cx="718920" cy="360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1619280" y="2637000"/>
            <a:ext cx="5905440" cy="42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403280" y="2225520"/>
            <a:ext cx="6481800" cy="4632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jelölöm a cellatartomány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843280" y="4221000"/>
            <a:ext cx="1008000" cy="2087640"/>
            <a:chOff x="2843280" y="4221000"/>
            <a:chExt cx="1008000" cy="2087640"/>
          </a:xfrm>
        </p:grpSpPr>
        <p:sp>
          <p:nvSpPr>
            <p:cNvPr id="182" name=""/>
            <p:cNvSpPr/>
            <p:nvPr/>
          </p:nvSpPr>
          <p:spPr>
            <a:xfrm>
              <a:off x="2859120" y="4221000"/>
              <a:ext cx="0" cy="208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827520" y="4221000"/>
              <a:ext cx="0" cy="20876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43280" y="4221000"/>
              <a:ext cx="100800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1332000" y="2131920"/>
            <a:ext cx="6553080" cy="472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04800"/>
            <a:ext cx="86868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Times New Roman"/>
              </a:rPr>
              <a:t>Entert nyom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92360" y="2151000"/>
            <a:ext cx="6276960" cy="4707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 flipH="1" flipV="1">
            <a:off x="5219640" y="4365720"/>
            <a:ext cx="216000" cy="3585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4797360"/>
            <a:ext cx="410364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Times New Roman"/>
              </a:rPr>
              <a:t>megjelenik az eredmén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lenőrzöm a szerkesztőlécen, hogy helyes-e a függvény beír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ecff"/>
                </a:solidFill>
                <a:latin typeface="Times New Roman"/>
              </a:rPr>
              <a:t>Függvény beszúrása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419120" y="2130480"/>
            <a:ext cx="6305760" cy="472752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2987640" y="2708280"/>
            <a:ext cx="4753080" cy="1443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04:45:31Z</dcterms:created>
  <dc:creator>Varga Zsuzsa</dc:creator>
  <dc:description/>
  <dc:language>en-US</dc:language>
  <cp:lastModifiedBy>Informatika</cp:lastModifiedBy>
  <dcterms:modified xsi:type="dcterms:W3CDTF">2007-09-12T07:20:28Z</dcterms:modified>
  <cp:revision>23</cp:revision>
  <dc:subject/>
  <dc:title>FÜGGVÉNYEK (Excel)</dc:title>
</cp:coreProperties>
</file>