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A5FD-161C-48D3-A6D0-FBA3C2FC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BAEF-33B3-4B2F-B290-C6A5A466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5004-9249-4CB0-89E4-3C9C20A8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AA18-BEEC-451B-8EFB-FF717743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2D51-B87F-4495-8B9E-C1324EAF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B4D5-0F9B-4D88-A56D-4121027F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1249-5453-42FA-80DB-BB936BA2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C708-5650-44E2-9815-2D6FDF65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C116-F42C-49F2-A244-6B4F0C02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FDA0-E96C-444F-B158-9925CF51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C22A-F74D-4452-A94D-CDEA8124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3F30-0414-48CB-B5DA-D278B7EF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6BE1-3026-44F4-B9C6-EF5E9F1A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8E21-BBFE-464E-8B50-F49EC88F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D669-B351-4581-89D6-C585AA84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5A30-9D0C-42D6-BCCB-8A8CCC98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7CEA-0BC6-4492-BD62-C9E3CC94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5C7C-7AC8-465E-9898-C8782B91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0242-58B3-4792-B39D-1D5B8535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7771-08F1-420E-919D-4D068248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E132-72C2-4223-BA2C-E987D22A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0590-B638-4ADD-8DF1-90D38215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A9B7-EB34-4662-8508-3BB8D595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D901-D908-494F-B990-C31F8A93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17a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3855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A4CC-0D2F-4AF2-8589-2D7BEDB64C8E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17a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3855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2B88-BCB0-4923-9A1D-04F4336ADD73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ff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Times New Roman"/>
              </a:rPr>
              <a:t>FÜGGVÉNYEK</a:t>
            </a:r>
            <a:br>
              <a:rPr sz="4800"/>
            </a:b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(Excel)</a:t>
            </a:r>
            <a:endParaRPr b="1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58840" y="565200"/>
            <a:ext cx="8629560" cy="6470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995640" y="3349800"/>
            <a:ext cx="144000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68360" y="1341360"/>
            <a:ext cx="662472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79640" y="4365720"/>
            <a:ext cx="5616720" cy="1008360"/>
          </a:xfrm>
          <a:prstGeom prst="rect">
            <a:avLst/>
          </a:prstGeom>
          <a:solidFill>
            <a:srgbClr val="99ff99">
              <a:alpha val="42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MAX függvén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388120"/>
            <a:ext cx="9144000" cy="1434600"/>
          </a:xfrm>
          <a:prstGeom prst="rect">
            <a:avLst/>
          </a:prstGeom>
          <a:solidFill>
            <a:srgbClr val="ffffcc">
              <a:alpha val="78000"/>
            </a:srgbClr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Times New Roman"/>
              </a:rPr>
              <a:t>Megadja a kijelölt cellatartomány legnagyobb értéké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796000" y="1052640"/>
          <a:ext cx="2471760" cy="218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6000" y="1052640"/>
                    <a:ext cx="247176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6227640" y="2205000"/>
            <a:ext cx="71928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5280" y="4365720"/>
            <a:ext cx="8893440" cy="916920"/>
          </a:xfrm>
          <a:prstGeom prst="rect">
            <a:avLst/>
          </a:prstGeom>
          <a:solidFill>
            <a:srgbClr val="99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MAX függvény=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AXIMU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95640" y="6281640"/>
            <a:ext cx="2952720" cy="576360"/>
          </a:xfrm>
          <a:prstGeom prst="rect">
            <a:avLst/>
          </a:prstGeom>
          <a:solidFill>
            <a:srgbClr val="99ff99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122400" y="1484280"/>
          <a:ext cx="8281800" cy="16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1484280"/>
                    <a:ext cx="828180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MAX függvény felépítése</a:t>
            </a:r>
            <a:endParaRPr b="1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1700280"/>
            <a:ext cx="79200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7480" y="3429000"/>
            <a:ext cx="7889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A függvény mindig egyenlőségjellel (=) kezdődik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1700280"/>
            <a:ext cx="244800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358560" y="2600280"/>
            <a:ext cx="720720" cy="93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27480" y="4076640"/>
            <a:ext cx="2864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A függvény n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223200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08360" y="1628640"/>
            <a:ext cx="324000" cy="129708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0920" y="4724280"/>
            <a:ext cx="2320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Nyitó zárój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395928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67280" y="1700280"/>
            <a:ext cx="345744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5178600"/>
            <a:ext cx="820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függvény argumentumai egymástól kettősponttal elválasztv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8920" y="5157720"/>
            <a:ext cx="3889440" cy="576360"/>
          </a:xfrm>
          <a:prstGeom prst="rect">
            <a:avLst/>
          </a:prstGeom>
          <a:solidFill>
            <a:srgbClr val="ffffcc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2000" y="4724280"/>
            <a:ext cx="50472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48360" y="4292640"/>
            <a:ext cx="3744720" cy="520560"/>
          </a:xfrm>
          <a:prstGeom prst="rect">
            <a:avLst/>
          </a:prstGeom>
          <a:solidFill>
            <a:srgbClr val="99ff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kijelölt cellatartomá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568800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04000" y="5133960"/>
            <a:ext cx="1584360" cy="576360"/>
          </a:xfrm>
          <a:prstGeom prst="rect">
            <a:avLst/>
          </a:prstGeom>
          <a:solidFill>
            <a:srgbClr val="ffffcc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64000" y="1700280"/>
            <a:ext cx="360360" cy="934920"/>
          </a:xfrm>
          <a:prstGeom prst="rect">
            <a:avLst/>
          </a:prstGeom>
          <a:solidFill>
            <a:srgbClr val="00cc00">
              <a:alpha val="45000"/>
            </a:srgbClr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96360" y="1700280"/>
            <a:ext cx="396720" cy="129708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0560" y="6237360"/>
            <a:ext cx="2239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Záró zárój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41200" y="560520"/>
            <a:ext cx="8723520" cy="65404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995640" y="3349800"/>
            <a:ext cx="144000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68360" y="1341360"/>
            <a:ext cx="662472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79640" y="4437000"/>
            <a:ext cx="5616720" cy="1008360"/>
          </a:xfrm>
          <a:prstGeom prst="rect">
            <a:avLst/>
          </a:prstGeom>
          <a:solidFill>
            <a:srgbClr val="99ff99">
              <a:alpha val="42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MIN függvén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5445000"/>
            <a:ext cx="9144000" cy="1434600"/>
          </a:xfrm>
          <a:prstGeom prst="rect">
            <a:avLst/>
          </a:prstGeom>
          <a:solidFill>
            <a:srgbClr val="ffffcc">
              <a:alpha val="78000"/>
            </a:srgbClr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Times New Roman"/>
              </a:rPr>
              <a:t>Megadja a kijelölt cellatartomány legkisebb értéké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796000" y="1052640"/>
          <a:ext cx="2471760" cy="218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6000" y="1052640"/>
                    <a:ext cx="247176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6227640" y="2492280"/>
            <a:ext cx="71928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4200" y="4437000"/>
            <a:ext cx="8713800" cy="916920"/>
          </a:xfrm>
          <a:prstGeom prst="rect">
            <a:avLst/>
          </a:prstGeom>
          <a:solidFill>
            <a:srgbClr val="99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MIN függvény=MINIMU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11280" y="6281640"/>
            <a:ext cx="2449800" cy="576360"/>
          </a:xfrm>
          <a:prstGeom prst="rect">
            <a:avLst/>
          </a:prstGeom>
          <a:solidFill>
            <a:srgbClr val="99ff99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0" y="1341360"/>
          <a:ext cx="8893080" cy="18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889308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MIN függvény felépítése</a:t>
            </a:r>
            <a:endParaRPr b="1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1700280"/>
            <a:ext cx="79200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7480" y="3429000"/>
            <a:ext cx="7889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A függvény mindig egyenlőségjellel (=) kezdődik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87280" y="1700280"/>
            <a:ext cx="237672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358560" y="2600280"/>
            <a:ext cx="720720" cy="93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7480" y="4076640"/>
            <a:ext cx="2864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A függvény n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223200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35280" y="1628640"/>
            <a:ext cx="397080" cy="129708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0920" y="4724280"/>
            <a:ext cx="2320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Nyitó zárój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395928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67280" y="1700280"/>
            <a:ext cx="388944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5178600"/>
            <a:ext cx="820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függvény argumentumai egymástól kettősponttal elválasztv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58920" y="5157720"/>
            <a:ext cx="3889440" cy="576360"/>
          </a:xfrm>
          <a:prstGeom prst="rect">
            <a:avLst/>
          </a:prstGeom>
          <a:solidFill>
            <a:srgbClr val="ffffcc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572000" y="4724280"/>
            <a:ext cx="50472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8360" y="4292640"/>
            <a:ext cx="3744720" cy="520560"/>
          </a:xfrm>
          <a:prstGeom prst="rect">
            <a:avLst/>
          </a:prstGeom>
          <a:solidFill>
            <a:srgbClr val="99ff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kijelölt cellatartomá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568800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04000" y="5133960"/>
            <a:ext cx="1584360" cy="576360"/>
          </a:xfrm>
          <a:prstGeom prst="rect">
            <a:avLst/>
          </a:prstGeom>
          <a:solidFill>
            <a:srgbClr val="ffffcc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91080" y="1700280"/>
            <a:ext cx="360360" cy="934920"/>
          </a:xfrm>
          <a:prstGeom prst="rect">
            <a:avLst/>
          </a:prstGeom>
          <a:solidFill>
            <a:srgbClr val="00cc00">
              <a:alpha val="45000"/>
            </a:srgbClr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56720" y="1700280"/>
            <a:ext cx="396720" cy="129708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0560" y="6237360"/>
            <a:ext cx="2239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Záró zárój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A függvények segítségével egyszerű számításokat végezhetünk.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379440"/>
            <a:ext cx="8713800" cy="61484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73760" y="3860640"/>
            <a:ext cx="1685880" cy="21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44720" y="1341360"/>
            <a:ext cx="604836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1341360"/>
            <a:ext cx="165708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79640" y="4365720"/>
            <a:ext cx="5616720" cy="1008360"/>
          </a:xfrm>
          <a:prstGeom prst="rect">
            <a:avLst/>
          </a:prstGeom>
          <a:solidFill>
            <a:srgbClr val="99ff99">
              <a:alpha val="42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SZUM függvén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445000"/>
            <a:ext cx="9144000" cy="1434600"/>
          </a:xfrm>
          <a:prstGeom prst="rect">
            <a:avLst/>
          </a:prstGeom>
          <a:solidFill>
            <a:srgbClr val="ffffcc">
              <a:alpha val="78000"/>
            </a:srgbClr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Times New Roman"/>
              </a:rPr>
              <a:t>Összeadja a kijelölt cellatartomány összes értéké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4437000"/>
            <a:ext cx="8713800" cy="916920"/>
          </a:xfrm>
          <a:prstGeom prst="rect">
            <a:avLst/>
          </a:prstGeom>
          <a:solidFill>
            <a:srgbClr val="99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ZUM függvény=ÖSSZE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796000" y="1052640"/>
          <a:ext cx="2471760" cy="218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6000" y="1052640"/>
                    <a:ext cx="247176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6216480" y="1339920"/>
            <a:ext cx="71928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Függvény felépítése</a:t>
            </a:r>
            <a:endParaRPr b="1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28600" y="1557360"/>
          <a:ext cx="8686800" cy="14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57360"/>
                    <a:ext cx="8686800" cy="1492200"/>
                  </a:xfrm>
                  <a:prstGeom prst="rect">
                    <a:avLst/>
                  </a:prstGeom>
                  <a:ln w="76320">
                    <a:solidFill>
                      <a:srgbClr val="0066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395280" y="1700280"/>
            <a:ext cx="79200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7480" y="3429000"/>
            <a:ext cx="7889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A függvény mindig egyenlőségjellel (=) kezdődik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1700280"/>
            <a:ext cx="288144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358560" y="2600280"/>
            <a:ext cx="720720" cy="93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27480" y="4076640"/>
            <a:ext cx="2864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A függvény n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23200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5280" y="1700280"/>
            <a:ext cx="396720" cy="129708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0920" y="4724280"/>
            <a:ext cx="2320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Nyitó zárój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395928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700280"/>
            <a:ext cx="345600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5178600"/>
            <a:ext cx="820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függvény argumentumai egymástól kettősponttal elválasztv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58920" y="5157720"/>
            <a:ext cx="3889440" cy="576360"/>
          </a:xfrm>
          <a:prstGeom prst="rect">
            <a:avLst/>
          </a:prstGeom>
          <a:solidFill>
            <a:srgbClr val="ffffcc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572000" y="4724280"/>
            <a:ext cx="50472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48360" y="4292640"/>
            <a:ext cx="3744720" cy="520560"/>
          </a:xfrm>
          <a:prstGeom prst="rect">
            <a:avLst/>
          </a:prstGeom>
          <a:solidFill>
            <a:srgbClr val="99ff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kijelölt cellatartomá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568800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04000" y="5133960"/>
            <a:ext cx="1584360" cy="576360"/>
          </a:xfrm>
          <a:prstGeom prst="rect">
            <a:avLst/>
          </a:prstGeom>
          <a:solidFill>
            <a:srgbClr val="ffffcc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0" y="1700280"/>
            <a:ext cx="360360" cy="934920"/>
          </a:xfrm>
          <a:prstGeom prst="rect">
            <a:avLst/>
          </a:prstGeom>
          <a:solidFill>
            <a:srgbClr val="00cc00">
              <a:alpha val="45000"/>
            </a:srgbClr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028000" y="1700280"/>
            <a:ext cx="396720" cy="129708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0560" y="6237360"/>
            <a:ext cx="2239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Záró zárój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ra a cellára kattintok, amelyikben látni szeretném az eredmény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Függvény beszúrás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20720" y="2603520"/>
            <a:ext cx="5904000" cy="42544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172040" y="3517920"/>
            <a:ext cx="936360" cy="214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79680" y="3087720"/>
            <a:ext cx="936360" cy="214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20720" y="2603520"/>
            <a:ext cx="5904000" cy="42544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választom az eszközsoron a megfelelő függvény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0" y="2943360"/>
          <a:ext cx="620640" cy="59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2943360"/>
                    <a:ext cx="62064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Függvény beszúrás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924280"/>
            <a:ext cx="287280" cy="217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6360" y="3214800"/>
            <a:ext cx="505080" cy="214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659640" y="2133720"/>
          <a:ext cx="1008000" cy="97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59640" y="2133720"/>
                    <a:ext cx="100800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6672240" y="2133720"/>
          <a:ext cx="2471760" cy="2189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72240" y="2133720"/>
                    <a:ext cx="247176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7093080" y="2421000"/>
            <a:ext cx="71892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1619280" y="2637000"/>
            <a:ext cx="590544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403280" y="2225520"/>
            <a:ext cx="6481800" cy="4632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jelölöm a cellatartomány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Függvény beszúrás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843280" y="4221000"/>
            <a:ext cx="1008000" cy="2087640"/>
            <a:chOff x="2843280" y="4221000"/>
            <a:chExt cx="1008000" cy="2087640"/>
          </a:xfrm>
        </p:grpSpPr>
        <p:sp>
          <p:nvSpPr>
            <p:cNvPr id="182" name=""/>
            <p:cNvSpPr/>
            <p:nvPr/>
          </p:nvSpPr>
          <p:spPr>
            <a:xfrm>
              <a:off x="2859120" y="4221000"/>
              <a:ext cx="0" cy="208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27520" y="4221000"/>
              <a:ext cx="0" cy="208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43280" y="4221000"/>
              <a:ext cx="1008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332000" y="2131920"/>
            <a:ext cx="655308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Entert nyom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Függvény beszúrás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692360" y="2151000"/>
            <a:ext cx="6276960" cy="4707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flipH="1" flipV="1">
            <a:off x="5219640" y="4365720"/>
            <a:ext cx="216000" cy="358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4797360"/>
            <a:ext cx="4103640" cy="520560"/>
          </a:xfrm>
          <a:prstGeom prst="rect">
            <a:avLst/>
          </a:prstGeom>
          <a:solidFill>
            <a:srgbClr val="99ff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megjelenik az eredmé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lenőrzöm a szerkesztőlécen, hogy helyes-e a függvény beír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Függvény beszúrás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419120" y="2130480"/>
            <a:ext cx="6305760" cy="4727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987640" y="2708280"/>
            <a:ext cx="4753080" cy="144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04:45:31Z</dcterms:created>
  <dc:creator>Varga Zsuzsa</dc:creator>
  <dc:description/>
  <dc:language>en-US</dc:language>
  <cp:lastModifiedBy>Informatika</cp:lastModifiedBy>
  <dcterms:modified xsi:type="dcterms:W3CDTF">2007-09-12T07:20:28Z</dcterms:modified>
  <cp:revision>23</cp:revision>
  <dc:subject/>
  <dc:title>FÜGGVÉNYEK (Excel)</dc:title>
</cp:coreProperties>
</file>